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7.wmf" ContentType="image/x-wmf"/>
  <Override PartName="/ppt/media/image12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DB7B-21A1-4245-A503-4C28A078F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144A-D6CD-4E96-A436-4D117C59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1AEC12-844C-4DB2-850C-CE097EEC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F69D2B-928E-4A13-B63A-8113F1BC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E8E9EA-580E-4695-B8D6-480D698D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ECCD8C-2288-441C-B488-618FB749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F7F26-CA00-414F-96DB-33C136DB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41F02E-E9A6-4322-9F13-3884D734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7CB8E1-74DB-4D12-819F-C4394707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34F626-555E-4FB4-8692-ACC4ECFCF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EDBFBD-3682-4BDA-A8E5-72F912722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B5D2-9EFA-409A-AE4E-C3496560B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509C-4A4F-4414-AED3-15B7C1ECE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914B-362C-4EC9-854B-3470707FD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8F77-3DD7-4FEB-B9DB-C1A9ACA8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9366-B432-43AD-84EE-528AE12B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74648-99FA-4832-932E-EF723D05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D6FCD-23E3-4110-85BA-399F210D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4AD9-F7AD-4E35-B843-341844D0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AE5D-9034-40F3-B1CC-B8D44C69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3A88-5D2C-4DD6-9700-8E2AE663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A15F-A335-490F-A838-D4500DE2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D9E5-39AC-446B-9D71-436E9F8D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B7AC-6062-41C8-A524-4F1D2ADA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C419-088D-462F-8F79-F05FCBC38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B33C-CB2A-4B32-AC1F-BE43B4A35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E8604-3FA6-4FA3-9421-3F26425F6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A31AD-10E9-4A1F-B731-A884F0E9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55177-411E-4DA9-83E3-32E8B4A0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5BD98-88FE-4A36-A732-C173DB9E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CCEFC-11D0-4B3C-BF77-8A8E71AA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9D8D-25B6-4ED6-9BC2-CB81ADF4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817DA-52C7-4FB4-A643-9BB52F4C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BFB25-03AC-4738-8A84-B838B0B8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C2F8D-3B0D-432D-9BD3-D55E5043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8DDF0-2437-4B5B-9ED7-0DAAE591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DF05E-58D0-4617-B951-2927B410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B40D1-E76F-4B7C-A0C6-5FE85F4C2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E46F2-A38C-4ADB-825E-B0F4D8BE7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86887-1462-4EA0-BC1A-6FBC9C991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5C635-E213-4ACE-BACD-39D2EF25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A70EF-18B4-4ACD-AAF7-FABE6C01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EA71-CCA5-4D17-A705-26429119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04694-DA2E-4E72-BEFA-F68AC921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82132-286B-4D47-93AF-0897E3DB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0051D-BD28-4CBE-899E-BE8D45CA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092B7-B40A-4E4C-AFD7-9E0BC77A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3EE5B-7A59-473B-BCA5-E053B8D0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8C104-DD79-4878-95B8-93A7E26D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347CA-1477-4A03-BF40-4E8E7FFA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02BE1-4367-47A3-B507-D0A7178EA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8FBD3-7A5B-4ADB-9E43-34373F7E7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5FA4A-1590-460F-9223-FCB49CA8D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EF4B-1788-4133-BEDB-8E218A29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5652C-1ACD-4757-A8F5-94766F02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44400-2CB0-4F43-96A0-F410C79B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F5C78-2432-4A55-A10B-29194453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87FC4-A5D5-44B3-A42F-0102A176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9059D-F9E5-485E-AD91-03EFF944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B12FC-805F-4200-B176-9B9AFB4F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844F9-580C-46EB-94A1-351F9829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3E1F1-A2AF-45DA-BE04-C9A4D6FE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2B26A-E73D-47D8-A451-7406C86E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BD641-AD76-4AE4-959D-5E16AE72E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8A29-2F3D-499B-8AE4-41E5908B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1B6FE-1F4C-48B1-890B-C48793017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8A1D8-72AB-4499-A36D-3751C82AC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1670B-FE74-4F86-9045-A27D1BF1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DD398-0881-4B40-A3D4-F47D5C5F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3A635-A282-4422-8B98-90D88BFA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CCFF9-0B00-45F6-AEB6-9CBC79CC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A753C-BF42-4528-BB91-DAE54594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336B4-3C16-45C1-A117-7E7405D8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549F9-C50A-4E95-978C-CA4CF239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B958F-B4C2-4572-8EDF-B0C4F272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AFCF-A005-4D8E-B5ED-A6C560F6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375A0-8240-4A1D-824B-CF63A25B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F714C-C1FF-4738-9621-69B3A6AF0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D4296-5CFA-4376-9C93-A6AE05B95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A57FB-3C23-4ECB-9E44-D1204A07A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73DDC-3C97-4C97-AA7B-719D523B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0FBFB-3D78-4437-9326-F3D95FCF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48FEA-9D6D-452A-A87D-9D047240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A2437-B511-462E-998B-C7F5E9AE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AB3D9-DCD8-4B30-BC41-5861F7A7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D35BB-CFC2-4231-B7D9-5F35E152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8476-044C-4E9B-A05C-CBE3324C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80B4F-DA55-4E97-B905-41806284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57BB5-D007-4E9B-A1AC-0D95CB60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59350-AA7C-4E4D-8975-950D05F7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83C16-F75E-4D43-8528-B01C0CA10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D887B-93B1-4E9E-8491-41C990636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ADC2D-1090-4EA2-87E7-E223697FF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DE9F1-018C-4670-9EE1-8062D39F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05588-CE8B-479F-B4F9-707F9D7D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BD81D-621D-4866-BAA0-038647CF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BDE17-2965-4D73-9169-1B0146BD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7C53-E2FE-489A-AB1B-3B523AB4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493C9-8B69-4939-BAAF-377B2DD5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3E4D9-F3DB-4D78-B7DC-EC12D028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5F109-0D62-46F2-863B-D5261E45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174FA-9B31-4FEA-834F-571CE3E6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B293E-BDFA-477A-97CF-1F6061BC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1382C-FB3A-4B0D-886B-23CD2E7DE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3856D-0663-4383-A023-341F67FE6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1BA228-7BB9-4097-ABA6-A17D05A46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5B6D91-41F0-44EA-86D2-5974334A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33A27-101F-401C-89E6-440EDF45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26C4-E557-4391-B0B8-361529F8AE67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FCF9-B318-416E-A9F1-4993A5903FE9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48EF-7A79-42C4-9E22-5EC7125C85F1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1691-294F-4579-8B4F-E6E5AB9370D3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E25A-DB00-4028-9E2E-AC06CB4AB28B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4DD7-6C84-483E-850B-9D4A63912701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5647-1FC3-4F4F-99B2-431DA117B43D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CF78-11A4-4642-9766-75F4C6EAC4AF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CBE2-35E4-42C5-88E1-98C350D44568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3"/>
          <p:cNvSpPr/>
          <p:nvPr/>
        </p:nvSpPr>
        <p:spPr>
          <a:xfrm>
            <a:off x="394344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4"/>
          <p:cNvSpPr/>
          <p:nvPr/>
        </p:nvSpPr>
        <p:spPr>
          <a:xfrm>
            <a:off x="457200" y="3886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Arial Narrow"/>
              </a:rPr>
              <a:t>Toit: 082 852 64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Picture 4" descr="Description: GEF-newlogo-large"/>
          <p:cNvPicPr/>
          <p:nvPr/>
        </p:nvPicPr>
        <p:blipFill>
          <a:blip r:embed="rId1"/>
          <a:stretch/>
        </p:blipFill>
        <p:spPr>
          <a:xfrm>
            <a:off x="2666880" y="380880"/>
            <a:ext cx="5639040" cy="21337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5" descr=""/>
          <p:cNvPicPr/>
          <p:nvPr/>
        </p:nvPicPr>
        <p:blipFill>
          <a:blip r:embed="rId2"/>
          <a:stretch/>
        </p:blipFill>
        <p:spPr>
          <a:xfrm>
            <a:off x="304920" y="2514600"/>
            <a:ext cx="5638680" cy="2585880"/>
          </a:xfrm>
          <a:prstGeom prst="rect">
            <a:avLst/>
          </a:prstGeom>
          <a:ln w="0">
            <a:noFill/>
          </a:ln>
        </p:spPr>
      </p:pic>
      <p:sp>
        <p:nvSpPr>
          <p:cNvPr id="403" name="TextBox 6"/>
          <p:cNvSpPr/>
          <p:nvPr/>
        </p:nvSpPr>
        <p:spPr>
          <a:xfrm>
            <a:off x="685800" y="548640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Showcard Gothic"/>
              </a:rPr>
              <a:t>Maputo,  mozamb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Showcard Gothic"/>
              </a:rPr>
              <a:t>July 31</a:t>
            </a:r>
            <a:r>
              <a:rPr b="0" lang="en-ZA" sz="3200" spc="-1" strike="noStrike" baseline="30000">
                <a:solidFill>
                  <a:srgbClr val="000000"/>
                </a:solidFill>
                <a:latin typeface="Showcard Gothic"/>
              </a:rPr>
              <a:t>st</a:t>
            </a:r>
            <a:r>
              <a:rPr b="0" lang="en-ZA" sz="3200" spc="-1" strike="noStrike">
                <a:solidFill>
                  <a:srgbClr val="000000"/>
                </a:solidFill>
                <a:latin typeface="Showcard Gothic"/>
              </a:rPr>
              <a:t> to August 2</a:t>
            </a:r>
            <a:r>
              <a:rPr b="0" lang="en-ZA" sz="3200" spc="-1" strike="noStrike" baseline="30000">
                <a:solidFill>
                  <a:srgbClr val="000000"/>
                </a:solidFill>
                <a:latin typeface="Showcard Gothic"/>
              </a:rPr>
              <a:t>nd</a:t>
            </a:r>
            <a:r>
              <a:rPr b="0" lang="en-ZA" sz="3200" spc="-1" strike="noStrike">
                <a:solidFill>
                  <a:srgbClr val="000000"/>
                </a:solidFill>
                <a:latin typeface="Showcard Gothic"/>
              </a:rPr>
              <a:t> 20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4e3b30"/>
                </a:solidFill>
                <a:latin typeface="Franklin Gothic Book"/>
              </a:rPr>
              <a:t>CSO’s need to get involved at government planning level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68520" indent="-257040"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4e3b30"/>
                </a:solidFill>
                <a:latin typeface="Franklin Gothic Book"/>
              </a:rPr>
              <a:t>Become a small part of a big programme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4e3b30"/>
                </a:solidFill>
                <a:latin typeface="Franklin Gothic Book"/>
              </a:rPr>
              <a:t>Get to know your regional focal point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68520" indent="-257040"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4e3b30"/>
                </a:solidFill>
                <a:latin typeface="Franklin Gothic Book"/>
              </a:rPr>
              <a:t>Plan and network at a local level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4e3b30"/>
                </a:solidFill>
                <a:latin typeface="Franklin Gothic Book"/>
              </a:rPr>
              <a:t>GEF provides incremental costs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68520" indent="-257040"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4e3b30"/>
                </a:solidFill>
                <a:latin typeface="Franklin Gothic Book"/>
              </a:rPr>
              <a:t>Use as a leverage methodology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4e3b30"/>
                </a:solidFill>
                <a:latin typeface="Franklin Gothic Book"/>
              </a:rPr>
              <a:t>Starting point is the strategy of GEF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4e3b30"/>
                </a:solidFill>
                <a:latin typeface="Franklin Gothic Book"/>
              </a:rPr>
              <a:t>GEF does not provide for building of capacity of CSO, its mandate is global impact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4e3b30"/>
                </a:solidFill>
                <a:latin typeface="Franklin Gothic Book"/>
              </a:rPr>
              <a:t>CSO’s must mobilise other donors to leverage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2" name="Object 2"/>
          <p:cNvGraphicFramePr/>
          <p:nvPr/>
        </p:nvGraphicFramePr>
        <p:xfrm>
          <a:off x="0" y="0"/>
          <a:ext cx="89154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54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133200" y="19080"/>
            <a:ext cx="8864640" cy="19620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4e3b30"/>
                </a:solidFill>
                <a:latin typeface="Arial"/>
                <a:ea typeface="Arial"/>
              </a:rPr>
              <a:t>Projects at local level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4e3b30"/>
                </a:solidFill>
                <a:latin typeface="Arial"/>
                <a:ea typeface="Arial"/>
              </a:rPr>
              <a:t>Country level impact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4e3b30"/>
                </a:solidFill>
                <a:latin typeface="Arial"/>
                <a:ea typeface="Arial"/>
              </a:rPr>
              <a:t>GEF impact with CSO’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4e3b30"/>
                </a:solidFill>
                <a:latin typeface="Arial"/>
                <a:ea typeface="Arial"/>
              </a:rPr>
              <a:t>Benefits of community participatio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4e3b30"/>
                </a:solidFill>
                <a:latin typeface="Arial"/>
                <a:ea typeface="Arial"/>
              </a:rPr>
              <a:t>GEF Secretariat: Advice and way forward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07" name="Content Placeholder 3" descr="cid:image001.png@01CD6E67.E076C7A0"/>
          <p:cNvPicPr/>
          <p:nvPr/>
        </p:nvPicPr>
        <p:blipFill>
          <a:blip r:embed="rId2"/>
          <a:stretch/>
        </p:blipFill>
        <p:spPr>
          <a:xfrm>
            <a:off x="609480" y="175248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5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300" spc="-1" strike="noStrike">
                <a:solidFill>
                  <a:srgbClr val="4e3b30"/>
                </a:solidFill>
                <a:latin typeface="Franklin Gothic Book"/>
              </a:rPr>
              <a:t>Possess specific skills, experience, and knowledge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5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300" spc="-1" strike="noStrike">
                <a:solidFill>
                  <a:srgbClr val="4e3b30"/>
                </a:solidFill>
                <a:latin typeface="Franklin Gothic Book"/>
              </a:rPr>
              <a:t>Lobbying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5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300" spc="-1" strike="noStrike">
                <a:solidFill>
                  <a:srgbClr val="4e3b30"/>
                </a:solidFill>
                <a:latin typeface="Franklin Gothic Book"/>
              </a:rPr>
              <a:t>Bring numerous stakeholders together - create linkages among communities, CSOs and governments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5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300" spc="-1" strike="noStrike">
                <a:solidFill>
                  <a:srgbClr val="4e3b30"/>
                </a:solidFill>
                <a:latin typeface="Franklin Gothic Book"/>
              </a:rPr>
              <a:t>Encourage cooperation and improve understanding and dialogue between local and national levels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5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300" spc="-1" strike="noStrike">
                <a:solidFill>
                  <a:srgbClr val="4e3b30"/>
                </a:solidFill>
                <a:latin typeface="Franklin Gothic Book"/>
              </a:rPr>
              <a:t>Enhance country ownership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5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300" spc="-1" strike="noStrike">
                <a:solidFill>
                  <a:srgbClr val="4e3b30"/>
                </a:solidFill>
                <a:latin typeface="Franklin Gothic Book"/>
              </a:rPr>
              <a:t>Ensure that the needs of affected communities are adequately met 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5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300" spc="-1" strike="noStrike">
                <a:solidFill>
                  <a:srgbClr val="4e3b30"/>
                </a:solidFill>
                <a:latin typeface="Franklin Gothic Book"/>
              </a:rPr>
              <a:t>Improve project design, implementation and evaluation, and 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5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300" spc="-1" strike="noStrike">
                <a:solidFill>
                  <a:srgbClr val="4e3b30"/>
                </a:solidFill>
                <a:latin typeface="Franklin Gothic Book"/>
              </a:rPr>
              <a:t>Help to strengthen the capacities of civil society groups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5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300" spc="-1" strike="noStrike">
                <a:solidFill>
                  <a:srgbClr val="4e3b30"/>
                </a:solidFill>
                <a:latin typeface="Franklin Gothic Book"/>
              </a:rPr>
              <a:t>Mobilises and leverages additional resources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5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500" spc="-1" strike="noStrike">
                <a:solidFill>
                  <a:srgbClr val="4e3b30"/>
                </a:solidFill>
                <a:latin typeface="Franklin Gothic Book"/>
              </a:rPr>
              <a:t>‘</a:t>
            </a:r>
            <a:r>
              <a:rPr b="0" lang="en-ZA" sz="2500" spc="-1" strike="noStrike">
                <a:solidFill>
                  <a:srgbClr val="4e3b30"/>
                </a:solidFill>
                <a:latin typeface="Franklin Gothic Book"/>
              </a:rPr>
              <a:t>Competition’ between NGOs for funding, knowledge kept secret rather than sharing resources (Gigabite Gardeners, Project Rhino KZN = effective pooling resources)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500" spc="-1" strike="noStrike">
                <a:solidFill>
                  <a:srgbClr val="4e3b30"/>
                </a:solidFill>
                <a:latin typeface="Franklin Gothic Book"/>
              </a:rPr>
              <a:t>Fear – funders want to see results and success, of government or other powerful operators, also fear of losing culture to West, process vs projects, timelines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500" spc="-1" strike="noStrike">
                <a:solidFill>
                  <a:srgbClr val="4e3b30"/>
                </a:solidFill>
                <a:latin typeface="Franklin Gothic Book"/>
              </a:rPr>
              <a:t>Cultural and language barriers – as a result of living in an ever shrinking world,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500" spc="-1" strike="noStrike">
                <a:solidFill>
                  <a:srgbClr val="4e3b30"/>
                </a:solidFill>
                <a:latin typeface="Franklin Gothic Book"/>
              </a:rPr>
              <a:t>Multiple participants (stakeholders) may mean each hold different goals, values or interests (the scientist vs the </a:t>
            </a:r>
            <a:r>
              <a:rPr b="0" i="1" lang="en-ZA" sz="2500" spc="-1" strike="noStrike">
                <a:solidFill>
                  <a:srgbClr val="4e3b30"/>
                </a:solidFill>
                <a:latin typeface="Franklin Gothic Book"/>
              </a:rPr>
              <a:t>induna</a:t>
            </a:r>
            <a:r>
              <a:rPr b="0" lang="en-ZA" sz="2500" spc="-1" strike="noStrike">
                <a:solidFill>
                  <a:srgbClr val="4e3b30"/>
                </a:solidFill>
                <a:latin typeface="Franklin Gothic Book"/>
              </a:rPr>
              <a:t>)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4e3b30"/>
                </a:solidFill>
                <a:latin typeface="Franklin Gothic Book"/>
              </a:rPr>
              <a:t>Can influence policy by demonstrating success at local level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4e3b30"/>
                </a:solidFill>
                <a:latin typeface="Franklin Gothic Book"/>
              </a:rPr>
              <a:t>CSO’s can build models &amp; sell them to government, private sector and donor communities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4e3b30"/>
                </a:solidFill>
                <a:latin typeface="Franklin Gothic Book"/>
              </a:rPr>
              <a:t>Document interventions to develop best practice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4e3b30"/>
                </a:solidFill>
                <a:latin typeface="Franklin Gothic Book"/>
              </a:rPr>
              <a:t>Evaluation is difficult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35480" indent="-28296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4e3b30"/>
                </a:solidFill>
                <a:latin typeface="Franklin Gothic Book"/>
              </a:rPr>
              <a:t>Timing and communications issues, esp internet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4e3b30"/>
                </a:solidFill>
                <a:latin typeface="Franklin Gothic Book"/>
              </a:rPr>
              <a:t>Focal Points for local CSO’s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35480" indent="-28296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4e3b30"/>
                </a:solidFill>
                <a:latin typeface="Franklin Gothic Book"/>
              </a:rPr>
              <a:t>Build the network and submit 1 large proposal with location specific projects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22860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4e3b30"/>
                </a:solidFill>
                <a:latin typeface="Franklin Gothic Book"/>
              </a:rPr>
              <a:t>Better communication </a:t>
            </a:r>
            <a:r>
              <a:rPr b="0" lang="en-ZA" sz="2000" spc="-1" strike="noStrike">
                <a:solidFill>
                  <a:srgbClr val="4e3b30"/>
                </a:solidFill>
                <a:latin typeface="Franklin Gothic Book"/>
              </a:rPr>
              <a:t>between local civil society groups - lead to increased awareness of other work done in the area and possible partnerships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4e3b30"/>
                </a:solidFill>
                <a:latin typeface="Franklin Gothic Book"/>
              </a:rPr>
              <a:t>Conduct </a:t>
            </a:r>
            <a:r>
              <a:rPr b="0" lang="en-ZA" sz="2400" spc="-1" strike="noStrike">
                <a:solidFill>
                  <a:srgbClr val="4e3b30"/>
                </a:solidFill>
                <a:latin typeface="Franklin Gothic Book"/>
              </a:rPr>
              <a:t>research</a:t>
            </a:r>
            <a:r>
              <a:rPr b="0" lang="en-ZA" sz="2000" spc="-1" strike="noStrike">
                <a:solidFill>
                  <a:srgbClr val="4e3b30"/>
                </a:solidFill>
                <a:latin typeface="Franklin Gothic Book"/>
              </a:rPr>
              <a:t> on focal area strategies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4e3b30"/>
                </a:solidFill>
                <a:latin typeface="Franklin Gothic Book"/>
              </a:rPr>
              <a:t>Public participation </a:t>
            </a:r>
            <a:r>
              <a:rPr b="0" lang="en-ZA" sz="2000" spc="-1" strike="noStrike">
                <a:solidFill>
                  <a:srgbClr val="4e3b30"/>
                </a:solidFill>
                <a:latin typeface="Franklin Gothic Book"/>
              </a:rPr>
              <a:t>– inform public of pressing issues relating to focal area strategies to encourage interested and affected parties to get involved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4e3b30"/>
                </a:solidFill>
                <a:latin typeface="Franklin Gothic Book"/>
              </a:rPr>
              <a:t>Use of cutting-edge </a:t>
            </a:r>
            <a:r>
              <a:rPr b="0" lang="en-ZA" sz="2400" spc="-1" strike="noStrike">
                <a:solidFill>
                  <a:srgbClr val="4e3b30"/>
                </a:solidFill>
                <a:latin typeface="Franklin Gothic Book"/>
              </a:rPr>
              <a:t>technologies (and appropriate)</a:t>
            </a:r>
            <a:r>
              <a:rPr b="0" lang="en-ZA" sz="20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4e3b30"/>
                </a:solidFill>
                <a:latin typeface="Franklin Gothic Book"/>
              </a:rPr>
              <a:t>Engaging more with </a:t>
            </a:r>
            <a:r>
              <a:rPr b="0" lang="en-ZA" sz="2400" spc="-1" strike="noStrike">
                <a:solidFill>
                  <a:srgbClr val="4e3b30"/>
                </a:solidFill>
                <a:latin typeface="Franklin Gothic Book"/>
              </a:rPr>
              <a:t>local communities</a:t>
            </a:r>
            <a:r>
              <a:rPr b="0" lang="en-ZA" sz="2000" spc="-1" strike="noStrike">
                <a:solidFill>
                  <a:srgbClr val="4e3b30"/>
                </a:solidFill>
                <a:latin typeface="Franklin Gothic Book"/>
              </a:rPr>
              <a:t> and implementing </a:t>
            </a:r>
            <a:r>
              <a:rPr b="0" lang="en-ZA" sz="2400" spc="-1" strike="noStrike">
                <a:solidFill>
                  <a:srgbClr val="4e3b30"/>
                </a:solidFill>
                <a:latin typeface="Franklin Gothic Book"/>
              </a:rPr>
              <a:t>grassroots development projects</a:t>
            </a:r>
            <a:r>
              <a:rPr b="0" lang="en-ZA" sz="20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4e3b30"/>
                </a:solidFill>
                <a:latin typeface="Franklin Gothic Book"/>
              </a:rPr>
              <a:t>Not only focus on short-term change but </a:t>
            </a:r>
            <a:r>
              <a:rPr b="0" lang="en-ZA" sz="2400" spc="-1" strike="noStrike">
                <a:solidFill>
                  <a:srgbClr val="4e3b30"/>
                </a:solidFill>
                <a:latin typeface="Franklin Gothic Book"/>
              </a:rPr>
              <a:t>sustainable long-term change</a:t>
            </a:r>
            <a:r>
              <a:rPr b="0" lang="en-ZA" sz="20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4e3b30"/>
                </a:solidFill>
                <a:latin typeface="Franklin Gothic Book"/>
              </a:rPr>
              <a:t>Trust and commitment</a:t>
            </a:r>
            <a:r>
              <a:rPr b="0" lang="en-ZA" sz="2000" spc="-1" strike="noStrike">
                <a:solidFill>
                  <a:srgbClr val="4e3b30"/>
                </a:solidFill>
                <a:latin typeface="Franklin Gothic Book"/>
              </a:rPr>
              <a:t> are very important – recognise and accept differences, negotiation and realisation that this can be an asset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4e3b30"/>
                </a:solidFill>
                <a:latin typeface="Franklin Gothic Book"/>
              </a:rPr>
              <a:t>Partnerships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0720" indent="-27720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4e3b30"/>
                </a:solidFill>
                <a:latin typeface="Franklin Gothic Book"/>
              </a:rPr>
              <a:t>Brings CSO’s together in programme oversight and decision making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4e3b30"/>
                </a:solidFill>
                <a:latin typeface="Franklin Gothic Book"/>
              </a:rPr>
              <a:t>Think Global and act Local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0720" indent="-27720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4e3b30"/>
                </a:solidFill>
                <a:latin typeface="Franklin Gothic Book"/>
              </a:rPr>
              <a:t>Small grants but together make a big impact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4e3b30"/>
                </a:solidFill>
                <a:latin typeface="Franklin Gothic Book"/>
              </a:rPr>
              <a:t>Platform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0720" indent="-27720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4e3b30"/>
                </a:solidFill>
                <a:latin typeface="Franklin Gothic Book"/>
              </a:rPr>
              <a:t>Fast &amp; effective mechanism to access $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4e3b30"/>
                </a:solidFill>
                <a:latin typeface="Franklin Gothic Book"/>
              </a:rPr>
              <a:t>Capacity building and funding assistance development inherent in funding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4e3b30"/>
                </a:solidFill>
                <a:latin typeface="Franklin Gothic Book"/>
              </a:rPr>
              <a:t>Ability to mobilise resources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4e3b30"/>
                </a:solidFill>
                <a:latin typeface="Franklin Gothic Book"/>
              </a:rPr>
              <a:t>Ownership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4e3b30"/>
                </a:solidFill>
                <a:latin typeface="Franklin Gothic Book"/>
              </a:rPr>
              <a:t>Accountabilit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4e3b30"/>
                </a:solidFill>
                <a:latin typeface="Franklin Gothic Book"/>
              </a:rPr>
              <a:t>Collective responsibilit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4e3b30"/>
                </a:solidFill>
                <a:latin typeface="Franklin Gothic Book"/>
              </a:rPr>
              <a:t>Social harmon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4e3b30"/>
                </a:solidFill>
                <a:latin typeface="Franklin Gothic Book"/>
              </a:rPr>
              <a:t>Self relianc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4e3b30"/>
                </a:solidFill>
                <a:latin typeface="Franklin Gothic Book"/>
              </a:rPr>
              <a:t>Leadership development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4e3b30"/>
                </a:solidFill>
                <a:latin typeface="Franklin Gothic Book"/>
              </a:rPr>
              <a:t>Ethics and value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11:15:53Z</dcterms:created>
  <dc:creator>Rondi Dinkele</dc:creator>
  <dc:description/>
  <dc:language>en-US</dc:language>
  <cp:lastModifiedBy>wb258540</cp:lastModifiedBy>
  <dcterms:modified xsi:type="dcterms:W3CDTF">2012-08-02T15:29:31Z</dcterms:modified>
  <cp:revision>84</cp:revision>
  <dc:subject/>
  <dc:title>PowerPoint Presentation</dc:title>
</cp:coreProperties>
</file>