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988-D9E7-487A-B4A8-B9734E21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490-3A7B-4C58-9669-0508EC67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BE5CA-BAD4-4769-989C-562D0262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ED566-CB39-41F1-812D-13FC99DF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31C87-2FFD-4635-A3FF-BAD7907A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72A3D-385B-46B4-8928-279C28C2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E1C47-1C0F-410C-BB1C-840336F9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2510F-12F4-4DD1-90B1-8902D5FC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E1171-A28E-4317-8A61-BD0A8656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2F832-C5B2-4F6B-9BEA-31810B6E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89149-892D-4571-9E15-07972F21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102-AC3E-4974-A54D-2F6BA67B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041D-44B3-47B6-A83D-0A2C14B2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A982-85FA-4EDD-8435-42010FA8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5322-99F3-4421-810E-81852B60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8AC0-B23A-4AD0-8867-22D35658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FC9C-B81A-4439-ADF6-3FC0F2A4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C0AB-42A1-4A1A-9655-3EEF1B16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028B-63AF-4E98-8F53-A9FC1910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7AD4-54BD-44B7-BEB4-2D2B550F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C72-4459-41AD-BB8E-FD0FD7F6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42AB-CDBA-4AA9-B93B-725060ED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7626-7124-4C13-84A4-5BFC7559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4D5C-AF12-44EE-8F9E-232BFE13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E047-99A4-4F89-A090-8F6DF4F2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2CCB-49BD-4C56-80C4-BB817836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BFA41-8468-4426-8ADB-05EBE22B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A9757-4535-4D0C-9DC2-594D87C7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4C63-8F51-4E20-8403-E5871F5B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73DBA-6769-470C-9E44-6B7772D7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6B4DF-ED69-4B34-B063-EDA8FEEC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567-0A4C-4301-A5B7-5797A49E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B8ED7-12BE-4529-843E-7153D888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FDCC0-B540-49E9-926C-36E78450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D014C-408F-4082-9355-EF681534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C6EB8-98DF-4D6E-9E4B-690DD484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42BB1-8E37-459C-AFA5-4D1E0AEE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4223B-5847-422F-8912-95719954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5F90E-26E7-4686-87DF-764929BC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FF739-19AC-42DC-A5CB-2961B0CA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7C72D-034C-4209-8019-F277E9DD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9C8F0-2055-4268-B32A-AE17AA00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F75-E2A9-4074-B95D-E4DF7B9F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8CEB0-3C74-4A52-A711-F40E79A6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ED094-BB93-4607-ABAD-30AFD5CB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F9577-B07E-4E63-8E52-272091F0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FA9EA-F9EF-428C-9FDC-C87D5847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2BE0A-5B12-441C-844E-F5EA58FB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43B9F-0D67-49E5-98C1-CA3F099B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48B03-C467-4FCE-8BAC-28279C81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AF044-820B-43DF-A8C3-0B5FF21F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6E969-222E-4738-81CC-879CCB8B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C9BA3-0DEF-4BA1-880D-0F3D4684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05C2-9DAB-49CA-A285-18C24FD7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D0C16-55A5-48AD-B62A-0601BB94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2A473-1BF3-428F-B8BF-9A0A234F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9CD1B-3FAA-4AC2-8F56-CAB51027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B6B48-D26D-477B-B4EB-A4AB71B3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43095-CE5D-4B01-A658-03A308E2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E972A-32FC-476E-A7C3-65B3010F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63891-6B71-49DB-8CA7-79C659E1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F193E-9BBF-4FD5-BCE5-7DFA9ED8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C6437-1469-4C0A-B927-D2560462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B6D38-ACF5-4CE5-AC17-6C8B4365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258-2DE5-4F1F-8BE2-959485D1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FC006-2CA6-43A6-A21F-6CB1DA13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202A1-EB24-44A3-B543-E6D8A303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8F4BC-D06C-4F1F-8C38-6D712D73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32183-B191-4F7B-A346-71DD2F1B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09B90-AAAF-421B-A3C6-603B2E0B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F262A-40BC-4E3C-BC53-EAA01F40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1AE70-A108-4670-A8C1-1281F3C8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3F0E2-9F34-4248-8771-B12D355D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5CA2E-72AD-44F7-BB55-AD739061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0D97F-02A0-4850-A6D7-E77F8F85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2C2-7477-4A65-A258-5B09521C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133A0-C949-44C6-AE23-3B94330E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FFE36-BECD-41D5-961C-B9924B47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834AB-7C92-4E11-9E0C-F14779A6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DE60F-B7F7-426E-A233-361A01E5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4FD5A-E0B4-4130-8637-D7876CE5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5E264-A982-417A-90D6-A3000559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00BA4-3435-4A33-8E56-1781C101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D1555-FBDD-4B1D-9F9F-FC224640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8E75A-B16F-4E3E-A5F9-2C85383E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FFD51-665A-491A-A23B-77C18FFA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DFD-C769-4FEF-A6BE-43D8F556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061CF-FE97-4C3C-8D2F-1FA1C4B1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11473-33C0-47FB-93CC-5E89D193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79CCE-4EF1-40A9-AC99-02920FD9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3C220-02B8-4C51-A896-A6F30215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8325C-9C65-41C7-85B3-9F349E08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5E325-D7BF-4712-B0B2-32D60A0D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D7836-BF9E-4C69-A77D-F2C8A3D0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8262A-EC35-4231-AA47-00492F49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8A24A-B8A4-451C-9D9B-315035F2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AFA86-3F71-466C-A810-877CC491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1B4-0C32-4501-B346-E9B578CB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1402A-65ED-4049-93CE-90BF54C2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6B184-55F6-479E-BCD3-757FE04A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0600B-CCD9-4002-9BAF-FBF88EC5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7645E-1834-4A70-9F00-5BFF1063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F52C4-FCD0-4520-A092-EE264E76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ADDA1-9E5C-4A6C-991D-76D81E91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53EC4-D97D-467B-A0B3-A4DEA31A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16F75-04A8-4535-87DA-6DA8EAA3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B8349-12ED-47D1-945E-D95B2C81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81359-E65E-4EAB-8A01-4CA6D8B5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6443-8F9D-4C7A-84AE-B35F35DC55D2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88DE-76C2-4DF5-8ADC-ED158A200CE5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8866-3DC5-4B39-9572-4CFC4533D24C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82CF-2510-4BE1-A318-7FEC742D59F7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16BC-CA62-4CF7-BBCD-332B50E99BB7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2A9E-D7D4-4FA6-B427-C9804BFF506E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20EE-E732-4334-B4BA-D18E38EF76AE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3431-A748-4F82-B0E7-2C1CFA095EFB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505A-A338-4A16-91D3-740DE474B519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394344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457200" y="3886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 Narrow"/>
              </a:rPr>
              <a:t>Toit: 082 852 64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4" descr="Description: GEF-newlogo-large"/>
          <p:cNvPicPr/>
          <p:nvPr/>
        </p:nvPicPr>
        <p:blipFill>
          <a:blip r:embed="rId1"/>
          <a:stretch/>
        </p:blipFill>
        <p:spPr>
          <a:xfrm>
            <a:off x="2666880" y="380880"/>
            <a:ext cx="5639040" cy="2133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5638680" cy="2585880"/>
          </a:xfrm>
          <a:prstGeom prst="rect">
            <a:avLst/>
          </a:prstGeom>
          <a:ln w="0">
            <a:noFill/>
          </a:ln>
        </p:spPr>
      </p:pic>
      <p:sp>
        <p:nvSpPr>
          <p:cNvPr id="403" name="TextBox 6"/>
          <p:cNvSpPr/>
          <p:nvPr/>
        </p:nvSpPr>
        <p:spPr>
          <a:xfrm>
            <a:off x="685800" y="54864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Showcard Gothic"/>
              </a:rPr>
              <a:t>Maputo,  mozamb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Showcard Gothic"/>
              </a:rPr>
              <a:t>July 31</a:t>
            </a:r>
            <a:r>
              <a:rPr b="0" lang="en-ZA" sz="3200" spc="-1" strike="noStrike" baseline="30000">
                <a:solidFill>
                  <a:srgbClr val="000000"/>
                </a:solidFill>
                <a:latin typeface="Showcard Gothic"/>
              </a:rPr>
              <a:t>st</a:t>
            </a:r>
            <a:r>
              <a:rPr b="0" lang="en-ZA" sz="3200" spc="-1" strike="noStrike">
                <a:solidFill>
                  <a:srgbClr val="000000"/>
                </a:solidFill>
                <a:latin typeface="Showcard Gothic"/>
              </a:rPr>
              <a:t> to August 2</a:t>
            </a:r>
            <a:r>
              <a:rPr b="0" lang="en-ZA" sz="3200" spc="-1" strike="noStrike" baseline="30000">
                <a:solidFill>
                  <a:srgbClr val="000000"/>
                </a:solidFill>
                <a:latin typeface="Showcard Gothic"/>
              </a:rPr>
              <a:t>nd</a:t>
            </a:r>
            <a:r>
              <a:rPr b="0" lang="en-ZA" sz="3200" spc="-1" strike="noStrike">
                <a:solidFill>
                  <a:srgbClr val="000000"/>
                </a:solidFill>
                <a:latin typeface="Showcard Gothic"/>
              </a:rPr>
              <a:t>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CSO’s need to get involved at government planning level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8520" indent="-25704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Become a small part of a big programm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Get to know your regional focal point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8520" indent="-25704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Plan and network at a local level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GEF provides incremental costs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8520" indent="-25704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Use as a leverage methodology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Starting point is the strategy of GEF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GEF does not provide for building of capacity of CSO, its mandate is global impact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CSO’s must mobilise other donors to leverag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Object 2"/>
          <p:cNvGraphicFramePr/>
          <p:nvPr/>
        </p:nvGraphicFramePr>
        <p:xfrm>
          <a:off x="0" y="0"/>
          <a:ext cx="89154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133200" y="19080"/>
            <a:ext cx="8864640" cy="1962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Arial"/>
                <a:ea typeface="Arial"/>
              </a:rPr>
              <a:t>Projects at local leve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Arial"/>
                <a:ea typeface="Arial"/>
              </a:rPr>
              <a:t>Country level impac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Arial"/>
                <a:ea typeface="Arial"/>
              </a:rPr>
              <a:t>GEF impact with CSO’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Arial"/>
                <a:ea typeface="Arial"/>
              </a:rPr>
              <a:t>Benefits of community particip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Arial"/>
                <a:ea typeface="Arial"/>
              </a:rPr>
              <a:t>GEF Secretariat: Advice and way forwar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7" name="Content Placeholder 3" descr="cid:image001.png@01CD6E67.E076C7A0"/>
          <p:cNvPicPr/>
          <p:nvPr/>
        </p:nvPicPr>
        <p:blipFill>
          <a:blip r:embed="rId2"/>
          <a:stretch/>
        </p:blipFill>
        <p:spPr>
          <a:xfrm>
            <a:off x="609480" y="17524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Possess specific skills, experience, and knowledge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Lobbying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Bring numerous stakeholders together - create linkages among communities, CSOs and governments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Encourage cooperation and improve understanding and dialogue between local and national levels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Enhance country ownership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Ensure that the needs of affected communities are adequately met 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Improve project design, implementation and evaluation, and 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Help to strengthen the capacities of civil society groups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Mobilises and leverages additional resources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‘</a:t>
            </a: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Competition’ between NGOs for funding, knowledge kept secret rather than sharing resources (Gigabite Gardeners, Project Rhino KZN = effective pooling resources)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Fear – funders want to see results and success, of government or other powerful operators, also fear of losing culture to West, process vs projects, timelines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Cultural and language barriers – as a result of living in an ever shrinking world,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Multiple participants (stakeholders) may mean each hold different goals, values or interests (the scientist vs the </a:t>
            </a:r>
            <a:r>
              <a:rPr b="0" i="1" lang="en-ZA" sz="2500" spc="-1" strike="noStrike">
                <a:solidFill>
                  <a:srgbClr val="4e3b30"/>
                </a:solidFill>
                <a:latin typeface="Franklin Gothic Book"/>
              </a:rPr>
              <a:t>induna</a:t>
            </a: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Can influence policy by demonstrating success at local level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CSO’s can build models &amp; sell them to government, private sector and donor communitie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Document interventions to develop best practice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Evaluation is difficult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Timing and communications issues, esp internet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Focal Points for local CSO’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Build the network and submit 1 large proposal with location specific project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22860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Better communication 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between local civil society groups - lead to increased awareness of other work done in the area and possible partnerships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Conduct </a:t>
            </a: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research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 on focal area strategies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Public participation 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– inform public of pressing issues relating to focal area strategies to encourage interested and affected parties to get involved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Use of cutting-edge </a:t>
            </a: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technologies (and appropriate)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Engaging more with </a:t>
            </a: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local communities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 and implementing </a:t>
            </a: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grassroots development projects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Not only focus on short-term change but </a:t>
            </a: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sustainable long-term change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Trust and commitment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 are very important – recognise and accept differences, negotiation and realisation that this can be an asset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Partnership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Brings CSO’s together in programme oversight and decision making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Think Global and act Local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Small grants but together make a big impact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Platform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Fast &amp; effective mechanism to access $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Capacity building and funding assistance development inherent in funding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Ability to mobilise resource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4e3b30"/>
                </a:solidFill>
                <a:latin typeface="Franklin Gothic Book"/>
              </a:rPr>
              <a:t>Ownership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4e3b30"/>
                </a:solidFill>
                <a:latin typeface="Franklin Gothic Book"/>
              </a:rPr>
              <a:t>Accountabil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4e3b30"/>
                </a:solidFill>
                <a:latin typeface="Franklin Gothic Book"/>
              </a:rPr>
              <a:t>Collective responsibil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4e3b30"/>
                </a:solidFill>
                <a:latin typeface="Franklin Gothic Book"/>
              </a:rPr>
              <a:t>Social harmon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4e3b30"/>
                </a:solidFill>
                <a:latin typeface="Franklin Gothic Book"/>
              </a:rPr>
              <a:t>Self relia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Franklin Gothic Book"/>
              </a:rPr>
              <a:t>Leadership developme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Franklin Gothic Book"/>
              </a:rPr>
              <a:t>Ethics and valu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1:15:53Z</dcterms:created>
  <dc:creator>Rondi Dinkele</dc:creator>
  <dc:description/>
  <dc:language>en-US</dc:language>
  <cp:lastModifiedBy>wb258540</cp:lastModifiedBy>
  <dcterms:modified xsi:type="dcterms:W3CDTF">2012-08-02T15:29:31Z</dcterms:modified>
  <cp:revision>84</cp:revision>
  <dc:subject/>
  <dc:title>PowerPoint Presentation</dc:title>
</cp:coreProperties>
</file>