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67F-2BC0-4D43-9E5C-5FF0D035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273-AB52-4DA2-AEEA-A827003E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284F3-9953-4F24-BC7F-81CDDD8B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89D85-3B9B-4B8D-BF33-ACEFBC93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77B86-EFBE-41AF-9A75-9E09BE2A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E592D-D023-4C5C-8303-DD169E1D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2648D-39E0-4624-82D6-A1E0C449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4EC5E-741C-4451-B604-DB7048FB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4AFB6-3F26-4A71-A055-0BDF4933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0966B-CE84-45BB-BE6C-D2B62E8C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9BC3C-7112-45BB-8966-92F26369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BDB-4F0A-4DBC-A8A1-754B62E5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424-8966-4606-976A-4BB86251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295B-AF0C-424E-8512-F9AFC111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220B-98D7-4A63-B9A1-B72F24F4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AEC6-4920-46D4-AE33-E670DDFA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BB5A-2D0D-4E7A-99DA-CBE587E9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1095-7FAD-4048-BD17-B0E1E621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DC02-4E8E-4A8B-978B-9A2F4F30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273A-BC99-4A9C-B77D-9FDDD712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788-E425-4B31-995A-B19B6839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1C74-4385-47B2-9FF8-3F5BA686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D352-30DB-4A56-B1F3-4F37988B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1B9B-2AB9-4227-A07D-57B47B6F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5734-F99E-4562-848F-F49CA6A8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016A-44A9-457D-B4DB-6EDC4A95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903A0-96D3-44F7-977C-014D05E9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3FF4C-E01E-480A-B57C-69B635CF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92D9-06F5-4958-9283-3F2A8FD7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78AC-48D0-41D6-B6A7-EC3DA65F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284F-8429-4B3B-9C48-F96B8490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4C4-1D03-404B-965E-A5046F9B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1889-848B-4F32-9419-A5ADEDBA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5BD7E-EB54-4709-B912-D63AAFC1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6821-068A-4759-A38D-69072C59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6197-FCAB-4EB0-B0EF-0916DE96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5420-5E02-4F77-9936-70C50D06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45CD3-E3FF-4CBD-975B-165D15FD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ED7B2-2763-4E0F-A32E-3DF7AB84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B262A-3B2B-43E3-AF16-7D95025E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26BF9-82BE-404D-905C-BA1553E1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62C5-0C3A-4F29-B9BD-4E039261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BF0-56D1-42D1-A34C-9AE0134C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71B3-E32E-4F2B-86AE-2C6BE890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84E61-88E5-4495-AB66-9A9782BA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D7D51-7E47-4794-B151-88BA9F0B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5F81A-9B0B-40AD-A1C0-5005189A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E24F1-9F5E-4A3B-8ACA-91648660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ECE9-45E3-4B4B-BBA6-6D8B29EB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E3518-EAAD-449E-886F-87BD04F7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C273C-148A-4592-97B2-B37134AA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3B588-F45C-4CAB-A816-2F68A030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9EF42-3DD1-4771-8F27-29808D8E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ADE-A81C-4B5D-96B8-6A8E385C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E341A-1B87-43F9-AA01-B7B5769D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EE008-F8C2-4727-B0D7-CD2F5D0B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5F4F4-30A9-4C12-A8E2-0A5AED9F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55E7A-A7EC-42C1-A406-EC88280C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AB621-D0E6-4465-9AB9-6F3D9305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44680-44DE-4DCE-8349-7B19250E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20CCF-F773-406E-84C7-F10622B2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BFFAF-9967-429D-91D8-E44CDF2F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DFC15-B1BA-4E5D-9A64-DA3AC85E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F7B90-25C1-48D2-A39A-2789A890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B15-C665-4A65-B57F-B909352B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7DACD-FEA2-4705-87E3-66887C66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43404-9B7D-4A7F-9B1C-72AE1B89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F5930-DC12-4383-AC58-0ACCB04F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A1533-5B67-4B32-9F97-9E6D7B30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52977-9578-47FD-8B2F-E734FC9F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7F42F-8F64-43ED-99A4-9FBAD304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BEF4D-93E0-4A16-8C37-6CC70903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9C298-806C-4D72-9C40-314CE11A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8731F-B861-46B9-9E8F-081B7C14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87738-9190-45B5-BC99-8B6B8369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4F9-8B99-4612-ABEA-1D1D65FE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C77B9-FA92-45DE-B9D3-A7CAE2C2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C3A8E-B443-4703-8D30-5C75D890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1AD4F-10A9-4099-9E66-7B67DAAA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CAB18-7E8C-4730-959B-33EE8EB5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9CA33-BFCE-4197-9447-F42525A1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06B8F-6EB6-451D-940E-2418B596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9AA97-CB27-40DC-B068-E339D3B9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70881-B631-472A-A0C4-1880C954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B9100-AA2D-43AE-8694-5E66B114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64258-B1E7-4558-A237-1777799C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6E7-0D0E-4DC9-8A49-2B67D16A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0C281-6D92-41BC-BE0E-9899AB76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F6E64-D66E-45E1-A88D-20F7C6C5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39B8D-93C0-49E8-A957-0EB57002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4231E-7FEE-40AE-B4DF-0FDF3717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EE76A-0721-4FBA-BD5A-5AFE0A39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E0345-FE9D-450E-9FCB-5A7A9E30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1849C-9559-438C-8D2A-C37E08E2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3DDAD-FF67-4094-8BE3-54BB82C4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3706C-EA10-4C29-850E-07777C44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2073D-2A86-4ED1-8AD8-18412E95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D07-3EBE-42A4-8336-43CC2B32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9CED9-9B7A-49BF-924A-D1FC9FBB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6B176-E4A1-434F-979F-007683AA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BF033-DC55-4465-A4B2-96B9BCD1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BA2EE-73E7-4E51-8E3A-B171F1C6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8ED4A-2FF1-4342-A9D2-5168E056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CE5A4-994E-4EFC-BF91-FDBA56D9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8B52B-9F91-4BE0-B6B9-4F98001A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6476A-DF31-4E00-B2FF-A78D04AE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D3DAD-EF4B-4A58-BACB-173241D5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727B8-AC16-423E-A809-6C321340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FA94-5F2C-43FE-BB50-7AE717720FC2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5611-BC53-45FF-83BB-A3A5B654E41A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49F6-10AF-499A-AD8E-B35611717CB9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3CB7-AC4E-402F-8264-4870A94368DB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4547-90D8-4C97-A9F6-24318D0045C9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8EB2-FA09-4E0A-8386-1210F8F5732C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8614-11C0-4732-BBE8-42EB8C8F929B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8767-5CD2-4E8E-AE56-AB4EBE88BACC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C1F1-B1AE-4313-8AB7-D03526AA98BF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394344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457200" y="3886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 Narrow"/>
              </a:rPr>
              <a:t>Toit: 082 852 64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4" descr="Description: GEF-newlogo-large"/>
          <p:cNvPicPr/>
          <p:nvPr/>
        </p:nvPicPr>
        <p:blipFill>
          <a:blip r:embed="rId1"/>
          <a:stretch/>
        </p:blipFill>
        <p:spPr>
          <a:xfrm>
            <a:off x="2666880" y="380880"/>
            <a:ext cx="5639040" cy="2133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5638680" cy="2585880"/>
          </a:xfrm>
          <a:prstGeom prst="rect">
            <a:avLst/>
          </a:prstGeom>
          <a:ln w="0">
            <a:noFill/>
          </a:ln>
        </p:spPr>
      </p:pic>
      <p:sp>
        <p:nvSpPr>
          <p:cNvPr id="403" name="TextBox 6"/>
          <p:cNvSpPr/>
          <p:nvPr/>
        </p:nvSpPr>
        <p:spPr>
          <a:xfrm>
            <a:off x="685800" y="54864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Showcard Gothic"/>
              </a:rPr>
              <a:t>Maputo,  mozamb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Showcard Gothic"/>
              </a:rPr>
              <a:t>July 31</a:t>
            </a:r>
            <a:r>
              <a:rPr b="0" lang="en-ZA" sz="3200" spc="-1" strike="noStrike" baseline="30000">
                <a:solidFill>
                  <a:srgbClr val="000000"/>
                </a:solidFill>
                <a:latin typeface="Showcard Gothic"/>
              </a:rPr>
              <a:t>st</a:t>
            </a:r>
            <a:r>
              <a:rPr b="0" lang="en-ZA" sz="3200" spc="-1" strike="noStrike">
                <a:solidFill>
                  <a:srgbClr val="000000"/>
                </a:solidFill>
                <a:latin typeface="Showcard Gothic"/>
              </a:rPr>
              <a:t> to August 2</a:t>
            </a:r>
            <a:r>
              <a:rPr b="0" lang="en-ZA" sz="3200" spc="-1" strike="noStrike" baseline="30000">
                <a:solidFill>
                  <a:srgbClr val="000000"/>
                </a:solidFill>
                <a:latin typeface="Showcard Gothic"/>
              </a:rPr>
              <a:t>nd</a:t>
            </a:r>
            <a:r>
              <a:rPr b="0" lang="en-ZA" sz="3200" spc="-1" strike="noStrike">
                <a:solidFill>
                  <a:srgbClr val="000000"/>
                </a:solidFill>
                <a:latin typeface="Showcard Gothic"/>
              </a:rPr>
              <a:t>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CSO’s need to get involved at government planning level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8520" indent="-25704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Become a small part of a big programm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Get to know your regional focal point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8520" indent="-25704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Plan and network at a local level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GEF provides incremental costs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8520" indent="-25704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Use as a leverage methodology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Starting point is the strategy of GEF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GEF does not provide for building of capacity of CSO, its mandate is global impact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CSO’s must mobilise other donors to leverag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Object 2"/>
          <p:cNvGraphicFramePr/>
          <p:nvPr/>
        </p:nvGraphicFramePr>
        <p:xfrm>
          <a:off x="0" y="0"/>
          <a:ext cx="89154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33200" y="19080"/>
            <a:ext cx="8864640" cy="1962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Projects at local leve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Country level impac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GEF impact with CSO’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Benefits of community particip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GEF Secretariat: Advice and way forwar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7" name="Content Placeholder 3" descr="cid:image001.png@01CD6E67.E076C7A0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Possess specific skills, experience, and knowledge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Lobbying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Bring numerous stakeholders together - create linkages among communities, CSOs and governments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Encourage cooperation and improve understanding and dialogue between local and national levels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Enhance country ownership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Ensure that the needs of affected communities are adequately met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Improve project design, implementation and evaluation, and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Help to strengthen the capacities of civil society groups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Mobilises and leverages additional resources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‘</a:t>
            </a: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Competition’ between NGOs for funding, knowledge kept secret rather than sharing resources (Gigabite Gardeners, Project Rhino KZN = effective pooling resources)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Fear – funders want to see results and success, of government or other powerful operators, also fear of losing culture to West, process vs projects, timeline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Cultural and language barriers – as a result of living in an ever shrinking world,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Multiple participants (stakeholders) may mean each hold different goals, values or interests (the scientist vs the </a:t>
            </a:r>
            <a:r>
              <a:rPr b="0" i="1" lang="en-ZA" sz="2500" spc="-1" strike="noStrike">
                <a:solidFill>
                  <a:srgbClr val="4e3b30"/>
                </a:solidFill>
                <a:latin typeface="Franklin Gothic Book"/>
              </a:rPr>
              <a:t>induna</a:t>
            </a: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Can influence policy by demonstrating success at local level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CSO’s can build models &amp; sell them to government, private sector and donor communitie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Document interventions to develop best practice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Evaluation is difficult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Timing and communications issues, esp internet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Focal Points for local CSO’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Build the network and submit 1 large proposal with location specific project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2286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Better communication 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between local civil society groups - lead to increased awareness of other work done in the area and possible partnership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Conduct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research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 on focal area strategie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Public participation 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– inform public of pressing issues relating to focal area strategies to encourage interested and affected parties to get involved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Use of cutting-edge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technologies (and appropriate)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Engaging more with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local communities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 and implementing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grassroots development projects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Not only focus on short-term change but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sustainable long-term change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Trust and commitment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 are very important – recognise and accept differences, negotiation and realisation that this can be an asset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Partnership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Brings CSO’s together in programme oversight and decision making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Think Global and act Local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Small grants but together make a big impact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Platform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Fast &amp; effective mechanism to access $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Capacity building and funding assistance development inherent in funding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Ability to mobilise resource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Ownership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Accountab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Collective responsib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Social harmon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Self reli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Franklin Gothic Book"/>
              </a:rPr>
              <a:t>Leadership developme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Franklin Gothic Book"/>
              </a:rPr>
              <a:t>Ethics and valu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1:15:53Z</dcterms:created>
  <dc:creator>Rondi Dinkele</dc:creator>
  <dc:description/>
  <dc:language>en-US</dc:language>
  <cp:lastModifiedBy>wb258540</cp:lastModifiedBy>
  <dcterms:modified xsi:type="dcterms:W3CDTF">2012-08-02T15:29:31Z</dcterms:modified>
  <cp:revision>84</cp:revision>
  <dc:subject/>
  <dc:title>PowerPoint Presentation</dc:title>
</cp:coreProperties>
</file>