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0C23-4BF9-404E-8126-53EB719055E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A00D-4AC5-422F-9CBA-149CBFE94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EB56-325B-49A0-A4F4-A810FADAA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0E32-656B-479C-BFFF-8BAE69937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CD12-7DCC-4E48-9982-FA7FE1895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15DC-CA74-4034-9710-52499359E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FF55-50B5-4E69-966C-4D3FE1002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7092-6A23-4B63-9D63-F4EE7D139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5E48-AD8E-43C8-BCFA-EFEBB13F05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4947-CC81-46F1-AF1B-ABAC33B45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BAA3-D55C-4EE6-89A4-EAAB79EFB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BAA3-4658-492D-B684-D1A1D24A7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0731-FD1B-45EE-A893-67E716D825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620B-BA67-48C1-B361-C3D185D76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927A-F6FD-4EAB-B68E-3C446DB1E1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8EB8-FCA8-40B8-8891-45D235298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5515-2822-4BD4-A975-6827D1D68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Managua, Nicaragu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March 3-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2-09T17:27:32Z</dcterms:modified>
  <cp:revision>376</cp:revision>
  <dc:subject/>
  <dc:title>Slide 1</dc:title>
</cp:coreProperties>
</file>