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818F-43E1-4FF9-8A86-A362A663BC9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473C-0316-40C6-814C-A102BD5CC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A463-9AC7-4B1B-8866-9FEF7A7FB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8418-7C44-47D7-ACCC-78962ED23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46C7-5C6C-44ED-B535-DD5560E4E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910E-5BDD-4FB6-8C56-D0C1EE3E2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7A62-C951-4B8F-B666-EEED6D015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9025-9669-42FD-A529-77CF485D8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2087-746B-479A-978D-4558D28EAEE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BA3B-E4B1-447A-AB8B-BD0E9BCB7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643B-8AF9-4B65-B6E8-1E606305C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4042-9103-47ED-BD8C-C058A0AA4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0A70-CA02-4D20-BD97-B97F826D36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57A7-B085-4B9A-A972-F971BBD20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90FF-CD11-47B6-95E6-760AB542A7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72B4-37F2-41BA-9D04-4FFFF53A4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40B5-F805-49DF-AA52-E514BF01A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Managua, Nicaragu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March 3-4,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1-21T13:27:28Z</cp:lastPrinted>
  <dcterms:modified xsi:type="dcterms:W3CDTF">2015-02-09T17:27:32Z</dcterms:modified>
  <cp:revision>376</cp:revision>
  <dc:subject/>
  <dc:title>Slide 1</dc:title>
</cp:coreProperties>
</file>