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53F5-66CF-49A1-99CE-05C689680D2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3AB6-C6E3-45C0-99D9-D27134188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9A59-8973-4653-8272-2B6349D3B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CE44-7A65-4505-8AD5-D45052413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7F45-2106-4445-AF13-71BD9CABE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E1D8-6CF7-4E11-9A04-1A901C80C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6394-265A-431D-B7BF-926E4DB2D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1E16-8C01-4D21-8E59-58D9A6EA9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3D76-F2DB-4AD6-8952-3AF39622D15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2989-99C2-4DA3-99F2-74AE9E075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C25C-F9F0-4A7C-94A2-043A7852B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5CFA-127E-4B68-81B0-413332EDD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5B44-412B-4D9F-B087-6D5BB53562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61FD-1E1C-45B0-9675-7614370F7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624C-D250-4412-AB8B-9CBB0E4FE5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953E-BDC6-4A0D-87C9-92336FDB3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CB11-2A82-4C2B-8700-3DC0496F0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6"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56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Windhoek, Namib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February 17-18,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Susan W. Matindi Waithaka</cp:lastModifiedBy>
  <cp:lastPrinted>2015-01-21T13:27:28Z</cp:lastPrinted>
  <dcterms:modified xsi:type="dcterms:W3CDTF">2015-02-05T13:25:45Z</dcterms:modified>
  <cp:revision>374</cp:revision>
  <dc:subject/>
  <dc:title>Slide 1</dc:title>
</cp:coreProperties>
</file>