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E769-8611-4E00-BCB2-224B00893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0295-C655-46F6-9C2A-1D11E70F2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322E-EFDB-484D-BA07-88D1F5A61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CBB-4020-4849-B456-AF9CF4CF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D8E-F269-4C83-A59D-90C61F7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1B6-340F-4CD9-8F6C-867A84CC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DA7-510A-4AF2-9F45-80C75A5B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AF9-76F0-493B-9F8D-0B8D42F9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3B1-54A0-40B4-A109-9D46A5B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5C1-027B-4278-8238-E60E3BA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674-641E-43E5-AA29-FBEA718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B4D-CFF7-4EEB-B379-7958D876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B2D-2F6D-4CD7-88AB-C931131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AD7-A129-4915-B9E2-80A3B30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FF9-81D6-490D-9146-208B686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7E66-05FC-442B-B68E-48B733140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sahara-camel-caravan_365_600x450.jpe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0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Islamic Conference of Environment Minis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ctober 5-6, 2010, Tu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-2286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ert Ecosystems and Livelihoods Program - Harnessing the Value of Des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443720" y="6016680"/>
            <a:ext cx="63972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99072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ntroducing the MENA-D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Goal: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apture and harness the value of desert ecosystems in providing goods and services for sustainable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Specific 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assess the value of deserts and identify value hotsp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highlight deserts as a major global natural heri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enhance desert production systems and liveliho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onserve desert bio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generate new opportunities such as renewable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br-img-3.jpg"/>
          <p:cNvPicPr/>
          <p:nvPr/>
        </p:nvPicPr>
        <p:blipFill>
          <a:blip r:embed="rId1"/>
          <a:stretch/>
        </p:blipFill>
        <p:spPr>
          <a:xfrm>
            <a:off x="5029200" y="13860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3" descr="arabian_oryx.jpeg"/>
          <p:cNvPicPr/>
          <p:nvPr/>
        </p:nvPicPr>
        <p:blipFill>
          <a:blip r:embed="rId2"/>
          <a:stretch/>
        </p:blipFill>
        <p:spPr>
          <a:xfrm>
            <a:off x="5029200" y="39625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Ecosystem Services of the Sahara and Arabian Dese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Brief snapsh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ource of at least 50% of the mineral fertilization of the Amazon rainfo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gricultural heritage systems built over centuries around agro-biodiversity critical for food security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novative water management systems under scarcity and new threats from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ome to large fossil aquif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pportunities for desert eco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own Arrow 8"/>
          <p:cNvSpPr/>
          <p:nvPr/>
        </p:nvSpPr>
        <p:spPr>
          <a:xfrm rot="16200000">
            <a:off x="480060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megranates.tif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5257800" y="50292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ENA Desert Ecosystems Livelihoods Program (MENA-D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 Four-Pronged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7" descr=""/>
          <p:cNvPicPr/>
          <p:nvPr/>
        </p:nvPicPr>
        <p:blipFill>
          <a:blip r:embed="rId1"/>
          <a:stretch/>
        </p:blipFill>
        <p:spPr>
          <a:xfrm>
            <a:off x="669960" y="933480"/>
            <a:ext cx="7883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Valuing Desert Ecosystem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6761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socotra_island3.jpeg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4267080" y="12189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pportunity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dentify and measure value hotspots for the Sahara and Arabian Des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cotour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asis agri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ind and solar po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enetic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raditional land 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ater management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raz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edicinal and aromatic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Dust storm pre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gricultural heritage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ny othe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Partnership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990360"/>
            <a:ext cx="81532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lient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eadership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atalytic Funding (US$ 2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xpanding partnerships, other grant financing, lending and technical assistance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financing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gional Centers of Exc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cluding the World Desert Institute and the Prince Sultan Research Center for Environment, Water and Des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partners - NGOs, private sector and othe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871720" y="5407200"/>
            <a:ext cx="1096920" cy="21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800600" y="5410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23:18:45Z</dcterms:created>
  <dc:creator>wb84983</dc:creator>
  <dc:description/>
  <dc:language>en-US</dc:language>
  <cp:lastModifiedBy>Patrizia Cocca</cp:lastModifiedBy>
  <dcterms:modified xsi:type="dcterms:W3CDTF">2010-10-25T15:25:14Z</dcterms:modified>
  <cp:revision>146</cp:revision>
  <dc:subject/>
  <dc:title>Slide 1</dc:title>
</cp:coreProperties>
</file>