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ACD-5828-4C8D-9B69-66525EF299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526-9020-44A5-AA34-15934BDA8E2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6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ntant des ressources disponibles estimées (au 31 décembre 2011) est calculé à partir du tableau 5, ligne 16 de l’AFB/EFC.7/6 (« ressources potentielles ») plus les nouvelles contributions de la Suède (100 millions de couronnes suédoises) et de la Suisse ( 3 millions de francs sui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B1A-2040-4461-A02B-62BC196260E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2C8-58AD-4524-BB1F-A47D9897A7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C4DC-75F3-44F6-8255-717C1D7C60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6585-D48B-4C41-9799-10033796C4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ns reprendre les preuves scientifiques et les calculs économ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4F8B-43D7-4A7D-B945-F38081C98C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gef.org/gef/sites/thegef.org/files/publication/LDCF%20FRench.pdf(site" TargetMode="External"/><Relationship Id="rId2" Type="http://schemas.openxmlformats.org/officeDocument/2006/relationships/hyperlink" Target="http://www.thegef.org/gef/sites/thegef.org/files/publication/SCCF%20French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5028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17 -19 avril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42d"/>
                </a:solidFill>
                <a:latin typeface="Calibri"/>
              </a:rPr>
              <a:t>Comment accéder aux ressources du FEM</a:t>
            </a:r>
            <a:br>
              <a:rPr sz="36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Caisse du FEM, STAR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Fonds PMA, Fonds spécial, Fonds de Nagoya, Fonds pour l’adaptation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Élargissement du réseau du FEM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Partenariats public-privé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SIGP et site web </a:t>
            </a:r>
            <a:br>
              <a:rPr sz="2800"/>
            </a:br>
            <a:endParaRPr b="1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aractéristiques </a:t>
            </a:r>
            <a:br>
              <a:rPr sz="4400"/>
            </a:b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principe du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coût additionnel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distingue les projets du Fonds PMA/Fonds spécial de la pratique courante du FEM qui finance les projets selon le principe du surcoû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montant intégral des </a:t>
            </a:r>
            <a:r>
              <a:rPr b="0" i="1" lang="fr-FR" sz="1500" spc="-1" strike="noStrike">
                <a:solidFill>
                  <a:srgbClr val="000000"/>
                </a:solidFill>
                <a:latin typeface="Calibri"/>
              </a:rPr>
              <a:t>coûts additionnels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imposés au pays par les effets du changement climatique est pris en charge par le Fonds PMA/Fonds spécia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Base inchangée – Les activités qui seraient réalisées en l’absence de changement climatique constituent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ojet de bas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(base : situation inchangé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Fonds PMA applique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incipe de l’accès équitab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selon lequel le financement de la mise en œuvre des PANA est ouvert à tous les PMA, et non sur la base du premier arrivé, premier serv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Comment accéder aux ressources du Fonds pour les PMA et du Fonds spéci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pour les pays les moins avancé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sites/thegef.org/files/publication/LD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spécial pour les changements climatique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sites/thegef.org/files/publication/SC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onds de Nagoya est un fond fiduciaire crée et administré séparément par le conseil du F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abli le 18 févri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inancement reste indépendant des allocations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Fonds de Mise en œuvre du Protocole de Nagoy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ronologi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arrage : 26 mai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eil du FEM 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1 :  18 août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2 : 11 novem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amp; aux membres titulaires et suppléants du Conseil du F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onds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Mise en Œuvre du Protocole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Nagoya: Que finance-t-il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qu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ètent les investissements  envisagés dans le cadre de la Caisse du FEM (STAR) à l’appui de l’accès aux ressources génétiques et des avantages en découlant (régime A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erchent à concrétiser les possibilités d’accord sur un régime APA entre utilisateurs et pourvoyeurs de ressources gén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ent le transfert de technologies et la mobilisation du 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mettent aux pays de rassembler des informations pour examiner leurs capacités et leurs besoins d’application d’un régime APA, l’accent étant mis sur les politiques et la législation en vigu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ent accéder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u Fonds de Nagoya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jets de moyenne enverg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êmes politiques et modalités que celles appliquées aux autres projets de moyenne envergur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grément, de façon continue, du directeur géné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tités d’exécution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s partenaires (réalisent le proj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 d’approbation du point focal techniqu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s de cofinan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inancement s’ajoute aux allocations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de Nagoya : État des lieux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pport d’activité du Fonds de mise en œuvre du Protocole de Nagoya (GEF/C.41/Inf.08/Rev.01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essources disponibles : 15 M USD (Japon, Suisse et Fra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approuvés : GEF ID 4780 (Promouvoir l’application du Protocole de Nagoya sur l’accès aux ressources génétiques et le partage des avantages qui en découlent au Pana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à venir : 3 projets de moyenne envergure en cours d’élaboration, 3 fiches de synthèse, pourparler avec 7 partenaires et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’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ssourc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duit de la monétisation des URCE : $167,4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des Partis visés à l’Annexe I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pagne 45 EUR, Monaco 10,000 EUR,          Allemagne 10 M EUR, Suède 200 M SEK, Suisse 3 M CH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annoncées : Australie 15 M AUD, Région de Bruxelles-Capitale 1 M EUR, Royaume-Uni 10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llouées au 20 mars 2012: $116,1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ctuellement disponibles: $147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timation des ressources d’ici fin 201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Hypothèse moyenne $207 M (basse : $187 M, haute : $223 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Modalités d’accè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Dir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et programmes des Partis remplissant les conditions d’admissibilité peuvent être présenté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du Fonds pour l’adaptation par une institution nationale de mise en œuvre (IN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Multilat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rtis peuvent soumettre leurs projets par le biais d’une institution multilatérale de mise en œuvre (IM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Ré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groupe de Partis peut également nommer une entité régionale ou sous-régionale comme institution de mise en œuvre (I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Modalités d’accè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Les INM, IMM et IRM doiv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ire aux normes fiduciair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ablies par le Conseil du Fonds pour l’adap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parence, pouvoirs d’enquête interne et mesures anti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hacun des aspec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 et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ure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estion financièr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tablissement des rappo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cess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adre institutionnel du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Comment accéder à la Caisse du 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20" descr=""/>
          <p:cNvPicPr/>
          <p:nvPr/>
        </p:nvPicPr>
        <p:blipFill>
          <a:blip r:embed="rId1"/>
          <a:stretch/>
        </p:blipFill>
        <p:spPr>
          <a:xfrm>
            <a:off x="380880" y="2048040"/>
            <a:ext cx="83059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Procédure d’une vs deux étap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s/programmes au delà de 1M USD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un choix doit se faire quant aux procédures  soit: Une procédure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étap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proposition complète) ou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 étap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pprobation du concept et document du projet/programm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proje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 petite échel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dessous de $1m) la procédu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étap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oit être choisi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epts sont soit endossés, non endossés ou reje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es fonds ne sont PAS mis appart pour des concepts endos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ropositions complètes sont soit approuvées, non approuvées, ou rejeté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’endossement des concepts n’est PAS requis pour la présentation de la proposition complète, mais en générale, les projets approuvés sont en premier lieu endossés comme concep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utes les propositions sont publiées sur le site web et ouvertes au public pour tout comment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b1ca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64a2"/>
                </a:solidFill>
                <a:latin typeface="Calibri"/>
              </a:rPr>
              <a:t>Cycle du Projet du Conseil du fonds pour l’adaptation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AutoShape 3"/>
          <p:cNvSpPr/>
          <p:nvPr/>
        </p:nvSpPr>
        <p:spPr>
          <a:xfrm flipH="1" flipV="1" rot="16200000">
            <a:off x="3780720" y="2162880"/>
            <a:ext cx="1506240" cy="2819520"/>
          </a:xfrm>
          <a:custGeom>
            <a:avLst/>
            <a:gdLst>
              <a:gd name="textAreaLeft" fmla="*/ 263520 w 1506240"/>
              <a:gd name="textAreaRight" fmla="*/ 1092240 w 150624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6951"/>
                <a:lnTo>
                  <a:pt x="21360" y="5394"/>
                </a:lnTo>
                <a:lnTo>
                  <a:pt x="17280" y="0"/>
                </a:lnTo>
                <a:lnTo>
                  <a:pt x="12720" y="5394"/>
                </a:lnTo>
                <a:lnTo>
                  <a:pt x="14880" y="5394"/>
                </a:lnTo>
                <a:arcTo wR="7560" hR="21600" stAng="2183049" swAng="285951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43600" y="1295280"/>
            <a:ext cx="2590920" cy="10670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ésentation du projet ou programme au secrétariat du fond  pour l’adaptation en suivant les modèles approuvés par le Conseil du fonds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05320" y="1447920"/>
            <a:ext cx="1828800" cy="68580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trôle de cohérence et évaluation technique de la part du secré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048120"/>
            <a:ext cx="1879560" cy="585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se de décision par le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62120" y="1600200"/>
            <a:ext cx="2133360" cy="106668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évision par le comité d’examen  de projets et programmes. Des services experts externes peuvent être utilis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191120"/>
            <a:ext cx="1997280" cy="12189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itance de la part du fond pour l’adaptation. Décaissement des fonds par l’administrateur avec un ordre écrit du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114800" y="4648320"/>
            <a:ext cx="2057400" cy="761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mplémentation et contrôle du projet par l’entité d’exéc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3200400"/>
            <a:ext cx="228132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s les projets: Rapports annuels sur l’état des lieux, rapport d’évaluation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943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05320" y="2209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909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057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327672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5943600" y="5486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e financemen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fonds sont pourvu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l’intégralité des coûts d’adaptation de ba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es programmes et projets ayant pour objectif principal d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s’adapter et d’augmenter la capacité d’adaptation au changement clima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doivent êtr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’accent doit être mis sur l’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ucun secteur ou approche n’est préét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llocation totale pour les projets et programmes présentés par les entités multilatérales d’exécution à chaque réunion ne peut dépasser 50% des ressources accumulées dans le fond fiduci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rojets/programmes doivent inclure une composante de gestion de connaissance (KM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positions doivent s’adapter au cadre de résultats du fond pour l’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’évaluation des proje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hérenc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vec les stratégies nationales pour le développement dur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bénéfic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économiques, sociaux et écolog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espec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standards techniques nationau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Le rapport coût-efficac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mécanism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gestion, gestion financière et des risques, le suivi et l’évaluation, et l’évaluation de l’imp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Eviter la duplicatio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vec d’autres sources de financement pour les projets d’adap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nsulter les partis prenant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 assurer l’acceptation et l’incorporation des points de vues de la communau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a considération d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questions de genre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ns l’élaboration du proj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ai 2011, le Conseil du FEM a approuvé un projet pilote d’accréditation de jusqu’à dix nouvelles institutions pour exécuter les projets de l’institu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moins 5 institutions nation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is accréditées, les Agences de projet pourron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céder directement aux ressources des fonds administrés par le FEM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ider les pays bénéficiaires à préparer et exécuter des proj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Élargissem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du réseau du F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andidatures déposées au 31 décembre 2011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nationale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uguay 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édération de Russie : VTB B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ine: Ministère de l’Environnement, Bureau de la coopération économique étrangère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Sud:  Banque de développement de l’Afrique australe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ations internationales de la société civile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ion mondiale pour la nature (UIC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onds mondial pour la nature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mes des Nations Unies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alimentaire mondial (P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des Nations Unies pour les établissements humains (UN-HA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régionales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C: Conservation International Banco de Desarrollo de America Latina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cifique: Secrétariat du Programme régional océanien de l’environnement (PRO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Nord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e l’Ouest: Banque ouest africaine de développe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ritères d’accrédit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institutions suivantes ont qualité pour être accréditées dans le cadre du projet pilo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titutions 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rég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de la société civile/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et organismes spécialisés des Nations U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s organisations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xamen des demand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seront évaluées en fonction de la valeur ajoutée qu’elles apportent au réseau du FEM et de leur positionnement stratégique par rapport aux objectifs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devront satisfaire pleinement aux normes fiduciaires du FEM ainsi  qu’aux normes de sauvegarde environnementale et sociale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éroulement de la procédur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erne de la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valeur ajoutée des institu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le Secrétariat du FEM et approbation du Conse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xterne du respect des normes fiduciaires, environnementales et sociales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anel d’accréd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ritères d’evalu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a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onstration de résultats sur l’adaptation au changements de l’environnement et du cli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’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acité pour mobiliser des financ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acité institu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eau de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Étapes de l’élaboration d’un projet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ée de projet – Pays – PCPN (facultati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ception du projet – Entités d’exécution – FIP &amp; financement PPG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bation du projet – Points focaux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de la FIP &amp; du financement PPG par le Secrétariat du FEM, inscription dans un programme de travail et approbation par le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paration du projet – Entités d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criptif du projet – Entités d’exécution – projets de grande ou de moyenne envergure (activités habilitantes)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par le Secrétariat du FEM, agrément/approbation par le DG et information du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tenariats public-priv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ndant FEM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914400" y="2133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montant de 80 M USD est réservé à la mobilisation du secteur privé pendant FEM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mobilisation du secteur privé n’est pas une fin en soi ; c’est un moyen de multiplier les effets positifs sur l’environnement mo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Stratégie de mobilisation du secteur privé : 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Trois modalités d’intervention pour FEM-5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place des programmes de partenariat public-privé avec des banques multilatérales de développement pour promouvoir l’utilisation d’instruments financiers autres que les aides direc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ourager les pays à utiliser les ressources allouées dans le cadre du STAR pour proposer des instruments financiers hors aides directes à l’appui de projets d’investissement du secteur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tenir des concours entre PME pour promouvoir le transfert de technologies et l’esprit d’entre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tratégie révisée de mobilisation accrue du secteur pr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Qu’est-ce qu’un instrument financier autre qu’une aide directe 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le cadre de l’Instrument du FEM, c’est une forme de financement à des conditions libérales susceptible de générer des rentrées de fonds (ou des remboursemen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entrées de fonds viennent compléter les ressources du FEM et peuvent être utilisées pour de futurs investiss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s condi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 crédit ou fonds de garantie des ris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vestissements dans des fonds de 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rédits à des conditions libé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s risques de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auto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de mutualisation des risques associés aux prê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Et maintenant…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Secrétariat du FEM travaille avec les banques multilatérales de développement pour finaliser les modalités d’applic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banques multilatérales peuvent proposer des projets de partenariat public-privé à tout moment, en vue de leur examen en juin ou lors de futurs programmes de trava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ésenter de nouvelles FIP comportant l’utilisation d’instruments financiers autres que les aides direc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oposer des projets de moyenne envergure pour organiser des concours entre P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ite web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cuments à empor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stes des membres du Conseil et des points foc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ches-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de travail et documents du Conse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blications/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èles – FIP, activités habili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lletin de suivi des program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ystème intégré de gestion des projets (SIGP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cuments à em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d’utilisateur et mot de p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til de suivi pré-F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ormations sur les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ù trouver les FIP, DP, E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410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f497d"/>
                </a:solidFill>
                <a:latin typeface="Calibri"/>
              </a:rPr>
              <a:t>Des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iversité biologique, changements climatiques,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Tous les pays ont une allocation nationa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llocations minimales: 2 M USD pour les changements climatiques, 1,5 M USD pour la diversité biologique et 0,5 M USD pour la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ouplesse, si allocation totale inférieure à 7 M US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Système transparent d’allocations des ressources (STA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rogrammes non couverts par le STA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52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gestion sans risque des substances chim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/programmes régionaux et mondi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microfin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ation du secteur pri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609480"/>
          <a:ext cx="7848720" cy="5029200"/>
        </p:xfrm>
        <a:graphic>
          <a:graphicData uri="http://schemas.openxmlformats.org/drawingml/2006/table">
            <a:tbl>
              <a:tblPr/>
              <a:tblGrid>
                <a:gridCol w="2668680"/>
                <a:gridCol w="1050840"/>
                <a:gridCol w="789120"/>
                <a:gridCol w="798480"/>
                <a:gridCol w="682560"/>
                <a:gridCol w="1050840"/>
                <a:gridCol w="80820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o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5  milliards de dol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eloppes STAR 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ngements clima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versité biol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égradation des s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épartition souple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ap-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née-Biss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rit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o Tomé et Princ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éné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Ga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llocations STAR pendant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mment accéder aux autres fonds :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Fonds PMA, Fonds spécial, Fonds de Nagoya, Fonds pour l’adaptation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FEM administre également trois fonds fiduciaires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pour les pays les moins avancés (Fonds pour les PM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spécial pour les changements climatiques (Fonds spécial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Fonds de mise en œuvre du Protocole de Nagoya (Fonds de Nagoy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assure en outre les services de secrétariat du Fonds pour l’adap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our les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9810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au titre de la Convention pour répondre aux besoins particuliers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l fonds actuellement mandaté pour financer la préparation et la mise en œuvre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8 PANA déjà financés et 54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537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 spé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 à tous les pays en développement parties à la Conven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pour financer les activités d’adaptation et de transfert de technologies à court et moyen ter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3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39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es PMA et Fonds spé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articularités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ISSE DU F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coû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s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3434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FONDS POUR LES PMA &amp; FONDS SPÉ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incipe du coût ad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à caractère mondial NON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ors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ancement sur la base d’une situation inchan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fond plus élevé pour les projets de moyenne envergure du Fonds PMA (2 M 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bation de façon continue pour les projets du Fond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ès équitable au Fonds pour tous le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8:41Z</dcterms:modified>
  <cp:revision>414</cp:revision>
  <dc:subject/>
  <dc:title>Focal Area and Cross Cutting Strategies – Chemicals</dc:title>
</cp:coreProperties>
</file>