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700E-078B-461C-BE76-CC55CB11F0C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A9C2-55D0-49EA-BA89-93A02DA39E1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Date Placeholder 4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Header Placeholder 6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montant des ressources disponibles estimées (au 31 décembre 2011) est calculé à partir du tableau 5, ligne 16 de l’AFB/EFC.7/6 (« ressources potentielles ») plus les nouvelles contributions de la Suède (100 millions de couronnes suédoises) et de la Suisse ( 3 millions de francs sui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66FA-6795-4B59-99BB-45C2F36442D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1, the MDBs can build programs in any focal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P Programs can be country, regional, or global in n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will focus on small and medium enterprises; all will have private sector part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2, projects using STAR allocation can are eligible to get an incentive from the private sector set-aside if they incorporate a non-grant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very three dollars of STAR allocation used, a matching grant of one dollar is avail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3, the GEF will support countries that want to start competitions to recognize innovation and entrepreneur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ecember, the South Africa announced the winners of their first clean technology competition with GEF and UNIDO sup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s can cover any focal area; adaptation technology is especially encoura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6A7E-3FDE-42BB-9D5E-74F17BCF2F9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le, the IADB used GEF funding to establish a risk guarantee fund that is lowering the risk for local banks to fund energy efficiency projects. (#41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Regional program in Cape Verde, Liberia, Sierra Leone, and Senegal, the World Bank has established a credit line to support the West Africa Regional Fisheries Program. (#355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other examples of existing use of non-grant instruments are listed in Annex 4 of the GEF revised strategy available on the GEF web-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1830-3EE8-4ED3-8930-CC2B56A8F13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DBs are already preparing proposals and we hope one or more PPP Programs will be ready for the June 2012 work pro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agencies are studying SME competitions, using the South Africa model, in various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055B-75F3-4CFF-A0D3-D42A9E9BA05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ans reprendre les preuves scientifiques et les calculs économiques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9010-9AE0-4C67-ABAF-09ED8425AB8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4"/>
          <p:cNvSpPr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hegef.org/gef/sites/thegef.org/files/publication/LDCF%20FRench.pdf(site" TargetMode="External"/><Relationship Id="rId2" Type="http://schemas.openxmlformats.org/officeDocument/2006/relationships/hyperlink" Target="http://www.thegef.org/gef/sites/thegef.org/files/publication/SCCF%20French.pdf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14400" y="50288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17 -19 avril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Ouagadougou, Burkina F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33160" y="274320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642d"/>
                </a:solidFill>
                <a:latin typeface="Calibri"/>
              </a:rPr>
              <a:t>Comment accéder aux ressources du FEM</a:t>
            </a:r>
            <a:br>
              <a:rPr sz="36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Caisse du FEM, STAR </a:t>
            </a:r>
            <a:br>
              <a:rPr sz="22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Fonds PMA, Fonds spécial, Fonds de Nagoya, Fonds pour l’adaptation </a:t>
            </a:r>
            <a:br>
              <a:rPr sz="22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Élargissement du réseau du FEM</a:t>
            </a:r>
            <a:br>
              <a:rPr sz="22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Partenariats public-privé</a:t>
            </a:r>
            <a:br>
              <a:rPr sz="2200"/>
            </a:br>
            <a:r>
              <a:rPr b="1" lang="fr-FR" sz="2200" spc="-1" strike="noStrike">
                <a:solidFill>
                  <a:srgbClr val="1f497d"/>
                </a:solidFill>
                <a:latin typeface="Calibri"/>
              </a:rPr>
              <a:t>SIGP et site web </a:t>
            </a:r>
            <a:br>
              <a:rPr sz="2800"/>
            </a:br>
            <a:endParaRPr b="1" lang="en-US" sz="2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Caractéristiques </a:t>
            </a:r>
            <a:br>
              <a:rPr sz="4400"/>
            </a:b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du Fonds PMA/Fonds spécial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7524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Le principe du </a:t>
            </a:r>
            <a:r>
              <a:rPr b="1" lang="fr-FR" sz="1500" spc="-1" strike="noStrike" u="sng">
                <a:solidFill>
                  <a:srgbClr val="000000"/>
                </a:solidFill>
                <a:uFillTx/>
                <a:latin typeface="Calibri"/>
              </a:rPr>
              <a:t>coût additionnel 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distingue les projets du Fonds PMA/Fonds spécial de la pratique courante du FEM qui finance les projets selon le principe du surcoût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Le montant intégral des </a:t>
            </a:r>
            <a:r>
              <a:rPr b="0" i="1" lang="fr-FR" sz="1500" spc="-1" strike="noStrike">
                <a:solidFill>
                  <a:srgbClr val="000000"/>
                </a:solidFill>
                <a:latin typeface="Calibri"/>
              </a:rPr>
              <a:t>coûts additionnels 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imposés au pays par les effets du changement climatique est pris en charge par le Fonds PMA/Fonds spécial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Base inchangée – Les activités qui seraient réalisées en l’absence de changement climatique constituent </a:t>
            </a:r>
            <a:r>
              <a:rPr b="1" lang="fr-FR" sz="1500" spc="-1" strike="noStrike" u="sng">
                <a:solidFill>
                  <a:srgbClr val="000000"/>
                </a:solidFill>
                <a:uFillTx/>
                <a:latin typeface="Calibri"/>
              </a:rPr>
              <a:t>le projet de base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 (base : situation inchangé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Le Fonds PMA applique </a:t>
            </a:r>
            <a:r>
              <a:rPr b="1" lang="fr-FR" sz="1500" spc="-1" strike="noStrike" u="sng">
                <a:solidFill>
                  <a:srgbClr val="000000"/>
                </a:solidFill>
                <a:uFillTx/>
                <a:latin typeface="Calibri"/>
              </a:rPr>
              <a:t>le principe de l’accès équitable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 selon lequel le financement de la mise en œuvre des PANA est ouvert à tous les PMA, et non sur la base du premier arrivé, premier servi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7" descr="BGD-062HR-04.tif"/>
          <p:cNvPicPr/>
          <p:nvPr/>
        </p:nvPicPr>
        <p:blipFill>
          <a:blip r:embed="rId1"/>
          <a:stretch/>
        </p:blipFill>
        <p:spPr>
          <a:xfrm>
            <a:off x="5562720" y="1371600"/>
            <a:ext cx="26636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Comment accéder aux ressources du Fonds pour les PMA et du Fonds spécial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000" spc="-1" strike="noStrike">
                <a:solidFill>
                  <a:srgbClr val="000000"/>
                </a:solidFill>
                <a:latin typeface="Calibri"/>
              </a:rPr>
              <a:t>Accés aux ressources du Fonds pour les pays les moins avancés</a:t>
            </a:r>
            <a:r>
              <a:rPr b="0" lang="da-DK" sz="3000" spc="-1" strike="noStrike">
                <a:solidFill>
                  <a:srgbClr val="000000"/>
                </a:solidFill>
                <a:latin typeface="Calibri"/>
              </a:rPr>
              <a:t>, sur le site du FEM </a:t>
            </a:r>
            <a:r>
              <a:rPr b="0" lang="da-DK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sites/thegef.org/files/publication/LDCF%20FRench.pd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000" spc="-1" strike="noStrike">
                <a:solidFill>
                  <a:srgbClr val="000000"/>
                </a:solidFill>
                <a:latin typeface="Calibri"/>
              </a:rPr>
              <a:t>Accés aux ressources du Fonds spécial pour les changements climatiques</a:t>
            </a:r>
            <a:r>
              <a:rPr b="0" lang="da-DK" sz="3000" spc="-1" strike="noStrike">
                <a:solidFill>
                  <a:srgbClr val="000000"/>
                </a:solidFill>
                <a:latin typeface="Calibri"/>
              </a:rPr>
              <a:t>, sur le site du FEM </a:t>
            </a:r>
            <a:r>
              <a:rPr b="0" lang="da-DK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hegef.org/gef/sites/thegef.org/files/publication/SCCF%20French.pd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88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Fonds de Nagoya est un fond fiduciaire crée et administré séparément par le conseil du F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abli le 18 février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financement reste indépendant des allocations S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tle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Fonds de Mise en œuvre du Protocole de Nagoy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hronologi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émarrage : 26 mai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eil du FEM (GEF/C.40/11/Rev.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dalités d’application 1 :  18 août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ttre de la directrice générale aux points focaux techn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dalités d’application 2 : 11 novembr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ttre de la directrice générale aux points focaux techn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&amp; aux membres titulaires et suppléants du Conseil du F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Fonds </a:t>
            </a: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de Mise en Œuvre du Protocole </a:t>
            </a: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de Nagoya: Que finance-t-il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projets qu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mplètent les investissements  envisagés dans le cadre de la Caisse du FEM (STAR) à l’appui de l’accès aux ressources génétiques et des avantages en découlant (régime AP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herchent à concrétiser les possibilités d’accord sur un régime APA entre utilisateurs et pourvoyeurs de ressources génét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vorisent le transfert de technologies et la mobilisation du 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ermettent aux pays de rassembler des informations pour examiner leurs capacités et leurs besoins d’application d’un régime APA, l’accent étant mis sur les politiques et la législation en vigu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omment accéder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u Fonds de Nagoya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ojets de moyenne enverg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êmes politiques et modalités que celles appliquées aux autres projets de moyenne envergure du F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grément, de façon continue, du directeur géné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ntités d’exécution du F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rganisations partenaires (réalisent le proje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ttre d’approbation du point focal technique du F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ttres de cofinan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inancement s’ajoute aux allocations ST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Fonds de Nagoya : État des lieux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apport d’activité du Fonds de mise en œuvre du Protocole de Nagoya (GEF/C.41/Inf.08/Rev.01)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essources disponibles : 15 M USD (Japon, Suisse et Franc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jets approuvés : GEF ID 4780 (Promouvoir l’application du Protocole de Nagoya sur l’accès aux ressources génétiques et le partage des avantages qui en découlent au Panam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jets à venir : 3 projets de moyenne envergure en cours d’élaboration, 3 fiches de synthèse, pourparler avec 7 partenaires et p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Fonds pour l’adap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ssource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duit de la monétisation des URCE : $167,4 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tributions des Partis visés à l’Annexe I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spagne 45 EUR, Monaco 10,000 EUR,          Allemagne 10 M EUR, Suède 200 M SEK, Suisse 3 M CH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tributions annoncées : Australie 15 M AUD, Région de Bruxelles-Capitale 1 M EUR, Royaume-Uni 10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£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Ressources allouées au 20 mars 2012: $116,1 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Ressources actuellement disponibles: $147 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stimation des ressources d’ici fin 201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Hypothèse moyenne $207 M (basse : $187 M, haute : $223 M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2d050"/>
                </a:solidFill>
                <a:latin typeface="Calibri"/>
              </a:rPr>
              <a:t>Modalités d’accè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Modalité d’Accès Dir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rojets et programmes des Partis remplissant les conditions d’admissibilité peuvent être présenté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irectem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au Conseil du Fonds pour l’adaptation par une institution nationale de mise en œuvre (INM)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ccrédité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Modalité d’Accès Multilaté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artis peuvent soumettre leurs projets par le biais d’une institution multilatérale de mise en œuvre (IMM)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ccrédité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Modalité d’Accès Région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groupe de Partis peut également nommer une entité régionale ou sous-régionale comme institution de mise en œuvre (IR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Calibri"/>
              </a:rPr>
              <a:t>Modalités d’accès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33"/>
                </a:solidFill>
                <a:latin typeface="Calibri"/>
              </a:rPr>
              <a:t>Les INM, IMM et IRM doiv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Satisfaire aux normes fiduciaire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établies par le Conseil du Fonds pour l’adapt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estion et intégrité financiè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apacité institutionnel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ansparence, pouvoirs d’enquête interne et mesures anticorru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Assumer l’entière responsabilité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chacun des aspect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a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gest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 projets et program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ssurer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gestion financière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travail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uivi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établissement des rapport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écess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137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adre institutionnel du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Comment accéder à la Caisse du F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ject 320" descr=""/>
          <p:cNvPicPr/>
          <p:nvPr/>
        </p:nvPicPr>
        <p:blipFill>
          <a:blip r:embed="rId1"/>
          <a:stretch/>
        </p:blipFill>
        <p:spPr>
          <a:xfrm>
            <a:off x="380880" y="2048040"/>
            <a:ext cx="830592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2d050"/>
                </a:solidFill>
                <a:latin typeface="Calibri"/>
              </a:rPr>
              <a:t>Procédure d’une vs deux étape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de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rojets/programmes au delà de 1M USD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 un choix doit se faire quant aux procédures  soit: Une procédure d’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une étap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proposition complète) ou d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eux étap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approbation du concept et document du projet/programme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des proje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e petite échell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En dessous de $1m) la procédur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’une étap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doit être choisie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concepts sont soit endossés, non endossés ou rejeté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Les fonds ne sont PAS mis appart pour des concepts endoss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propositions complètes sont soit approuvées, non approuvées, ou rejeté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L’endossement des concepts n’est PAS requis pour la présentation de la proposition complète, mais en générale, les projets approuvés sont en premier lieu endossés comme concep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outes les propositions sont publiées sur le site web et ouvertes au public pour tout commentai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b1ca7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64a2"/>
                </a:solidFill>
                <a:latin typeface="Calibri"/>
              </a:rPr>
              <a:t>Cycle du Projet du Conseil du fonds pour l’adaptation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AutoShape 3"/>
          <p:cNvSpPr/>
          <p:nvPr/>
        </p:nvSpPr>
        <p:spPr>
          <a:xfrm flipH="1" flipV="1" rot="16200000">
            <a:off x="3780720" y="2162880"/>
            <a:ext cx="1506240" cy="2819520"/>
          </a:xfrm>
          <a:custGeom>
            <a:avLst/>
            <a:gdLst>
              <a:gd name="textAreaLeft" fmla="*/ 263520 w 1506240"/>
              <a:gd name="textAreaRight" fmla="*/ 1092240 w 1506240"/>
              <a:gd name="textAreaTop" fmla="*/ 377640 h 2819520"/>
              <a:gd name="textAreaBottom" fmla="*/ 24418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3216951"/>
                <a:lnTo>
                  <a:pt x="21360" y="5394"/>
                </a:lnTo>
                <a:lnTo>
                  <a:pt x="17280" y="0"/>
                </a:lnTo>
                <a:lnTo>
                  <a:pt x="12720" y="5394"/>
                </a:lnTo>
                <a:lnTo>
                  <a:pt x="14880" y="5394"/>
                </a:lnTo>
                <a:arcTo wR="7560" hR="21600" stAng="2183049" swAng="2859516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943600" y="1295280"/>
            <a:ext cx="2590920" cy="106704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résentation du projet ou programme au secrétariat du fond  pour l’adaptation en suivant les modèles approuvés par le Conseil du fonds pour l’adap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505320" y="1447920"/>
            <a:ext cx="1828800" cy="68580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ontrôle de cohérence et évaluation technique de la part du secrétari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57200" y="3048120"/>
            <a:ext cx="1879560" cy="58572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rise de décision par le fond pour l’adap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62120" y="1600200"/>
            <a:ext cx="2133360" cy="106668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Révision par le comité d’examen  de projets et programmes. Des services experts externes peuvent être utilisé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523880" y="4191120"/>
            <a:ext cx="1997280" cy="121896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Traitance de la part du fond pour l’adaptation. Décaissement des fonds par l’administrateur avec un ordre écrit du fond pour l’adap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4114800" y="4648320"/>
            <a:ext cx="2057400" cy="76176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Implémentation et contrôle du projet par l’entité d’exéc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553080" y="3200400"/>
            <a:ext cx="2281320" cy="10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ous les projets: Rapports annuels sur l’état des lieux, rapport d’évaluation f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5943600" y="2362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3505320" y="22096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2590920" y="2743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205740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3276720" y="5486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6"/>
          <p:cNvSpPr/>
          <p:nvPr/>
        </p:nvSpPr>
        <p:spPr>
          <a:xfrm>
            <a:off x="5943600" y="5486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7"/>
          <p:cNvSpPr/>
          <p:nvPr/>
        </p:nvSpPr>
        <p:spPr>
          <a:xfrm>
            <a:off x="0" y="1066680"/>
            <a:ext cx="9144000" cy="1800"/>
          </a:xfrm>
          <a:prstGeom prst="line">
            <a:avLst/>
          </a:prstGeom>
          <a:ln w="2556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2d050"/>
                </a:solidFill>
                <a:latin typeface="Calibri"/>
              </a:rPr>
              <a:t>Critères de financemen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 fonds sont pourvu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l’intégralité des coûts d’adaptation de bas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les programmes et projets ayant pour objectif principal de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s’adapter et d’augmenter la capacité d’adaptation au changement climat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rojets doivent être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concret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: l’accent doit être mis sur l’impa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Aucun secteur ou approche n’est préétab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allocation totale pour les projets et programmes présentés par les entités multilatérales d’exécution à chaque réunion ne peut dépasser 50% des ressources accumulées dans le fond fiduci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ous les projets/programmes doivent inclure une composante de gestion de connaissance (KM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ropositions doivent s’adapter au cadre de résultats du fond pour l’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traight Connector 3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7924680" y="152280"/>
            <a:ext cx="10670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2d050"/>
                </a:solidFill>
                <a:latin typeface="Calibri"/>
              </a:rPr>
              <a:t>Critères d’évaluation des projet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Cohérenc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avec les stratégies nationales pour le développement dur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Les bénéfices 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économiques, sociaux et écologiqu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respect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de standards techniques nationau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Le rapport coût-efficacit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mécanismes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de gestion, gestion financière et des risques, le suivi et l’évaluation, et l’évaluation de l’impa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Eviter la duplication 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avec d’autres sources de financement pour les projets d’adap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Consulter les partis prenants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: assurer l’acceptation et l’incorporation des points de vues de la communaut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La considération de 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questions de genre 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dans l’élaboration du proj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traight Connector 3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7924680" y="152280"/>
            <a:ext cx="10670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n mai 2011, le Conseil du FEM a approuvé un projet pilote d’accréditation de jusqu’à dix nouvelles institutions pour exécuter les projets de l’institu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moins 5 institutions nationa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fois accréditées, les Agences de projet pourront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ccéder directement aux ressources des fonds administrés par le FEM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aider les pays bénéficiaires à préparer et exécuter des proje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itle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Calibri"/>
              </a:rPr>
              <a:t>Élargisseme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Calibri"/>
              </a:rPr>
              <a:t>du réseau du F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Candidatures déposées au 31 décembre 2011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nstitutions nationales (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Uruguay : Agencia Nacional de Investigación e Innovación (ANI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Fédération de Russie : VTB Ban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résil : Fundo Brasileiro para a Biodiversidade (FUNBIO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hine: Ministère de l’Environnement, Bureau de la coopération économique étrangère (MEP FEC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frique du Sud:  Banque de développement de l’Afrique australe (DBS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rganisations internationales de la société civile (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Union mondiale pour la nature (UIC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Fonds mondial pour la nature (WWF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onservation International (C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rganismes des Nations Unies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gramme alimentaire mondial (PA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gramme des Nations Unies pour les établissements humains (UN-HABITA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nstitutions régionales (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AC: Conservation International Banco de Desarrollo de America Latina (CAF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acifique: Secrétariat du Programme régional océanien de l’environnement (PRO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frique du Nord: Observatoire du Sahara et du Sahel (OSS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frique de l’Ouest: Banque ouest africaine de développement (BO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ritères d’accréditation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880" y="12193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institutions suivantes ont qualité pour être accréditées dans le cadre du projet pilot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stitutions nat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rganisations rég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rganisations de la société civile/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s et organismes spécialisés des Nations U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tres organisations internat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Examen des demand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Phase I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: Les institutions candidates seront évaluées en fonction de la valeur ajoutée qu’elles apportent au réseau du FEM et de leur positionnement stratégique par rapport aux objectifs de l’institu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Phase II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: Les institutions candidates devront satisfaire pleinement aux normes fiduciaires du FEM ainsi  qu’aux normes de sauvegarde environnementale et sociale de l’institu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Déroulement de la procédur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hase I :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Évaluation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erne de la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valeur ajoutée des institution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r le Secrétariat du FEM et approbation du Conse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hase II :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xame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xterne du respect des normes fiduciaires, environnementales et sociales (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Panel d’accrédit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Critères d’evaluatio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tinence au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monstration de résultats sur l’adaptation au changements de l’environnement et du cli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iveau d’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pacité pour mobiliser des financ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icacité institutionne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eau de cont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Étapes de l’élaboration d’un projet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dée de projet – Pays – PCPN (facultati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ception du projet – Entités d’exécution – FIP &amp; financement PPG (modè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pprobation du projet – Points focaux techn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amen de la FIP &amp; du financement PPG par le Secrétariat du FEM, inscription dans un programme de travail et approbation par le Conse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éparation du projet – Entités d’exé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criptif du projet – Entités d’exécution – projets de grande ou de moyenne envergure (activités habilitantes) (modè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amen par le Secrétariat du FEM, agrément/approbation par le DG et information du Conse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itle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artenariats public-priv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endant FEM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914400" y="2133720"/>
            <a:ext cx="784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 montant de 80 M USD est réservé à la mobilisation du secteur privé pendant FEM-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mobilisation du secteur privé n’est pas une fin en soi ; c’est un moyen de multiplier les effets positifs sur l’environnement mond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f497d"/>
                </a:solidFill>
                <a:latin typeface="Calibri"/>
              </a:rPr>
              <a:t>Stratégie de mobilisation du secteur privé : </a:t>
            </a:r>
            <a:br>
              <a:rPr sz="2900"/>
            </a:br>
            <a:r>
              <a:rPr b="1" lang="en-US" sz="2900" spc="-1" strike="noStrike">
                <a:solidFill>
                  <a:srgbClr val="1f497d"/>
                </a:solidFill>
                <a:latin typeface="Calibri"/>
              </a:rPr>
              <a:t>Trois modalités d’intervention pour FEM-5 </a:t>
            </a:r>
            <a:endParaRPr b="1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520" y="167616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ettre en place des programmes de partenariat public-privé avec des banques multilatérales de développement pour promouvoir l’utilisation d’instruments financiers autres que les aides direc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courager les pays à utiliser les ressources allouées dans le cadre du STAR pour proposer des instruments financiers hors aides directes à l’appui de projets d’investissement du secteur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utenir des concours entre PME pour promouvoir le transfert de technologies et l’esprit d’entre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7467480" y="243828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P5220645"/>
          <p:cNvPicPr/>
          <p:nvPr/>
        </p:nvPicPr>
        <p:blipFill>
          <a:blip r:embed="rId2"/>
          <a:stretch/>
        </p:blipFill>
        <p:spPr>
          <a:xfrm>
            <a:off x="7467480" y="411480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Fire 3"/>
          <p:cNvPicPr/>
          <p:nvPr/>
        </p:nvPicPr>
        <p:blipFill>
          <a:blip r:embed="rId3"/>
          <a:stretch/>
        </p:blipFill>
        <p:spPr>
          <a:xfrm>
            <a:off x="7467480" y="1084320"/>
            <a:ext cx="1447920" cy="13539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1371600" y="4724280"/>
            <a:ext cx="525780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F/C.41/09.Rev.01,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Stratégie révisée de mobilisation accrue du secteur pri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Qu’est-ce qu’un instrument financier autre qu’une aide directe ?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ans le cadre de l’Instrument du FEM, c’est une forme de financement à des conditions libérales susceptible de générer des rentrées de fonds (ou des remboursement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es rentrées de fonds viennent compléter les ressources du FEM et peuvent être utilisées pour de futurs investissem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xemples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inancements conditionn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aranties de crédit ou fonds de garantie des ris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vestissements dans des fonds de 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rédits à des conditions libér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aranties des risques de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nds auto renouvel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nds de mutualisation des risques associés aux prê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Et maintenant…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Secrétariat du FEM travaille avec les banques multilatérales de développement pour finaliser les modalités d’applic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s banques multilatérales peuvent proposer des projets de partenariat public-privé à tout moment, en vue de leur examen en juin ou lors de futurs programmes de trava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s Entités d’exécution et les pays peuvent à tout moment présenter de nouvelles FIP comportant l’utilisation d’instruments financiers autres que les aides direct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s Entités d’exécution et les pays peuvent à tout moment proposer des projets de moyenne envergure pour organiser des concours entre PM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ite web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ocuments à emport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stes des membres du Conseil et des points foc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iches-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’aide aux 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s de travail et documents du Conse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ublications/vidé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dèles – FIP, activités habilit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Bulletin de suivi des program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ystème intégré de gestion des projets (SIGP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ocuments à empo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m d’utilisateur et mot de p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util de suivi pré-F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formations sur les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ù trouver les FIP, DP, EE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828800" y="1447560"/>
            <a:ext cx="5410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1f497d"/>
                </a:solidFill>
                <a:latin typeface="Calibri"/>
              </a:rPr>
              <a:t>Des 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62120" y="20570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Diversité biologique, changements climatiques, dégradation des sol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Tous les pays ont une allocation national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Allocations minimales: 2 M USD pour les changements climatiques, 1,5 M USD pour la diversité biologique et 0,5 M USD pour la dégradation des sol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Souplesse, si allocation totale inférieure à 7 M US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t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Système transparent d’allocations des ressources (STA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Programmes non couverts par le STAR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2120" y="129528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aux internat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lluants organiques persistants et gestion sans risque des substances chim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’aide aux 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s/programmes régionaux et mondi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e microfinanc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bilisation du secteur pri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685800" y="609480"/>
          <a:ext cx="7848720" cy="5029200"/>
        </p:xfrm>
        <a:graphic>
          <a:graphicData uri="http://schemas.openxmlformats.org/drawingml/2006/table">
            <a:tbl>
              <a:tblPr/>
              <a:tblGrid>
                <a:gridCol w="2668680"/>
                <a:gridCol w="1050840"/>
                <a:gridCol w="789120"/>
                <a:gridCol w="798480"/>
                <a:gridCol w="682560"/>
                <a:gridCol w="1050840"/>
                <a:gridCol w="808200"/>
              </a:tblGrid>
              <a:tr h="28008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M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ocation utilis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M U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constit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25  milliards de doll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veloppes STAR (M U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angements clima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versité biolog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égradation des s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épartition souple 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urkina Fa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 Cap-V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ch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uinée-Biss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urit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o Tomé et Princi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éné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Gamb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dd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9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llocations STAR pendant FEM-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Comment accéder aux autres fonds :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 Fonds PMA, Fonds spécial, Fonds de Nagoya, Fonds pour l’adaptation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Le FEM administre également trois fonds fiduciaires 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  <a:ea typeface="Arial"/>
              </a:rPr>
              <a:t>Fonds pour les pays les moins avancés (Fonds pour les PMA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  <a:ea typeface="Arial"/>
              </a:rPr>
              <a:t>Fonds spécial pour les changements climatiques (Fonds spécial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Fonds de mise en œuvre du Protocole de Nagoya (Fonds de Nagoya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Il assure en outre les services de secrétariat du Fonds pour l’adaptatio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Fonds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pour les P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198108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Créé au titre de la Convention pour répondre aux besoins particuliers des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PM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Seul fonds actuellement mandaté pour financer la préparation et la mise en œuvre des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PAN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48 PANA déjà financés et 54 projets approuvé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Ressources disponibles =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537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M US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2392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Fonds spé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7960" y="19810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Ouvert à tous les pays en développement parties à la Conven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Créé pour financer les activités d’adaptation et de transfert de technologies à court et moyen ter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43 projets approuvé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Ressources disponibles =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239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M US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Fonds pour les PMA et Fonds spé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Particularités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u Fonds PMA/Fonds spécial</a:t>
            </a:r>
            <a:br>
              <a:rPr sz="4000"/>
            </a:b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990720" y="1670040"/>
            <a:ext cx="36226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AISSE DU FE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urcoû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Effets positifs sur l’environnement mond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ofinan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343400" y="160020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FONDS POUR LES PMA &amp; FONDS SPÉ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rincipe du coût additio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Effets positifs à caractère mondial NON req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Hors 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inancement sur la base d’une situation inchang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lafond plus élevé pour les projets de moyenne envergure du Fonds PMA (2 M US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pprobation de façon continue pour les projets du Fonds P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ccès équitable au Fonds pour tous les P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2:08:41Z</dcterms:modified>
  <cp:revision>414</cp:revision>
  <dc:subject/>
  <dc:title>Focal Area and Cross Cutting Strategies – Chemicals</dc:title>
</cp:coreProperties>
</file>