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2C08-83D4-4E09-84B9-2F8A4135E69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6640" y="698400"/>
            <a:ext cx="4646520" cy="3486240"/>
          </a:xfrm>
          <a:prstGeom prst="rect">
            <a:avLst/>
          </a:prstGeom>
          <a:ln w="0">
            <a:noFill/>
          </a:ln>
        </p:spPr>
      </p:sp>
      <p:sp>
        <p:nvSpPr>
          <p:cNvPr id="2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7169-46EE-48D1-8FD0-138C870686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4"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6640" y="698400"/>
            <a:ext cx="4646520" cy="348624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1EED-8A5A-47F1-8DEE-DB8B19B1EE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06F-EFCC-4F47-952C-C99105D12F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8020-E77C-4682-95B0-0855B8E780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EAE7-98DE-4581-80FC-2E1E7FDE0D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E6B7-CD3F-4F9B-82C3-E477F0969D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6640" y="698400"/>
            <a:ext cx="4646520" cy="348624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AED2-E78B-4A52-ACCF-BFF2BDDC26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98400"/>
            <a:ext cx="4646520" cy="348624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o can sponsor a non-grant instrument?</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DBs have the structure and capacity for non-grant instru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PPP Programs country specific, regional, or global?</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any of the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letters of endorsement require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untry specific programs, yes. For regional and global programs, no. Country consultation is expected in all cas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at happens to the reflows from a STAR allocation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ny funding from a STAR allocation and reflows from a non-grant instrument will stay in the country after the project is completed, and can be reinvested in similar projects with GEFSEC concurrenc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ere can we get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lease feel free to contact the MDB covering your region; other GEF agencies; or contact us at the GEFSE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CAD7-3BEE-4B0B-9C8C-CCC9AC1A2B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6640" y="698400"/>
            <a:ext cx="4646520" cy="3486240"/>
          </a:xfrm>
          <a:prstGeom prst="rect">
            <a:avLst/>
          </a:prstGeom>
          <a:ln w="0">
            <a:noFill/>
          </a:ln>
        </p:spPr>
      </p:sp>
      <p:sp>
        <p:nvSpPr>
          <p:cNvPr id="228"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cation utilized amounts include – PPG, Agency Fee and Project Management Fee – they will be higher than the “grant amount” listed in the RBM country snapshots for this reason, which only reports the grant amoutn for the project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undi – used its flexible allocation for an LD/BD MFA and received $1 million in SFM incen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oon – used part of STAR for Lake Chad Programmatic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 – used part of STAR for Lake Chad Programmatic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o Tome and Principe – has a BD project</a:t>
            </a:r>
            <a:endParaRPr b="0" lang="en-US" sz="1200" spc="-1" strike="noStrike">
              <a:solidFill>
                <a:srgbClr val="000000"/>
              </a:solidFill>
              <a:latin typeface="Calibri"/>
            </a:endParaRPr>
          </a:p>
        </p:txBody>
      </p:sp>
      <p:sp>
        <p:nvSpPr>
          <p:cNvPr id="229"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9455-8BF5-421B-B5A1-0FD564994A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6640" y="698400"/>
            <a:ext cx="4646520" cy="3486240"/>
          </a:xfrm>
          <a:prstGeom prst="rect">
            <a:avLst/>
          </a:prstGeom>
          <a:ln w="0">
            <a:noFill/>
          </a:ln>
        </p:spPr>
      </p:sp>
      <p:sp>
        <p:nvSpPr>
          <p:cNvPr id="23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8344-CB79-456C-8832-BA360C0F0A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drodgers@thegef.org" TargetMode="Externa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8 – 10 February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Bujumbura, Burundi</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 by Dec. 31, 2011</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5):</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ies – NPFE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   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 and Council information</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Your Ideas Welcome!</a:t>
            </a:r>
            <a:endParaRPr b="1" lang="en-US" sz="4400" spc="-1" strike="noStrike">
              <a:solidFill>
                <a:srgbClr val="1f497d"/>
              </a:solidFill>
              <a:latin typeface="Calibri"/>
            </a:endParaRPr>
          </a:p>
        </p:txBody>
      </p:sp>
      <p:sp>
        <p:nvSpPr>
          <p:cNvPr id="215" name=""/>
          <p:cNvSpPr txBox="1"/>
          <p:nvPr/>
        </p:nvSpPr>
        <p:spPr>
          <a:xfrm>
            <a:off x="914040" y="1600200"/>
            <a:ext cx="4267080" cy="373392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vate Sector point of contact:</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vid E. Rodgers</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ior Energy Specialist</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drodgers@thegef.org</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458-9869</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16" name="Picture 5" descr=""/>
          <p:cNvPicPr/>
          <p:nvPr/>
        </p:nvPicPr>
        <p:blipFill>
          <a:blip r:embed="rId2"/>
          <a:stretch/>
        </p:blipFill>
        <p:spPr>
          <a:xfrm>
            <a:off x="5257800" y="1295280"/>
            <a:ext cx="2895480" cy="4368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8"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391520" cy="4751640"/>
        </p:xfrm>
        <a:graphic>
          <a:graphicData uri="http://schemas.openxmlformats.org/drawingml/2006/table">
            <a:tbl>
              <a:tblPr/>
              <a:tblGrid>
                <a:gridCol w="2624400"/>
                <a:gridCol w="798480"/>
                <a:gridCol w="699840"/>
                <a:gridCol w="120960"/>
                <a:gridCol w="752400"/>
                <a:gridCol w="642960"/>
                <a:gridCol w="99036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urund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52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amero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9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4.9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1.62</a:t>
                      </a:r>
                      <a:r>
                        <a:rPr b="1" lang="fr-FR" sz="1600" spc="-1" strike="noStrike">
                          <a:solidFill>
                            <a:srgbClr val="ff0000"/>
                          </a:solidFill>
                          <a:latin typeface="Calibri"/>
                          <a:ea typeface="Calibri"/>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entral African Republi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4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2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6.3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emocratic Republic of the 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3.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Equatorial Guine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ab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6.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ão Tomé and 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37:48Z</dcterms:modified>
  <cp:revision>166</cp:revision>
  <dc:subject/>
  <dc:title>Focal Area and Cross Cutting Strategies – Chemicals</dc:title>
</cp:coreProperties>
</file>