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E212-D706-49D9-B681-097C2D9297B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6533-4EAE-4503-9304-C49C36D618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FFA5-8922-4069-BFAE-8634CE62E0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74AB-15D8-4AB9-8032-BDE53E15E0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AC9F-BB8E-4928-91EF-CFC0F2D894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C2E4-9B03-4653-B36F-9581AE33E3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735A-566F-429B-8ED8-36B1620082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DA7D-F1D0-4BAF-9AC5-02BFC794D8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o can sponsor a non-grant instrument?</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DBs have the structure and capacity for non-grant instru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PPP Programs country specific, regional, or global?</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any of the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letters of endorsement require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untry specific programs, yes. For regional and global programs, no. Country consultation is expected in all cas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at happens to the reflows from a STAR allocation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ny funding from a STAR allocation and reflows from a non-grant instrument will stay in the country after the project is completed, and can be reinvested in similar projects with GEFSEC concurrenc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ere can we get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lease feel free to contact the MDB covering your region; other GEF agencies; or contact us at the GEFSE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3955-6406-4DF2-B0D0-9259B24B16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cation utilized amounts include – PPG, Agency Fee and Project Management Fee – they will be higher than the “grant amount” listed in the RBM country snapshots for this reason, which only reports the grant amoutn for the project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 used its flexible allocation for an LD/BD MFA and received $1 million in SFM incen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oon – used part of STAR for Lake Chad Programmatic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 – used part of STAR for Lake Chad Programmatic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o Tome and Principe – has a BD project</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13F9-A647-47B1-A27B-F8DA04C026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BD69-CA33-45C6-A637-6B0E34D3C3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drodgers@thegef.org" TargetMode="Externa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8 – 10 February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Bujumbura, Burundi</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 by Dec. 31, 2011</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5):</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ies – NPFE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   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 and Council information</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Your Ideas Welcome!</a:t>
            </a:r>
            <a:endParaRPr b="1" lang="en-US" sz="4400" spc="-1" strike="noStrike">
              <a:solidFill>
                <a:srgbClr val="1f497d"/>
              </a:solidFill>
              <a:latin typeface="Calibri"/>
            </a:endParaRPr>
          </a:p>
        </p:txBody>
      </p:sp>
      <p:sp>
        <p:nvSpPr>
          <p:cNvPr id="215" name=""/>
          <p:cNvSpPr txBox="1"/>
          <p:nvPr/>
        </p:nvSpPr>
        <p:spPr>
          <a:xfrm>
            <a:off x="914040" y="1600200"/>
            <a:ext cx="4267080" cy="373392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vate Sector point of contact:</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vid E. Rodgers</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ior Energy Specialist</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drodgers@thegef.org</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458-9869</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16" name="Picture 5" descr=""/>
          <p:cNvPicPr/>
          <p:nvPr/>
        </p:nvPicPr>
        <p:blipFill>
          <a:blip r:embed="rId2"/>
          <a:stretch/>
        </p:blipFill>
        <p:spPr>
          <a:xfrm>
            <a:off x="5257800" y="1295280"/>
            <a:ext cx="2895480" cy="4368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8"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391520" cy="4751640"/>
        </p:xfrm>
        <a:graphic>
          <a:graphicData uri="http://schemas.openxmlformats.org/drawingml/2006/table">
            <a:tbl>
              <a:tblPr/>
              <a:tblGrid>
                <a:gridCol w="2624400"/>
                <a:gridCol w="798480"/>
                <a:gridCol w="699840"/>
                <a:gridCol w="120960"/>
                <a:gridCol w="752400"/>
                <a:gridCol w="642960"/>
                <a:gridCol w="99036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urund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52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amero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9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4.9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1.62</a:t>
                      </a:r>
                      <a:r>
                        <a:rPr b="1" lang="fr-FR" sz="1600" spc="-1" strike="noStrike">
                          <a:solidFill>
                            <a:srgbClr val="ff0000"/>
                          </a:solidFill>
                          <a:latin typeface="Calibri"/>
                          <a:ea typeface="Calibri"/>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entral African Republi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4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2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6.3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emocratic Republic of the 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3.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quatorial Guine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ab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6.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37:48Z</dcterms:modified>
  <cp:revision>166</cp:revision>
  <dc:subject/>
  <dc:title>Focal Area and Cross Cutting Strategies – Chemicals</dc:title>
</cp:coreProperties>
</file>