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A0798D-1C60-45F2-BB11-C560BC9D18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24FDF1F-2A92-4A03-80BB-664F8A4C64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6F6919-EB72-4D6E-AF11-79C70841D0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05DFF8-A72E-4005-9C99-B54478317C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72961E3-1B84-40B9-8B1C-5588BA717B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3DD0-C8CF-4236-9A03-960A1DFFA5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BAF919B-707B-461B-BAC8-05C4ECDCCF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C4291EB-361C-4853-A104-FCA1A68DBE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3AA277B-BA86-4D54-AC1E-EDAA77B6E0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EB1A5-B542-41C8-B878-4B1E02C0E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1FF4C-C2FE-4440-9BD5-C719C2F3E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5A5F-4833-46AC-AFFD-92E772E8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E0C6-AF4B-402A-BAE1-8E9B53690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6275BE-5858-4389-88E1-905C23126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58E0-3E8E-4144-88EB-ED78A637A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E8BD2-55A0-4D95-AA1F-ED5DB3067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3D41C-8A0E-490B-AF4C-22BD7661C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92490-24E7-46BB-90F7-5A1F8E15F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F79E1-14F3-4FD2-ACAB-0EB41030E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ADA68-83DA-4752-A544-309B9CED3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6D0F3-22A5-4753-B0AB-259D4F3B2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B063A-F3A1-4B8B-9B12-ED1499C47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68FDB-90E4-4E40-AA81-8501B690C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FB266-0533-442E-A2DC-A108021ED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C5600-5C9C-4C87-8F77-16219F6F7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2952-4791-4162-BC6C-C454615C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C8F28-6BB0-407A-A0B9-D521F8F90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36753-C869-4DC2-9C0E-F722305EA3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29FB2-3A50-40C5-8BE0-242E64403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D823D-8D68-4A82-B7B4-C4E9B1545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B0069-3BB2-4695-A4C7-8B4E10420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9B9C8-44F0-4245-84CC-D95D5E19C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E69C9-F544-4945-AB1F-97CB70989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27950-71B1-4354-973B-1052C5111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30FB1-564E-4687-98BC-5C88217EE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431F2-9186-47AF-8BC4-80CD007F1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EF68-5A9E-47C7-BF06-FD6F0B9E9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C8503-B306-4A1D-8752-E83869310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82130B-04DF-4530-9E16-D42C9A2DAD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5174BB-184A-4499-9AD5-1388BC90C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AE57B-3F31-497F-8899-697DCC52E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882DDB-404B-49C9-A690-549813BE8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E9DB8-DA8E-4CD6-BD17-D29924A76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96A78-D01B-4761-9FCA-169F4B3C4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E1642-F9C2-4127-917A-E56DC0CA3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D2E90-8242-4C21-AE46-7188E2E95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65804-EF6B-4088-9EFB-833D581A3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2F8A-AD03-4F83-BC40-5A4E92CE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2ACE5-E579-488F-896C-66EDCC28E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F76CF-5A90-4CBA-A9C8-2CE922394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D6A3E-CCC0-4F55-B0C0-7F507812F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71C731-E40A-4E96-ACC4-C711F63F3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BB6CA-7F26-4485-8E56-FDCD24A45C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1D1C-40CA-40FE-AA35-B6F0FE53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3657B-F880-455F-B07C-AAA58975A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A075-309A-41A4-8692-4B07E1BF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6B761-8EBE-4373-A83E-6A37315A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0FE18-36F3-4137-B927-4DC3991F0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B00B-90B6-493D-AF48-53DB598F1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580E-E65E-4981-972B-EFB9876D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E5A34-5E93-43F4-B337-7090AE0A1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ADFDA-B03B-406A-AF69-145833BDA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74785-81DB-460B-A706-19969D035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1807-BE61-495D-A416-2EC23589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C0BA-3CC8-4982-B7CE-F59BDF31C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D546-3D3E-4961-B28B-AFE36A7E2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1FEB5-2185-4E52-A9DE-761D63D72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54B84-7EEC-4050-8A5E-875B060D0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AEF64-68D6-48D0-B54B-3AC78A06A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F1CF-5DED-401F-B665-34E6B41CD88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AF83-86A9-4637-8302-7540A2E071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D099-C5CB-46C1-B1BC-0E8B7C563D6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947B-D939-4B89-AD6F-3F101E768D75}"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C15A-A4C7-4170-8018-4D0256C89880}"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441C-6712-44FB-A6DB-79E1B83AE27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E19A-D083-48C1-9BC2-F8A6502492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447560"/>
            <a:ext cx="8229600" cy="4267080"/>
          </a:xfrm>
          <a:prstGeom prst="rect">
            <a:avLst/>
          </a:prstGeom>
          <a:noFill/>
          <a:ln w="0">
            <a:noFill/>
          </a:ln>
        </p:spPr>
        <p:txBody>
          <a:bodyPr anchor="t">
            <a:normAutofit fontScale="99000"/>
          </a:bodyPr>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0E20-47DC-457B-BE8D-F12CA203A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D033-D023-4300-BB6C-59AEB714F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CEE3-CFC9-4F93-99ED-7FE6E199AD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01T20:34:36Z</dcterms:modified>
  <cp:revision>147</cp:revision>
  <dc:subject/>
  <dc:title>GEF Orientation Session for New Council and Alternate Members</dc:title>
</cp:coreProperties>
</file>