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49D8-68F0-4B66-99C5-536E9D565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062C09C-F358-490D-A8BD-B49050F3EF81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1D2FFE6-C450-46B6-93A1-C7E560E1B6BD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E5E0216-C764-4EA3-8075-BD371DE30E72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270BDB0-36DE-45C9-AE22-D37A6A742FAD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AB8A273-F17C-481E-BAFA-18694C83F3A0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D3EC-37C0-4F3E-8BF1-8482522C58C5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4B46F1B-CB03-42D0-BD75-DDB0B49B584E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5988-3D05-4E03-8951-83C76BBB21CA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8C5A327-8395-4741-BBB3-BC1D88EF2DCC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7769-486C-4010-B8D7-8F9CE23A34A8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2292C6D-F5B8-47DE-9BB2-A0A8A3A9E080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D3BE-D3C2-49BD-8009-0BD57E0E552D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82F0628-DC18-461F-B5BA-44827A25339F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4A0-3858-422B-ABEB-A232C3B0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C8E-AF04-4E3C-BC18-E72C5F07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47C-C7CC-47BA-9454-CA8BD39F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A33-D9BD-4E17-8CF2-F6E412A8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523-7BD3-49CC-A7C3-6701B4EF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E00A-8074-40EC-A5E6-94484D2A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5A83-CCE3-4861-9C46-B5ED2478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C4EA-C6FD-4855-9E08-C144958D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F10F-370B-4034-9EE0-DBAD3FBF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D0A-FBB0-4925-A340-F7702AB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073-3823-4A64-86C6-A1F60E1A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24B6-2344-4381-88AA-27249EEF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2814-B868-415F-8BE6-ACC8B457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54E1-5680-4E35-BC82-5FC8537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5A10-F3EA-4385-8DC2-4EB32677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631E-410B-4F5D-9F55-8EB4A3AF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84FC-AC79-4732-B2D1-ABA85B1A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861B-1FAC-493C-B5C7-CE4C0E74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E176D-4282-445D-AFC3-38CDFBFD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10CD-9D24-4530-BF00-98AB629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471A-1E13-4068-8B57-459E43E1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D91-9599-41C0-BED2-22EAB0F5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69B1-63A0-49CA-84B8-E07CBEE6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58AC-043A-42E8-9567-7A131E85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6802-8614-4ED9-97E0-7E6C83B1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C9CA-D57D-46E1-855B-DAC816A0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05BF-4D88-4349-9A6A-5E9418DC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29CA-5641-422F-B7D1-BF37D7C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DF266-F7F6-4A04-82E8-EB12C9E1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1089-B30B-423D-A344-FA97270A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1830-B102-4793-81ED-528668FD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4F3-0191-4265-B8DA-CE15FD45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5F7-13AD-4B09-8558-2784F535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63699-DBD8-42BE-BC47-C02C90F6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D320-CA4A-4182-B6F5-D0850A5B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76CBB-D3D1-45FD-9A8F-0AE4FA2D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E422-91E5-4B2B-B18A-4FCCB29C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4D43C-B299-458B-9622-DDFE62CD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08A3-082F-4C79-AD0C-6C43F2A0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4138-D670-4DE4-85E5-750F467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EB484-6F6F-41A5-98FA-C082C78C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D2B25-EC99-45BE-AEB6-3F188052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66E-1BFC-44BE-8B2C-C47AEC2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A659-1AD4-4FD3-A0BA-37F09797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88D5-9F93-46E9-9243-97D85539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7D00-C185-47B5-9BE0-65B40173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689-367F-419E-A1AF-994739DF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3EC-3E71-427F-867A-1AB5655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06E7-8AA2-447E-BBD0-49E8E7F60EBC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C806-54A3-4F76-952D-7C7EB7D4DBAC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D56B-022A-49C1-9777-B64AC84E3E3C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887E-B473-43B4-A689-6B1B3EBC6B10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11-01T18:25:13Z</dcterms:modified>
  <cp:revision>491</cp:revision>
  <dc:subject/>
  <dc:title>PowerPoint Presentation</dc:title>
</cp:coreProperties>
</file>