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1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 type="sldNum" idx="1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8189-124A-4E15-81DE-997AEDA36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78859C1-D3B0-45D9-AEE6-3353B3A532E9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64AD104-9806-4057-B818-687562F4BF86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32A6EF7-C076-480C-8F6D-33E889B6B4AB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A42AF0E-0C12-4A46-B5FF-E06219ED1533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780B129-6E36-4A64-85C1-EF7522FF8EC4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408C-1AC2-4DA2-A6FA-2B2032AD9F85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B98ED28-8421-4EC1-82AA-AA1C8C448E9E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3F22-E3A1-4A0D-B3F3-5985DFF9B18F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0B8F626-2B40-46CE-9B5E-22B3ADE03D73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D779-EC80-4B70-9005-A8439365A4B5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1744095-785D-4569-873D-8007E3F17601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0AC8-9671-4018-AF4B-E5D4023F8D6B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5662428-3D2C-43B9-9B83-AA5685F73DEE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38D4-A95A-48FD-9520-F144C798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3EE-1798-489A-BFA4-19404349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5D0-849A-4AF8-A422-03BB939E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5EC-FC4E-4FB2-BB40-899C130F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3C3C-DF61-4789-9DA3-4D6A4959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1966-7F49-46E1-BEFB-375DBCB5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3996-AFF2-47B1-AA5C-DAF758DD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35EB-CB49-49E5-A415-09C612C0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0346-E799-4B29-845D-C1DF8473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3682-455D-41B2-B92E-124C2E0A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C5D-0162-46EE-98CF-CBE24351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A193-0891-410D-BE75-DE09CCA1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A045-60FE-4AEF-9B23-0114326E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324F-39A8-4211-9BE7-D24B015B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5873-0FCA-4DF3-BEA1-D0E3CDD8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038D-47AA-4040-BF9B-9B78F1DC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333E-76A8-4FA1-9D1B-CB42719D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B051-763E-4E6F-A453-4E39C447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E0287-140E-4555-AE18-2F74F70D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6459F-BB8D-4467-9AEB-BD105F80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39E07-B67E-4640-92E6-8EEBDEE2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93C-AF71-4779-9BFC-EB575373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62C57-7C18-4343-82A6-652C28D1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2C4C4-4B68-4DE7-BA4C-BAC8F03E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69B8D-A98C-4477-9458-33191D53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6B095-83A9-4204-B81A-B91AA41D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D6B9C-D263-4BBD-82F6-8A2C4BB1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F4A14-B2CB-4D77-8FBB-93EC1AD9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F39DC-E755-4A45-A9E0-895101B0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49721-24F1-4AD2-9645-779EC28A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E17D3-6DBD-4B38-844C-484B5C47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2925-42F1-43A8-B47E-847B7117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ED04-AF76-42C8-A334-AE2B7B5E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75D69-05EB-4F8C-A109-A5D6DCBC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2A90C-5D0B-46FF-A7D8-89A31BB7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1FD17-748B-4DCA-B442-A50FB975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FE13D-9F7E-4417-A6A5-952F21BA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29285-CFF3-4C25-A817-E6ABAC84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FCE7F-794C-4AD8-BE6C-128B991E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F60DB-4A82-4F3A-B37B-2085E801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31209-9C69-49C8-8EEA-32D49D68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068FE-ACC3-4161-957A-7D98DF57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03C-203E-4C9C-BDCC-7E8054B7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18B29-39E4-43B2-8E5A-67CBE760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ED7B7-07D7-42F3-A812-1FA200F7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3E53E-8A8F-43B5-B0DA-54DBFDBD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654E-0904-4CE6-890A-F4B5607B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3DD1-0F5D-426E-B6EB-B571128F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61.xml"/><Relationship Id="rId16" Type="http://schemas.openxmlformats.org/officeDocument/2006/relationships/slideLayout" Target="../slideLayouts/slideLayout62.xml"/><Relationship Id="rId17" Type="http://schemas.openxmlformats.org/officeDocument/2006/relationships/slideLayout" Target="../slideLayouts/slideLayout63.xml"/><Relationship Id="rId18" Type="http://schemas.openxmlformats.org/officeDocument/2006/relationships/slideLayout" Target="../slideLayouts/slideLayout64.xml"/><Relationship Id="rId19" Type="http://schemas.openxmlformats.org/officeDocument/2006/relationships/slideLayout" Target="../slideLayouts/slideLayout65.xml"/><Relationship Id="rId20" Type="http://schemas.openxmlformats.org/officeDocument/2006/relationships/slideLayout" Target="../slideLayouts/slideLayout66.xml"/><Relationship Id="rId21" Type="http://schemas.openxmlformats.org/officeDocument/2006/relationships/slideLayout" Target="../slideLayouts/slideLayout67.xml"/><Relationship Id="rId22" Type="http://schemas.openxmlformats.org/officeDocument/2006/relationships/slideLayout" Target="../slideLayouts/slideLayout68.xml"/><Relationship Id="rId23" Type="http://schemas.openxmlformats.org/officeDocument/2006/relationships/slideLayout" Target="../slideLayouts/slideLayout69.xml"/><Relationship Id="rId24" Type="http://schemas.openxmlformats.org/officeDocument/2006/relationships/slideLayout" Target="../slideLayouts/slideLayout70.xml"/><Relationship Id="rId25" Type="http://schemas.openxmlformats.org/officeDocument/2006/relationships/slideLayout" Target="../slideLayouts/slideLayout71.xml"/><Relationship Id="rId2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0" b="9529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F47F-90F8-4CDD-A41C-3A66E4AF0233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icture 10"/>
          <p:cNvSpPr/>
          <p:nvPr/>
        </p:nvSpPr>
        <p:spPr>
          <a:xfrm>
            <a:off x="6018120" y="131760"/>
            <a:ext cx="2895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1360440"/>
            <a:ext cx="9144000" cy="0"/>
          </a:xfrm>
          <a:prstGeom prst="line">
            <a:avLst/>
          </a:prstGeom>
          <a:ln w="25560">
            <a:solidFill>
              <a:srgbClr val="7f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12" name="Picture 10" descr=""/>
          <p:cNvPicPr/>
          <p:nvPr/>
        </p:nvPicPr>
        <p:blipFill>
          <a:blip r:embed="rId3"/>
          <a:stretch/>
        </p:blipFill>
        <p:spPr>
          <a:xfrm>
            <a:off x="6019920" y="152280"/>
            <a:ext cx="289548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50" name="Picture 40" descr=""/>
          <p:cNvPicPr/>
          <p:nvPr/>
        </p:nvPicPr>
        <p:blipFill>
          <a:blip r:embed="rId2"/>
          <a:stretch/>
        </p:blipFill>
        <p:spPr>
          <a:xfrm>
            <a:off x="533520" y="6161040"/>
            <a:ext cx="249120" cy="48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1" descr=""/>
          <p:cNvPicPr/>
          <p:nvPr/>
        </p:nvPicPr>
        <p:blipFill>
          <a:blip r:embed="rId3"/>
          <a:stretch/>
        </p:blipFill>
        <p:spPr>
          <a:xfrm>
            <a:off x="1227240" y="6181560"/>
            <a:ext cx="382320" cy="44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2" descr=""/>
          <p:cNvPicPr/>
          <p:nvPr/>
        </p:nvPicPr>
        <p:blipFill>
          <a:blip r:embed="rId4"/>
          <a:stretch/>
        </p:blipFill>
        <p:spPr>
          <a:xfrm>
            <a:off x="2055960" y="6205680"/>
            <a:ext cx="558720" cy="39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"/>
          <p:cNvPicPr/>
          <p:nvPr/>
        </p:nvPicPr>
        <p:blipFill>
          <a:blip r:embed="rId5"/>
          <a:stretch/>
        </p:blipFill>
        <p:spPr>
          <a:xfrm>
            <a:off x="3062160" y="620244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4" descr=""/>
          <p:cNvPicPr/>
          <p:nvPr/>
        </p:nvPicPr>
        <p:blipFill>
          <a:blip r:embed="rId6"/>
          <a:stretch/>
        </p:blipFill>
        <p:spPr>
          <a:xfrm>
            <a:off x="5835600" y="6257880"/>
            <a:ext cx="293760" cy="295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5" descr=""/>
          <p:cNvPicPr/>
          <p:nvPr/>
        </p:nvPicPr>
        <p:blipFill>
          <a:blip r:embed="rId7"/>
          <a:stretch/>
        </p:blipFill>
        <p:spPr>
          <a:xfrm>
            <a:off x="3911760" y="6238800"/>
            <a:ext cx="606240" cy="33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"/>
          <p:cNvPicPr/>
          <p:nvPr/>
        </p:nvPicPr>
        <p:blipFill>
          <a:blip r:embed="rId8"/>
          <a:stretch/>
        </p:blipFill>
        <p:spPr>
          <a:xfrm>
            <a:off x="8458200" y="6188040"/>
            <a:ext cx="285840" cy="43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"/>
          <p:cNvPicPr/>
          <p:nvPr/>
        </p:nvPicPr>
        <p:blipFill>
          <a:blip r:embed="rId9"/>
          <a:stretch/>
        </p:blipFill>
        <p:spPr>
          <a:xfrm>
            <a:off x="6575400" y="6192720"/>
            <a:ext cx="331920" cy="425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"/>
          <p:cNvPicPr/>
          <p:nvPr/>
        </p:nvPicPr>
        <p:blipFill>
          <a:blip r:embed="rId10"/>
          <a:stretch/>
        </p:blipFill>
        <p:spPr>
          <a:xfrm>
            <a:off x="4962600" y="6229440"/>
            <a:ext cx="426960" cy="35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"/>
          <p:cNvPicPr/>
          <p:nvPr/>
        </p:nvPicPr>
        <p:blipFill>
          <a:blip r:embed="rId11"/>
          <a:stretch/>
        </p:blipFill>
        <p:spPr>
          <a:xfrm>
            <a:off x="7353360" y="6176880"/>
            <a:ext cx="658800" cy="45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1" descr=""/>
          <p:cNvPicPr/>
          <p:nvPr/>
        </p:nvPicPr>
        <p:blipFill>
          <a:blip r:embed="rId12"/>
          <a:stretch/>
        </p:blipFill>
        <p:spPr>
          <a:xfrm>
            <a:off x="3962520" y="304920"/>
            <a:ext cx="4862520" cy="623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3080" y="3940200"/>
            <a:ext cx="8319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2" name="Picture 20" descr="GEF-new_small.jpg"/>
          <p:cNvPicPr/>
          <p:nvPr/>
        </p:nvPicPr>
        <p:blipFill>
          <a:blip r:embed="rId13"/>
          <a:stretch/>
        </p:blipFill>
        <p:spPr>
          <a:xfrm>
            <a:off x="252360" y="119160"/>
            <a:ext cx="81936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1317600" y="3576240"/>
            <a:ext cx="868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regional Workshop for GEF Focal Point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4" name="Picture 16" descr="sunset east africa.jpg"/>
          <p:cNvPicPr/>
          <p:nvPr/>
        </p:nvPicPr>
        <p:blipFill>
          <a:blip r:embed="rId14"/>
          <a:stretch/>
        </p:blipFill>
        <p:spPr>
          <a:xfrm>
            <a:off x="0" y="10717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419040" y="3571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ub-Regional Workshop for GEF Focal Points in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71680" y="2428920"/>
            <a:ext cx="815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Country Support Programme</a:t>
            </a:r>
            <a:endParaRPr b="0" lang="en-US" sz="36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C9A2-EBA0-474D-8490-41E5FD0F6561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1705-9F75-4A0E-AEE2-B0FEADBAF976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22" name="Picture 40" descr=""/>
          <p:cNvPicPr/>
          <p:nvPr/>
        </p:nvPicPr>
        <p:blipFill>
          <a:blip r:embed="rId2"/>
          <a:stretch/>
        </p:blipFill>
        <p:spPr>
          <a:xfrm>
            <a:off x="533520" y="6161040"/>
            <a:ext cx="249120" cy="488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1" descr=""/>
          <p:cNvPicPr/>
          <p:nvPr/>
        </p:nvPicPr>
        <p:blipFill>
          <a:blip r:embed="rId3"/>
          <a:stretch/>
        </p:blipFill>
        <p:spPr>
          <a:xfrm>
            <a:off x="1227240" y="6181560"/>
            <a:ext cx="382320" cy="449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2" descr=""/>
          <p:cNvPicPr/>
          <p:nvPr/>
        </p:nvPicPr>
        <p:blipFill>
          <a:blip r:embed="rId4"/>
          <a:stretch/>
        </p:blipFill>
        <p:spPr>
          <a:xfrm>
            <a:off x="2055960" y="6205680"/>
            <a:ext cx="558720" cy="399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3" descr=""/>
          <p:cNvPicPr/>
          <p:nvPr/>
        </p:nvPicPr>
        <p:blipFill>
          <a:blip r:embed="rId5"/>
          <a:stretch/>
        </p:blipFill>
        <p:spPr>
          <a:xfrm>
            <a:off x="3062160" y="620244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4" descr=""/>
          <p:cNvPicPr/>
          <p:nvPr/>
        </p:nvPicPr>
        <p:blipFill>
          <a:blip r:embed="rId6"/>
          <a:stretch/>
        </p:blipFill>
        <p:spPr>
          <a:xfrm>
            <a:off x="5835600" y="6257880"/>
            <a:ext cx="293760" cy="295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5" descr=""/>
          <p:cNvPicPr/>
          <p:nvPr/>
        </p:nvPicPr>
        <p:blipFill>
          <a:blip r:embed="rId7"/>
          <a:stretch/>
        </p:blipFill>
        <p:spPr>
          <a:xfrm>
            <a:off x="3911760" y="6238800"/>
            <a:ext cx="606240" cy="333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6" descr=""/>
          <p:cNvPicPr/>
          <p:nvPr/>
        </p:nvPicPr>
        <p:blipFill>
          <a:blip r:embed="rId8"/>
          <a:stretch/>
        </p:blipFill>
        <p:spPr>
          <a:xfrm>
            <a:off x="8458200" y="6188040"/>
            <a:ext cx="285840" cy="434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7" descr=""/>
          <p:cNvPicPr/>
          <p:nvPr/>
        </p:nvPicPr>
        <p:blipFill>
          <a:blip r:embed="rId9"/>
          <a:stretch/>
        </p:blipFill>
        <p:spPr>
          <a:xfrm>
            <a:off x="6575400" y="6192720"/>
            <a:ext cx="331920" cy="425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8" descr=""/>
          <p:cNvPicPr/>
          <p:nvPr/>
        </p:nvPicPr>
        <p:blipFill>
          <a:blip r:embed="rId10"/>
          <a:stretch/>
        </p:blipFill>
        <p:spPr>
          <a:xfrm>
            <a:off x="4962600" y="6229440"/>
            <a:ext cx="426960" cy="352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9" descr=""/>
          <p:cNvPicPr/>
          <p:nvPr/>
        </p:nvPicPr>
        <p:blipFill>
          <a:blip r:embed="rId11"/>
          <a:stretch/>
        </p:blipFill>
        <p:spPr>
          <a:xfrm>
            <a:off x="7353360" y="6176880"/>
            <a:ext cx="65880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1" descr=""/>
          <p:cNvPicPr/>
          <p:nvPr/>
        </p:nvPicPr>
        <p:blipFill>
          <a:blip r:embed="rId12"/>
          <a:stretch/>
        </p:blipFill>
        <p:spPr>
          <a:xfrm>
            <a:off x="3962520" y="304920"/>
            <a:ext cx="4862520" cy="6238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"/>
          <p:cNvSpPr/>
          <p:nvPr/>
        </p:nvSpPr>
        <p:spPr>
          <a:xfrm>
            <a:off x="343080" y="3940200"/>
            <a:ext cx="8319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34" name="Picture 20" descr="GEF-new_small.jpg"/>
          <p:cNvPicPr/>
          <p:nvPr/>
        </p:nvPicPr>
        <p:blipFill>
          <a:blip r:embed="rId13"/>
          <a:stretch/>
        </p:blipFill>
        <p:spPr>
          <a:xfrm>
            <a:off x="252360" y="119160"/>
            <a:ext cx="819360" cy="9525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1317600" y="3576240"/>
            <a:ext cx="868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regional Workshop for GEF Focal Point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36" name="Picture 16" descr="sunset east africa.jpg"/>
          <p:cNvPicPr/>
          <p:nvPr/>
        </p:nvPicPr>
        <p:blipFill>
          <a:blip r:embed="rId14"/>
          <a:stretch/>
        </p:blipFill>
        <p:spPr>
          <a:xfrm>
            <a:off x="0" y="10717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4"/>
          <p:cNvSpPr/>
          <p:nvPr/>
        </p:nvSpPr>
        <p:spPr>
          <a:xfrm>
            <a:off x="419040" y="3571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ub-Regional Workshop for GEF Focal Points in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571680" y="2428920"/>
            <a:ext cx="815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Country Support Programme</a:t>
            </a:r>
            <a:endParaRPr b="0" lang="en-US" sz="36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0563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2189-A7E3-4BBC-AD72-67C2E6284A56}" type="slidenum">
              <a:rPr b="0" lang="en-US" sz="2400" spc="-1" strike="noStrike">
                <a:solidFill>
                  <a:srgbClr val="60563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5"/>
    <p:sldLayoutId id="2147483715" r:id="rId16"/>
    <p:sldLayoutId id="2147483716" r:id="rId17"/>
    <p:sldLayoutId id="2147483717" r:id="rId18"/>
    <p:sldLayoutId id="2147483718" r:id="rId19"/>
    <p:sldLayoutId id="2147483719" r:id="rId20"/>
    <p:sldLayoutId id="2147483720" r:id="rId21"/>
    <p:sldLayoutId id="2147483721" r:id="rId22"/>
    <p:sldLayoutId id="2147483722" r:id="rId23"/>
    <p:sldLayoutId id="2147483723" r:id="rId24"/>
    <p:sldLayoutId id="2147483724" r:id="rId25"/>
    <p:sldLayoutId id="2147483725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71280" y="1988640"/>
            <a:ext cx="749916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Country Support Programme (CSP)</a:t>
            </a:r>
            <a:br>
              <a:rPr sz="2000"/>
            </a:br>
            <a:endParaRPr b="0" lang="en-US" sz="41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87" name="Subtitle 4"/>
          <p:cNvSpPr/>
          <p:nvPr/>
        </p:nvSpPr>
        <p:spPr>
          <a:xfrm>
            <a:off x="900000" y="3809880"/>
            <a:ext cx="7056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320" name="Rounded Rectangle 4"/>
          <p:cNvSpPr/>
          <p:nvPr/>
        </p:nvSpPr>
        <p:spPr>
          <a:xfrm>
            <a:off x="1835280" y="1844640"/>
            <a:ext cx="504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e4dc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For more information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contact the GEF Secretariat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21840" y="1196640"/>
            <a:ext cx="88218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SP provides flexible support to countries (particularly the focal points) so that they 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strengthen their capac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work with the GEF</a:t>
            </a: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d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by the GEF Secretariat</a:t>
            </a: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SP components ar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tional Portfolio Formulation Exercise (NPFE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ulti-stakeholder Dialogue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panded Constituency-level Workshops (ECW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tituency Meetings (Council Member support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rect support to operational focal points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nowledge management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miliarization Seminars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92468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2d"/>
                </a:solidFill>
                <a:latin typeface="Calibri"/>
              </a:rPr>
              <a:t>Country Support  Progamme </a:t>
            </a:r>
            <a:br>
              <a:rPr sz="3400"/>
            </a:br>
            <a:r>
              <a:rPr b="1" lang="en-US" sz="3400" spc="-1" strike="noStrike">
                <a:solidFill>
                  <a:srgbClr val="00642d"/>
                </a:solidFill>
                <a:latin typeface="Calibri"/>
              </a:rPr>
              <a:t>General Issues</a:t>
            </a:r>
            <a:endParaRPr b="1" lang="en-US" sz="3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9000"/>
            <a:ext cx="876312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1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93" name="Rounded Rectangle 4"/>
          <p:cNvSpPr/>
          <p:nvPr/>
        </p:nvSpPr>
        <p:spPr>
          <a:xfrm>
            <a:off x="179280" y="1484280"/>
            <a:ext cx="7417080" cy="720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roughout the GEF’s history, country programming has been traditionally mediated by the GEF Agencies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4" name="Rounded Rectangle 5"/>
          <p:cNvSpPr/>
          <p:nvPr/>
        </p:nvSpPr>
        <p:spPr>
          <a:xfrm>
            <a:off x="900000" y="2276640"/>
            <a:ext cx="7993080" cy="105876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furthe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strengthen GEF’s strategic engagement at country-leve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each country can now prepare, with GEF financial support, a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ational Portfolio Formulation Exercise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5" name="Rounded Rectangle 9"/>
          <p:cNvSpPr/>
          <p:nvPr/>
        </p:nvSpPr>
        <p:spPr>
          <a:xfrm>
            <a:off x="900000" y="4724280"/>
            <a:ext cx="8064720" cy="86544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PFE is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ot a prerequisite for GEF project funding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6" name="Rounded Rectangle 7"/>
          <p:cNvSpPr/>
          <p:nvPr/>
        </p:nvSpPr>
        <p:spPr>
          <a:xfrm>
            <a:off x="900000" y="3429000"/>
            <a:ext cx="8064720" cy="1224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Covers all relevant focal area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describes how GEF allocations will be programmed with projects/programs that reflect national/regional priorities to benefit the global environment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240" y="260280"/>
            <a:ext cx="853452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2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9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paration of NPFE should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consultative and participato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coordinated by GEF Operational Focal Points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0" name="Rounded Rectangle 5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shall select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experienced and competen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ional entity to conduct the exercise. 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1" name="Rounded Rectangle 6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untries that decide to conduct portfolio exercises will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granted up to $30,000 USD</a:t>
            </a:r>
            <a:r>
              <a:rPr b="0" lang="en-US" sz="2200" spc="-1" strike="noStrike">
                <a:solidFill>
                  <a:srgbClr val="bf3611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the corporate programs budget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2" name="Rounded Rectangle 7"/>
          <p:cNvSpPr/>
          <p:nvPr/>
        </p:nvSpPr>
        <p:spPr>
          <a:xfrm>
            <a:off x="4356000" y="4292640"/>
            <a:ext cx="4680000" cy="136836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al documents will be shared with respective conventions fo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public disclosure and on the GEF Web site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3" name="Rounded Rectangle 8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ed through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direct ac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odality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0" y="1341360"/>
            <a:ext cx="9144000" cy="448668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dialogue with GEF Secretariat the country prepares the proposal (including the budget). 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The selected national entity must fill out Simplified Financial Management Assessment Report.</a:t>
            </a: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Secretariat clears the proposal and the CEO approves it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l documents are signed between the country and the GEF CE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undertakes the national portfolio formulation exercise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ce the national portfolio formulation exercise has been completed, an activity finalization report is submitted to the Secretariat 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Including financial disbursement requirements and audit report</a:t>
            </a: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56944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600" spc="-1" strike="noStrike">
                <a:solidFill>
                  <a:srgbClr val="00642d"/>
                </a:solidFill>
                <a:latin typeface="Calibri"/>
              </a:rPr>
              <a:t>National Portfolio Formulation Exercise  - Implementation process (3)</a:t>
            </a:r>
            <a:endParaRPr b="1" lang="en-US" sz="26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391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Dialogue among multiple interested parties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8920" y="1557360"/>
            <a:ext cx="8425080" cy="4146480"/>
          </a:xfrm>
          <a:prstGeom prst="rect">
            <a:avLst/>
          </a:prstGeom>
          <a:solidFill>
            <a:srgbClr val="c3b17b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dialogue follows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guidelines for the National Dialogue Initiative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pose is to provid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lexible suppor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vening national meetings, aim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o share and enrich the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experiences of the various parties involved in sustainable development activiti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ed to result in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trengthening of donor coordin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clarification of policies and procedur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will b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t the request of the operational focal point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792144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/Expanded Constituency Workshops (ECW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79280" y="1557000"/>
            <a:ext cx="8856720" cy="3988080"/>
          </a:xfrm>
          <a:prstGeom prst="rect">
            <a:avLst/>
          </a:prstGeom>
          <a:solidFill>
            <a:srgbClr val="ccd5cc"/>
          </a:solidFill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Ws ar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ce a yea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provide information on the strategies, policies, and procedures of the GEF and to encourage coordination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Ws invite, in addition to the GEF focal points, the convention focal points and civil society,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p to 6 participants per country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rganized by the GEF 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e agenda is prepared to reflect participants’ need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number of countries/participants so permits,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ore than one constituency may meet at the same time 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4250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 (Constituency Meetings and Direct Support for Operational Focal Points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50560" y="1699920"/>
            <a:ext cx="8553240" cy="4450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ariat financ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e Constituency meeting a year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ned by the Council Member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uncil member receiv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3,000 for logistic support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purpose of the meeting is to discuss Council meeting documents and agree on a joint position on issues. 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Support for Operational Focal Points i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9,0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 year, based on the Annual Work Plan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is to conduct activities that facilitate their work as Operational Focal Point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3915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(Knowledge Management and Familiarization Seminars</a:t>
            </a:r>
            <a:r>
              <a:rPr b="1" lang="es-ES_tradnl" sz="28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560" y="1643040"/>
            <a:ext cx="8481960" cy="4247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owledge Management: This component will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reflect the evolving needs of GEF focal poi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the needs of other relevant stakeholder groups, in particular convention focal point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575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omponent will also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include information on the adaptation fun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dministered by the GEF (Least Developed Countries Fund and  Special Climate Change Fund)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familiarization seminars will be held once a year in Washington, D.C. to train a number of (new) country focal points and GEF Agency staff on GEF strategies, policies and procedur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wb350798</cp:lastModifiedBy>
  <dcterms:modified xsi:type="dcterms:W3CDTF">2011-11-01T18:25:13Z</dcterms:modified>
  <cp:revision>491</cp:revision>
  <dc:subject/>
  <dc:title>PowerPoint Presentation</dc:title>
</cp:coreProperties>
</file>