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10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20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11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Num" idx="12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31266-CCCC-474A-93FF-396F83D3A8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A7A60-B2C2-4CF9-825C-80F79029296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GP is predicated on the idea that community-driven, stakeholder owned, civil society and community led initiatives that generate local as well as global benefits are among the most effective ways to address global environmental challen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effect, SGP operationalizes the maxim “think globally, act locally,” and has, based on its effectiveness at the community-level, become the “public face” of the GEF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GP supports community-level initiatives across the range of global environmental issues addressed by the GEF, and participation, corporate management, democracy, flexibility, and transparency are cornerstones of the SGP approac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mmunities targeted by SGP are often the poorest and most vulnerable, and typically have low levels of capacity to adequately address global environmental problem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2338F-6C17-4DAA-846A-9A917740A1B2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3E62-2576-48A4-9966-FFB2CF39A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F5CC-961B-40CB-812E-05F2B32C7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6AA0-43E4-4404-AB8D-615EE6E9A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89AC-F45D-42A4-8157-3B4958990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24255-A607-47E8-907D-F1549EA0D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3C12D-8894-4DB5-BCAC-72F737297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0C87E-D89E-49A9-8794-BCEDB2920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97212-C1C9-4813-B3AD-0114E5634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0B50A-4168-4657-80A0-38BC912F8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2818C-5E11-47DF-B80B-FAF979F17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2F200-5E29-4A18-BBB0-66234329D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6FA7-D5AD-42F5-807F-27BF05AC5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438E7-1401-4AAD-964F-A24125C8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57070-318D-4C45-9A15-E257584F0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CB615-613C-4204-8BD0-971E394C0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47247-7203-41CB-8FDD-ACBD258E6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D46CE-01E9-49DD-B88B-C1A6EFD63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46E6E-E00D-4FF9-BCA6-B99063A3D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70ADB-6B46-46AE-977A-7A697661C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77BCF-53FE-4575-B265-8CCEA88F7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AA68F-3F21-453A-881D-A8C5AA6F7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29A02-823D-427E-BEC9-F56C41BFA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B4A8-427B-4DC4-892B-E4C6F99E6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ACB3E-3E6A-419F-9F24-9E00C215E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58559-F109-4038-97F9-EF27D8D0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839B6-9DF7-4557-A77A-3505945F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C8344-1273-49B2-8431-089B6CDC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C64F1-2659-47D0-8969-3F60629F0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D2593-72A8-44B4-9E89-C2BBD3F42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D28AE-A686-4CD7-94EE-D565EBE0F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99DD-BEA3-43FE-AA91-3E7E132D3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E9CB-378C-4A0B-83B3-60166F148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0D75-40B9-4762-8EBB-5F4F46F60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D5CA-E099-4880-81C8-04ABD91FA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E5A2-ED02-4DA8-97EB-CE80041B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6B2F-24C9-49CD-8FAA-E9A145B7A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6D8C2-37FB-46B1-96EC-F3915DDD12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6"/>
          <p:cNvGrpSpPr/>
          <p:nvPr/>
        </p:nvGrpSpPr>
        <p:grpSpPr>
          <a:xfrm>
            <a:off x="0" y="-28440"/>
            <a:ext cx="9144000" cy="1247760"/>
            <a:chOff x="0" y="-28440"/>
            <a:chExt cx="9144000" cy="1247760"/>
          </a:xfrm>
        </p:grpSpPr>
        <p:pic>
          <p:nvPicPr>
            <p:cNvPr id="42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-284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-27360"/>
              <a:ext cx="91198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B2131-5C19-407C-B9BE-FAC5238870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40537-33DA-4E5D-ABF1-1349B4A63A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  <a:ea typeface="Arial"/>
              </a:rPr>
              <a:t>GEF Small Grants Progra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ubtitle 4"/>
          <p:cNvSpPr/>
          <p:nvPr/>
        </p:nvSpPr>
        <p:spPr>
          <a:xfrm>
            <a:off x="1219320" y="4191120"/>
            <a:ext cx="67053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15 to 17 February 201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Dead Sea, Jord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58ed5"/>
                </a:solidFill>
                <a:latin typeface="Calibri"/>
              </a:rPr>
              <a:t>Financial Framework: STAR Resourc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6"/>
          <p:cNvSpPr/>
          <p:nvPr/>
        </p:nvSpPr>
        <p:spPr>
          <a:xfrm>
            <a:off x="380880" y="1295280"/>
            <a:ext cx="8229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For country programs in Category I and Category II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untries which have an indicative overall STAR country allocation of up to $15 million, a maximum cumulative amount total of $2.4 million, with an average of up to $600,000 per year can be allocated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untries which have an indicative overall STAR country allocation of more than $15 million will no longer be able to access the SGP’s core funding and will need to finance their projects from their STAR allocations. A maximum cumulative amount of up to $3.6 million, with an average up to $900,000 per year can be allocat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 new country entering the SGP with an indicative STAR country allocation can program a matching amount of STAR funds. For the second year and thereafter, the country will follow the standard guidelines above.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ank you!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Scope of GEF SGP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3352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SGP supports community-level initiatives across the range of global environmental issues addressed by the GE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GP operationalizes the maxim “think globally, act locally”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“public face” of the GEF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communities targeted by SGP are often the poorest and most vulnerab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ypically have low levels of capacity to adequately address global environmental problem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How it work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520" y="9907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e SGP is implemented by UNDP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Global level - managed by a Central Management Team (CPMT)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ountry level - National Coordinator (NC) and one assistan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Projects approved only at national/subregional level by National Steering Committee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National Steering Committee composed of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presentatives from civil society and community based organizations (always in majority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presentatives from government (usually OFP or his/her delegate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C serves as secretariat for National Steering Committ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GP provides small grants up to $50,000 USD to civil society and community based organization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e program is funded by the GEF from its replenishment agreement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40 million USD in GEF-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ll countries could allocate certain STAR resources using framework adopted by the Council in 2009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87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Results achieved by GEF SG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rogram has been operational since 199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ough its first 18 years, SGP has support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3,776 community-level projec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ver $300.3 million in fu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veraging over $414.2 million in cash and in-kind co-financ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Results achieved by GEF SG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09480" y="1523880"/>
          <a:ext cx="7848720" cy="4122720"/>
        </p:xfrm>
        <a:graphic>
          <a:graphicData uri="http://schemas.openxmlformats.org/drawingml/2006/table">
            <a:tbl>
              <a:tblPr/>
              <a:tblGrid>
                <a:gridCol w="3351240"/>
                <a:gridCol w="2557440"/>
                <a:gridCol w="1940040"/>
              </a:tblGrid>
              <a:tr h="7002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asic St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 Amou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verage Amou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umber of Proj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35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 Amount in Gra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322,163,944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23,860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69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 Amount of Cash Co-financin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216,382,767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16,026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 Amount of Kind Co-financin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340,084,832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25,188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 Amount of Co-financin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556,467,598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41,214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mber of Projects Implemented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Chart 5" descr=""/>
          <p:cNvPicPr/>
          <p:nvPr/>
        </p:nvPicPr>
        <p:blipFill>
          <a:blip r:embed="rId1"/>
          <a:stretch/>
        </p:blipFill>
        <p:spPr>
          <a:xfrm>
            <a:off x="536400" y="914400"/>
            <a:ext cx="78454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Chart 4" descr=""/>
          <p:cNvPicPr/>
          <p:nvPr/>
        </p:nvPicPr>
        <p:blipFill>
          <a:blip r:embed="rId1"/>
          <a:stretch/>
        </p:blipFill>
        <p:spPr>
          <a:xfrm>
            <a:off x="231840" y="304920"/>
            <a:ext cx="87598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Policy for GEF-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ategory I: All SIDS and LDC country programmes and country programmes that have been in operation for fewer than 5 years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ategory II: All country programmes that have been in operation between 5 and 15 years;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urther subdivided into those in operation between 5 and 9 years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9 and 12 years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2 and 15 years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ose in operation more than 15 years but with cumulative grants received of less than $6 million before GEF-5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ategory III: All country programmes that have been in operation for more than 15 years and have been able to access a cumulative total of more than $6 million in grants received before GEF-5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58ed5"/>
                </a:solidFill>
                <a:latin typeface="Calibri"/>
              </a:rPr>
              <a:t>Financial Framework: Core resourc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533520" y="1143000"/>
          <a:ext cx="8001000" cy="4038480"/>
        </p:xfrm>
        <a:graphic>
          <a:graphicData uri="http://schemas.openxmlformats.org/drawingml/2006/table">
            <a:tbl>
              <a:tblPr/>
              <a:tblGrid>
                <a:gridCol w="5715000"/>
                <a:gridCol w="2286000"/>
              </a:tblGrid>
              <a:tr h="3859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tegory 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mount in US$/ye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IDS/LDC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1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b-regional SIDS Programm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rst Year Country Programm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9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-5 Years Old Country Programm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4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tegory 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5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tegory IIa (5-9 year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4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tegory IIb (9-12 year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9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tegory IIc (12-15 years, and more than 15 years with accumulated grants amount lower than $6 millio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21:07:46Z</dcterms:created>
  <dc:creator>wb336064</dc:creator>
  <dc:description/>
  <dc:language>en-US</dc:language>
  <cp:lastModifiedBy>Lisa</cp:lastModifiedBy>
  <dcterms:modified xsi:type="dcterms:W3CDTF">2012-04-22T23:39:19Z</dcterms:modified>
  <cp:revision>68</cp:revision>
  <dc:subject/>
  <dc:title>GEF Small Grants Program</dc:title>
</cp:coreProperties>
</file>