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2FD5-BA97-4901-B18F-248CCF279C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5341-F53D-4485-9DC5-FE01A92CC08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is predicated on the idea that community-driven, stakeholder owned, civil society and community led initiatives that generate local as well as global benefits are among the most effective ways to address global environmental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ffect, SGP operationalizes the maxim “think globally, act locally,” and has, based on its effectiveness at the community-level, become the “public face” of the GEF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, and participation, corporate management, democracy, flexibility, and transparency are cornerstones of the SGP appro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, and typically have low levels of capacity to adequately address global environmental probl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CFD5-79C2-4707-A59F-A1499ABA980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FEE3-F9BA-4508-A536-DD4F8E65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350-1FE9-459D-B82C-A5E0EDF6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0CB4-339D-4476-AD78-08D281CE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47C-A7BE-43F5-BBCE-F42F4975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FBFA-FE46-4F02-86CD-E8465D32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C46C-45D4-4CE5-9FE5-A87A8FE9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CF54-58EC-4150-B03C-3F6D912C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FECA-46C6-4E5A-B74B-72634E23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678D-E748-42CC-8E7D-94E0D6F9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F552-F358-4103-BCD6-D4E3FF21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E3A5-C8F3-4465-B5C8-D2ED1A31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2693-DFE8-48DA-A0E5-5D23D390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191A-C019-4942-8A58-9B3209D3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8A20-B2EB-466F-BD88-4FA6715F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77C5-3C3B-44F3-9353-0C974D32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F633-5FFC-483D-9D75-C9D92422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E538-5F6F-47ED-92C7-D374609F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2F081-ED20-4CFD-87CA-29A49178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0D943-63B3-471C-B1C2-A66B3063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6B973-5B12-4D0A-8ADB-3F83BA80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DCF23-9A5D-49B5-A737-8C2EBBF5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5D43A-8893-471F-9D46-10B92E29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8EB8-8858-4184-8968-C9C1B19F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85295-A91B-4620-8170-4C060BAC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BE823-A2F8-45C0-981F-D316535C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AEFCF-7804-4EE7-9F4A-ABDF23DC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CD2A0-D12D-4C3B-8ECA-5956F37F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5E732-D5DC-422D-9B97-F99BECE6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72FD1-378D-4C90-A04A-98E03AE7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80ED6-D65D-402A-8B8C-E4F5933C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CAAD-6AA1-4707-8A4C-B981CF92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E45-C6E1-4C1C-9A60-C7EECB9B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251-AEC8-4AB3-84D5-A59D1F1F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7232-5F4C-46B9-9E90-B6FF7857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772-C822-46DF-AFBA-6AEE3895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5216-A754-4443-9C0B-60583EB3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6FAB-991E-4752-8521-2FC450C22C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D49A-1FD0-48EB-BC46-7E91BC2AE7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64F9-198F-441C-ABE3-0B9E610183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mall Grants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STAR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380880" y="129528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country programs in Category I and Category I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up to $15 million, a maximum cumulative amount total of $2.4 million, with an average of up to $600,000 per year can be allocat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more than $15 million will no longer be able to access the SGP’s core funding and will need to finance their projects from their STAR allocations. A maximum cumulative amount of up to $3.6 million, with an average up to $900,000 per year can be alloc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new country entering the SGP with an indicative STAR country allocation can program a matching amount of STAR funds. For the second year and thereafter, the country will follow the standard guidelines above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cope of GEF SG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GP operationalizes the maxim “think globally, act locally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public face” of the GEF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ically have low levels of capacity to adequately address global environmental proble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How it wor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520" y="9907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SGP is implemented by UNDP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lobal level - managed by a Central Management Team (CPMT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untry level - National Coordinator (NC) and one assista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jects approved only at national/subregional level by National Steering Committe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ational Steering Committee composed of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civil society and community based organizations (always in majorit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government (usually OFP or his/her delegat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C serves as secretariat for National Steering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GP provides small grants up to $50,000 USD to civil society and community based organiza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program is funded by the GEF from its replenishment agreement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0 million USD in GEF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ll countries could allocate certain STAR resources using framework adopted by the Council in 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gram has been operational since 19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its first 18 years, SGP has suppor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,776 community-level proje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$300.3 million in f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ing over $414.2 million in cash and in-kind co-fin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09480" y="1523880"/>
          <a:ext cx="7848720" cy="4122720"/>
        </p:xfrm>
        <a:graphic>
          <a:graphicData uri="http://schemas.openxmlformats.org/drawingml/2006/table">
            <a:tbl>
              <a:tblPr/>
              <a:tblGrid>
                <a:gridCol w="3351240"/>
                <a:gridCol w="2557440"/>
                <a:gridCol w="1940040"/>
              </a:tblGrid>
              <a:tr h="70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sic St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verage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mber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 in Gr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322,163,94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3,860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 of Cash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16,382,767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6,026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 of Kind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340,084,832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5,18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 of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556,467,59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41,21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Projects Implemente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Chart 5" descr=""/>
          <p:cNvPicPr/>
          <p:nvPr/>
        </p:nvPicPr>
        <p:blipFill>
          <a:blip r:embed="rId1"/>
          <a:stretch/>
        </p:blipFill>
        <p:spPr>
          <a:xfrm>
            <a:off x="536400" y="914400"/>
            <a:ext cx="7845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Chart 4" descr=""/>
          <p:cNvPicPr/>
          <p:nvPr/>
        </p:nvPicPr>
        <p:blipFill>
          <a:blip r:embed="rId1"/>
          <a:stretch/>
        </p:blipFill>
        <p:spPr>
          <a:xfrm>
            <a:off x="231840" y="304920"/>
            <a:ext cx="8759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olicy for GEF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: All SIDS and LDC country programmes and country programmes that have been in operation for fewer than 5 yea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: All country programmes that have been in operation between 5 and 15 year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rther subdivided into those in operation between 5 and 9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9 and 12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 and 15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se in operation more than 15 years but with cumulative grants received of less than $6 million before GEF-5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I: All country programmes that have been in operation for more than 15 years and have been able to access a cumulative total of more than $6 million in grants received before GEF-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Core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3520" y="1143000"/>
          <a:ext cx="8001000" cy="4038480"/>
        </p:xfrm>
        <a:graphic>
          <a:graphicData uri="http://schemas.openxmlformats.org/drawingml/2006/table">
            <a:tbl>
              <a:tblPr/>
              <a:tblGrid>
                <a:gridCol w="5715000"/>
                <a:gridCol w="2286000"/>
              </a:tblGrid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ount in US$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DS/LD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b-regional SIDS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st Year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-5 Years Old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a (5-9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b (9-12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c (12-15 years, and more than 15 years with accumulated grants amount lower than $6 mill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21:07:46Z</dcterms:created>
  <dc:creator>wb336064</dc:creator>
  <dc:description/>
  <dc:language>en-US</dc:language>
  <cp:lastModifiedBy>Lisa</cp:lastModifiedBy>
  <dcterms:modified xsi:type="dcterms:W3CDTF">2012-04-22T23:39:19Z</dcterms:modified>
  <cp:revision>68</cp:revision>
  <dc:subject/>
  <dc:title>GEF Small Grants Program</dc:title>
</cp:coreProperties>
</file>