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1BAC-0B65-4376-A37C-44FB17E1B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FFE8-A0EE-46D4-A177-D3ACA02D6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ank’s sector and/or country engagement and technical expertise. Can include strong policy dialogue and brokering role, AAA and technical expertise, sector dialogue and reform, investment operations, past projects and operation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at the project fits in the Bank CAS (or CPS); which CAS objective it falls under and how the project will contribute to thi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dicate country office presence and expertise, Task Team composition and involvemen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 advantages may includ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nkages to investment operations targeting policy, technical, and governance aspects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grammatic operations. The Bank is the only Agency with range of programmatic approaches in Africa across all focal areas. The Bank can access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instreaming of GEF interventions into Bank sectoral work and country strategie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imate change adaptation and mitigation plan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F97-B4CD-4ED2-A62A-D5F54FD44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A76-D43B-4417-AEFA-220219F5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DB2-20FA-40FB-8783-7E39E630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AAB-A9F9-4F97-9D74-C86467BC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F77-4777-4390-B4EF-EDE282EB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640-AE5B-4613-A519-A4F659E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E95-F27D-403C-96AB-A2763580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BF5-2048-4DED-9C70-81690CB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C51-1648-41CF-919A-43A3BCDA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761-1629-4DCC-9BDC-B07B000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746-9189-4DB8-9415-3C1698A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496-BA5F-4E1D-926A-0071A73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23E-5911-4203-90BB-E1498E0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FE91-2CA9-4C5F-AEB5-FC39B3368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orld Bank and the GEF –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 to 3 November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Cape Town, South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ld Bank and the GEF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vestment lending: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nk’s global program includes projects/program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in all GEF focal area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GEF Instru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igh co-financing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nk projects leverage high co-financing ($27 Billion: 6:1 ratio) and opportunity to blend GEF support with investment 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licy and sector 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. Bank 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ntry engagement draws on 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ordination of donor activities in the sector a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the Bank’s policy dialogue and lending in sustainable development to link local and global benef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gram management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ng experience in managing large programs with the GE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TerrAfrica, Sahel GGWI, Fisheries investment, Congo Basin Forests, POPs African Stockpi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od resul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Bank GEF portfolio high cost-effectiveness and results (Evaluation rating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chnical expertise across Focal Are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Collaboration in energy, sustainable land management, water, transport, chemicals and natural resour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novative financial instrumen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Bank can leverage a range of tools and mechanisms with innovative financial solutions for greater impact (non-grant instruments, loans, GEF, CIF, Carbon Finance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F SLN in the Ban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 active projects in WBG portfolio, window of growing importance as these investments are usually important for climate change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rgest programs are in Africa (TerraAfric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vergence with the agriculture and rural development sector progra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rAfrica Partnership and its GE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egic Investment Program for SLM i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b-Saharan Africa (SI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llenges for S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nd degradation affects almost 500 million people and two-thirds of productive 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rica has 17% of the world’s forest and deforestation is driven strongly by agricultural expan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rica bears a US$ 9 B cost per year link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poor land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mate risk add further cost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lti-partner program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ting Countries (so far)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rkina Faso, Comoros, Eritrea, Ethiopi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ya, Lesotho, Madagascar, Malawi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i, Nigeria, Rwanda, Senegal, Ugand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zania, Togo, Zam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iat hosted by NEP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4889520" y="2666880"/>
            <a:ext cx="425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rAfrica Partnership and its GEF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egic Investment program for SLM i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b-Saharan Africa (SI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F SIP Backgr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 operations under implementation in 26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$ 1.3 B (US$ 150 M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implementing agencies (AfDB, FAO, IFAD, UNDP, UNEP, W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-portfolio knowledge management and M&amp;E anchored in AU/NP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/NPCA and WB co-chair SIP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ons for future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action costs of accessing GEF re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GEF funding better al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blending, better lending, better financing: TerrAfrica provides investment platform broader than only GEF (costs to GEF reduced, investments better linked to policy and knowledge, duplications avoid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World Bank/GEF Sahel and West Africa Program (SAWAP) in Support of the Great Green Wall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reen Wal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238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o expand sustainable land and water management in targeted landscapes and climate vulnerable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EF Council approved in May 201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lmost $2B ($108M GEF, LDCF, SCCF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tegrated financing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F biodiversity, land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gradation and climate change windows,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daptation funds, IDA, trust funds, gov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esponds to CCD, FCCC, CBD and countries’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ulti-sector priori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2 countries developing  investment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 regional information and monitoring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map Support Program Countries"/>
          <p:cNvPicPr/>
          <p:nvPr/>
        </p:nvPicPr>
        <p:blipFill>
          <a:blip r:embed="rId1"/>
          <a:stretch/>
        </p:blipFill>
        <p:spPr>
          <a:xfrm>
            <a:off x="5181480" y="1752480"/>
            <a:ext cx="3657600" cy="426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7:50:55Z</dcterms:created>
  <dc:creator>wb350798</dc:creator>
  <dc:description/>
  <dc:language>en-US</dc:language>
  <cp:lastModifiedBy>wb350798</cp:lastModifiedBy>
  <dcterms:modified xsi:type="dcterms:W3CDTF">2011-11-17T18:03:19Z</dcterms:modified>
  <cp:revision>2</cp:revision>
  <dc:subject/>
  <dc:title>World Bank and the GEF –  Land Degradation</dc:title>
</cp:coreProperties>
</file>