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548-69AC-401F-9933-26376D68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217E-9C16-4807-AB73-35CCAA27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711-37B7-48D8-9A57-E84F3C52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F339-292A-48B0-BB77-DB5C8950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52480" y="7596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E4D-C2DF-45E9-ACA9-62576D78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5326-500E-4311-B8F9-5873848A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C321-D039-4C90-A5C6-74C3490D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8B43-B2BE-48A4-9C9F-D7F06297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52480" y="7596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62E-D2D4-4BD1-8D5C-13F8392C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4F0-9D4B-4DB3-B2A3-19A70388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33C-ABEC-4D75-A65E-BD3AD013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F17-9E96-42A4-BBBE-ED6EEED0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"/>
          <p:cNvPicPr/>
          <p:nvPr/>
        </p:nvPicPr>
        <p:blipFill>
          <a:blip r:embed="rId2"/>
          <a:stretch/>
        </p:blipFill>
        <p:spPr>
          <a:xfrm>
            <a:off x="0" y="6705720"/>
            <a:ext cx="9144000" cy="190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1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4680-4152-462B-A1EB-46E8374FC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7" descr="sgplogo"/>
          <p:cNvPicPr/>
          <p:nvPr/>
        </p:nvPicPr>
        <p:blipFill>
          <a:blip r:embed="rId4"/>
          <a:stretch/>
        </p:blipFill>
        <p:spPr>
          <a:xfrm>
            <a:off x="7924680" y="5943600"/>
            <a:ext cx="106704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6705720"/>
            <a:ext cx="9144000" cy="19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1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4" descr="sgplogo"/>
          <p:cNvPicPr/>
          <p:nvPr/>
        </p:nvPicPr>
        <p:blipFill>
          <a:blip r:embed="rId4"/>
          <a:stretch/>
        </p:blipFill>
        <p:spPr>
          <a:xfrm>
            <a:off x="152280" y="5518080"/>
            <a:ext cx="1828800" cy="1111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bundp170mm"/>
          <p:cNvPicPr/>
          <p:nvPr/>
        </p:nvPicPr>
        <p:blipFill>
          <a:blip r:embed="rId5"/>
          <a:stretch/>
        </p:blipFill>
        <p:spPr>
          <a:xfrm>
            <a:off x="8466120" y="138240"/>
            <a:ext cx="52560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8" descr="GEFlogo_short_Green"/>
          <p:cNvPicPr/>
          <p:nvPr/>
        </p:nvPicPr>
        <p:blipFill>
          <a:blip r:embed="rId6"/>
          <a:stretch/>
        </p:blipFill>
        <p:spPr>
          <a:xfrm>
            <a:off x="7315200" y="76320"/>
            <a:ext cx="1035000" cy="1152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7162920" y="0"/>
            <a:ext cx="1143000" cy="1295280"/>
          </a:xfrm>
          <a:prstGeom prst="rect">
            <a:avLst/>
          </a:prstGeom>
          <a:solidFill>
            <a:srgbClr val="feb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762120" y="198108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The GEF Small Grants Progra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GEF_seal_20_Final.jpg"/>
          <p:cNvPicPr/>
          <p:nvPr/>
        </p:nvPicPr>
        <p:blipFill>
          <a:blip r:embed="rId1"/>
          <a:stretch/>
        </p:blipFill>
        <p:spPr>
          <a:xfrm>
            <a:off x="7162920" y="1522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SGP PHILLIPIN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art up Year: 199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otal Number of Projects: 273 proje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Grant Amount: USD 9.5 mill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 Cash Co-financing and in-kind: more than 9.5 mill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92" name="Straight Arrow Connector 13"/>
          <p:cNvCxnSpPr/>
          <p:nvPr/>
        </p:nvCxnSpPr>
        <p:spPr>
          <a:xfrm flipH="1" flipV="1">
            <a:off x="5866560" y="4190760"/>
            <a:ext cx="25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93" name="Picture 10" descr="D:\2004 Projects\SGP\collage1.jpg"/>
          <p:cNvPicPr/>
          <p:nvPr/>
        </p:nvPicPr>
        <p:blipFill>
          <a:blip r:embed="rId1"/>
          <a:stretch/>
        </p:blipFill>
        <p:spPr>
          <a:xfrm>
            <a:off x="4775040" y="1295280"/>
            <a:ext cx="4368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Grants Portfolio (1992-now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95" name="Chart 5" descr=""/>
          <p:cNvPicPr/>
          <p:nvPr/>
        </p:nvPicPr>
        <p:blipFill>
          <a:blip r:embed="rId1"/>
          <a:stretch/>
        </p:blipFill>
        <p:spPr>
          <a:xfrm>
            <a:off x="1523880" y="1755720"/>
            <a:ext cx="73152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irect and Indirect accomplish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762120" y="139536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Improve local level management and policy interven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Resulted in decrease in incidence of hunting/fishing and gathering of threatened species, slowed down habitat destruction, establishment of no-take zon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irect and Indirect accomplish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85800" y="1447920"/>
            <a:ext cx="7772400" cy="33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SGP has supported traditional IP cultu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Many projects have facilitated and sustained multi-stakeholder protection and some levels of law enforcement resulting to slow-down in forest degradation and decreases hunting press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irect and Indirect accomplish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990720" y="1523880"/>
            <a:ext cx="77724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GEF SGP has supported a range of renewable technology op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Piloting and replication of micro-hydro power projects in combination with introduction of watershed an biodiversity conservation management pla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IMG_6340_1.jpg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0" y="12952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7162920" y="0"/>
            <a:ext cx="1143000" cy="1295280"/>
          </a:xfrm>
          <a:prstGeom prst="rect">
            <a:avLst/>
          </a:prstGeom>
          <a:solidFill>
            <a:srgbClr val="feb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GEF SGP Indonesi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05" name="Picture 6" descr="GEF_seal_20_Final.jpg"/>
          <p:cNvPicPr/>
          <p:nvPr/>
        </p:nvPicPr>
        <p:blipFill>
          <a:blip r:embed="rId2"/>
          <a:stretch/>
        </p:blipFill>
        <p:spPr>
          <a:xfrm>
            <a:off x="7162920" y="1522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Indonesia Profil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07" name="Picture 3" descr="/Users/GEF_SGP/Movies/Profil SGP/Community Action Global Impact_GEF_SGP.mp4"/>
          <p:cNvPicPr/>
          <p:nvPr/>
        </p:nvPicPr>
        <p:blipFill>
          <a:blip r:embed="rId1"/>
          <a:stretch/>
        </p:blipFill>
        <p:spPr>
          <a:xfrm>
            <a:off x="-152280" y="1143000"/>
            <a:ext cx="941364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1996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  <a:ea typeface="ＭＳ Ｐゴシック"/>
            </a:endParaRPr>
          </a:p>
        </p:txBody>
      </p:sp>
      <p:pic>
        <p:nvPicPr>
          <p:cNvPr id="109" name="Picture 3" descr="DSC_4076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1390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4247280" y="1600200"/>
            <a:ext cx="455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Verdana"/>
                <a:ea typeface="Verdana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0:53:43Z</dcterms:created>
  <dc:creator>Enayet Rasul</dc:creator>
  <dc:description/>
  <dc:language>en-US</dc:language>
  <cp:lastModifiedBy>wb350798</cp:lastModifiedBy>
  <dcterms:modified xsi:type="dcterms:W3CDTF">2011-11-01T18:26:11Z</dcterms:modified>
  <cp:revision>73</cp:revision>
  <dc:subject/>
  <dc:title>Slide 1</dc:title>
</cp:coreProperties>
</file>