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49AA-8FD1-43A6-87B3-6BA3FA60CFB2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19A0-B7E1-483E-B4BD-64AFDF01887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C6EE-2F81-4BA3-BB2E-4F04AA131D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FF06-0F66-42D2-BAAB-156D9803E63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228D-9D8F-4800-BCA6-99543EFA65A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B9FF-88A8-4C26-81F1-82AAF5B933F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AA38-9E0C-4FEB-8F57-5FE16C96C3E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3394-5FF3-45D4-97F8-024632ADDFA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08B-D921-4884-8D95-39CCADFC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931-97D8-4204-A5A5-FE37FCD9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7B1-55E6-4CA0-B8EF-6EEBB924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2DE-E352-4F5C-8559-78553047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0F7-2D48-4C0C-8B92-5D4C2DCA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5D2-702A-4C84-9CDC-B3679060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969-21A2-4D2C-B4C3-1E2D51FF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B75-C1BC-4CFC-BB74-196A49AA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C77-D6B1-4D39-A889-5D60DFB9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087-A56F-46F9-ADEA-2A3CC960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5E6-0EDE-47F0-8448-6456F62D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CDA-9C9B-421D-8576-BC8C0B61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4B90-997D-451D-9505-ECD46FBC9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GEF’s Partnership with Civil Society Organizations 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25 – 27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ivil Society Organizations: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olicies and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160" y="2286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ctively engages CSOs in its programs, projects and poli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Os participate in GEF throug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and participation in GEF projects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in policy processes through the GEF Assembly and the Counc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olicies adopted by the GEF Council, setting the foundation for CSO engagement in GEF activities on two distinct levels, projects and international policy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at is Civil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recognizes the definition of major groups agreed by Governments at the United Nations Conference on Environment and Development (UNCED) in 199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society consists of nine major groups: Non-Governmental organizations, farmers, women, the scientific and technological community, youth and children, indigenous peoples and their communities, business and industry, workers and trade unions and local authoriti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is context the basic principle, as approved by the GEF Council in 1995 (GEF/C.3/5), is that CSOs/NGOs attending/observing Council meetings are defined as “non-profit organizations whose mandate, experience, expertise and capacity are relevant to the work of the GEF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GEF Policies Related to CSO involvement at the Project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ublic involvement in GEF-financed projec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approved by the GEF Council in April 199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comprises three related and often overlapping process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disse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keholder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es to all GEF focal areas programs and project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lls out the rationale, terms and principles for public involv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idifies operational requirement for stakeholder involvement and partnership in the design, implementation, and evaluation of GEF-financed activit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EF Policies  - Global Policy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F Council consults with civil society organizations, including indigenous peoples organizations, before every Council including replenishment meet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st be members of CSO NGO network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ing criteria applies to selection of sponsored 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broad based geographic representation should be ensu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evant competencies for the GEF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among international, national and local representatives – and wide range of views and expert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t attendance of CSOs at Council meetings should be considered and rotation among CSOs should be sough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The Rationale for Public Involvement in GEF-financed Proje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improves the performance and impact of project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ing recipient country ownership of, and accountability for, project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ressing the social and economic needs of affected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ing partnerships among project executing agencie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ing use of skills, experiences, and knowledge, specifically of non-governmental organizations (NGOs), community and local groups, and the private sector in the design, implementation and evaluation of project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wb350798</cp:lastModifiedBy>
  <dcterms:modified xsi:type="dcterms:W3CDTF">2011-11-17T16:28:47Z</dcterms:modified>
  <cp:revision>73</cp:revision>
  <dc:subject/>
  <dc:title>GEF’s Partnership with Civil Society Organizations</dc:title>
</cp:coreProperties>
</file>