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E399-45C0-4065-82C8-A5A967B7C815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15A3-22FD-48C5-9F28-E06867AF205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1EDF-FB38-40C5-9467-FEABC1B1D80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BE0B-1902-4EF7-8698-DAEEF7AB41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D02D-9BC9-4654-9C76-FA5463E908E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6221-64A8-4C95-ACAA-7975BA59F80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01F1-EA17-4A55-B7F7-4DA6B21C9AA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D688-9CB8-422D-AE73-B35E3332CE1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C52-0365-4E3D-BAE8-9A26BF87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727-4B3D-4A9E-AF98-03ABBEDA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CA2-6A5F-4766-AC49-0DF325AD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1DD-E477-4070-84EA-87D77C46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D78-15C3-4079-8049-F09B732C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432-7987-441D-928F-150CA0F8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B96-7B59-4675-8516-BE58E34D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ED9-C704-4451-9304-2279E03C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CA3-80CF-4719-9FE6-97EA6092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956-2FF4-4379-83AE-84A856BA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B6A-EE36-481B-BED6-7597A0B2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7A9-6D82-42F7-8068-EB7FFAEA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8BDC-7051-4714-84A1-D3D34080E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GEF’s Partnership with Civil Society Organizations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ivil Society Organizations: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olicies and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ctively engages CSOs in its programs, projects and poli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Os participate in GEF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and participation in GEF projects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in policy processes through the GEF Assembly and the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olicies adopted by the GEF Council, setting the foundation for CSO engagement in GEF activities on two distinct levels, projects and international policy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at is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recognizes the definition of major groups agreed by Governments at the United Nations Conference on Environment and Development (UNCED) i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society consists of nine major groups: Non-Governmental organizations, farmers, women, the scientific and technological community, youth and children, indigenous peoples and their communities, business and industry, workers and trade unions and local authorit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context the basic principle, as approved by the GEF Council in 1995 (GEF/C.3/5), is that CSOs/NGOs attending/observing Council meetings are defined as “non-profit organizations whose mandate, experience, expertise and capacity are relevant to the work of the GEF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EF Policies Related to CSO involvement at the Project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ublic involvement in GEF-financed projec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approved by the GEF Council in April 199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comprises three related and often overlapping process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disse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keholder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es to all GEF focal areas programs and project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lls out the rationale, terms and principles for public involv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idifies operational requirement for stakeholder involvement and partnership in the design, implementation, and evaluation of GEF-financed activ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EF Policies  - Global Policy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F Council consults with civil society organizations, including indigenous peoples organizations, before every Council including replenishment meet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be members of CSO NGO network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ing criteria applies to selection of sponsored 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broad based geographic representation should be ensu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evant competencies for the GEF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among international, national and local representatives – and wide range of views and expert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t attendance of CSOs at Council meetings should be considered and rotation among CSOs should be sou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The Rationale for Public Involvement in GEF-financed Proje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improves the performance and impact of project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ing recipient country ownership of, and accountability for, project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ing the social and economic needs of affected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artnerships among project executing agencie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use of skills, experiences, and knowledge, specifically of non-governmental organizations (NGOs), community and local groups, and the private sector in the design, implementation and evaluation of project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dcterms:modified xsi:type="dcterms:W3CDTF">2011-11-17T16:28:47Z</dcterms:modified>
  <cp:revision>73</cp:revision>
  <dc:subject/>
  <dc:title>GEF’s Partnership with Civil Society Organizations</dc:title>
</cp:coreProperties>
</file>