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5F21-29B1-4734-A6E0-89E5D423D3AC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70DB-DF22-4ACB-B29F-AF0DDCDF02D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1B72-190B-4538-AD55-A11F87AA306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EA90-5D04-48C6-98AA-7BE6FD447A5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9C98-8BD0-4DEF-A94F-0D882C3979C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FEB5-0780-4FB2-A751-BA09CEC5418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60B0-1FFB-4326-BC88-ACC935F7FA4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3EF8-146D-438A-93D3-5B8080F62C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54F-F17D-42D1-A7A4-12C2BBC3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8DB-B017-4A73-9779-4E4EC68A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32F-F0C1-44E0-AE15-6D6CC537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FE9-F158-4A83-A03D-0B2316B2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CA1-C2CC-47F5-87E3-F200A9FC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96A-458B-4F2D-93C1-F9657403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AEC-CC62-4E7E-ABEF-04A6D49E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C89-AE38-4719-B3B4-7B82A9DD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880-0ECF-48C7-8494-09A23891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30F-D8D9-4BD8-A45E-CDDF8159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EAD-DE0D-4F78-8A75-F36570D3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815-2FE7-45EA-86DD-683116E8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DC1C-7733-40BE-9BA1-35F26F0B6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  <a:ea typeface="Arial"/>
              </a:rPr>
              <a:t>Partenariat du FEM avec les organisations de la société civile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70c0"/>
                </a:solidFill>
                <a:latin typeface="Calibri"/>
              </a:rPr>
              <a:t>Organisations de la société civile : </a:t>
            </a:r>
            <a:br>
              <a:rPr sz="4000"/>
            </a:br>
            <a:r>
              <a:rPr b="0" lang="fr-FR" sz="4000" spc="-1" strike="noStrike">
                <a:solidFill>
                  <a:srgbClr val="0070c0"/>
                </a:solidFill>
                <a:latin typeface="Calibri"/>
              </a:rPr>
              <a:t>Politiques et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fait participer activement les OSC à ses programmes, projets et polit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OSC participent au FEM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s’impliquant dans les projets du FEM et en y participant ; 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s’impliquant dans les processus d’élaboration des politiques par l’intermédiaire de l’Assemblée et du Conseil du F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litiques spécifiques adoptées par le Conseil du FEM, qui définissent la participation des OSC aux activités du FEM sur deux plans distincts, les projets et la politique internationale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Qu’est-ce que la société civil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FEM reconnait la définition des principaux groupes arrêtée par les gouvernements à la Conférence des Nations Unies sur l’environnement et le développement (CNUED) e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société civile est constituée de neuf groupes principaux  : organisations non gouvernementales, agriculteurs, femmes, communauté scientifique et technologique, enfants et jeunes, populations autochtones et leurs communautés, commerce et industrie, travailleurs et syndicats et autorités local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ans ce contexte, selon le principe de base approuvé par le Conseil du FEM en 199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GEF/C.3/5),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les OSC/ONG qui participent à ses réunions ou y assistent en qualité  d’observateurs sont des « organisations à but non lucratif dont le mandat, l’expérience, l’expertise et les capacités se rapportent à l’action du FEM 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70c0"/>
                </a:solidFill>
                <a:latin typeface="Calibri"/>
              </a:rPr>
              <a:t>Les politiques du FEM liées à la participation des OSC au niveau des proj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tion du public dans les projets financés par le FEM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tique approuvée par le Conseil du FEM en avril 199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articipation du public comprend trois processus voisins qui se recoupent souvent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de l’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tion des acte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le s’applique à tous les programme et projets des domaines d’intervention du FEM 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éfinition de la raison d’être, des conditions et des principes de la participation du publ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éfinition des besoins opérationnels de la participation et du partenariat des parties prenantes à l’élaboration, la mise en œuvre et l’évaluation des activités financées par le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70c0"/>
                </a:solidFill>
                <a:latin typeface="Calibri"/>
              </a:rPr>
              <a:t>Politiques du FEM – Politiques mond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Conseil du FEM consulte les organisations de la société civile, y compris les organisations des populations autochtones, avant chaque réunion du Conseil, notamment les réunions sur la reconstitution des ressourc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les doivent appartenir au réseau d’OSC/ONG. (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t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critères ci-après s’appliquent à la sélection des participants parrainé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e large représentation géographique doit être assur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étences adaptées au programm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Équilibre entre les représentations internationale, nationale et locale – et vaste gamme des avis et experti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articipation passée des OSC aux réunions du Conseil doit être prise en considération de même qu’une rotation des O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3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70c0"/>
                </a:solidFill>
                <a:latin typeface="Calibri"/>
              </a:rPr>
              <a:t>Raison d’être de la participation du public aux projets financés par le F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articipation du public améliore les résultats et accroît l’impact des projets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 renforçant l’appropriation des résultats des projets par les pays bénéficiaires et en les responsabilisant da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 s’attaquant aux besoins sociaux et économiques des personnes touch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 mettant en place des partenariats entre les agents d’exécution des projets et les parties pren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 faisant spécifiquement appel aux compétences, à l’expérience et aux connaissances des organisations non gouvernementales (ONG), des groupes communautaires et locaux et du secteur privé, pour l’élaboration, la mise en œuvre et l’évaluation des activités des proje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erci de votre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dcterms:modified xsi:type="dcterms:W3CDTF">2011-11-17T16:40:09Z</dcterms:modified>
  <cp:revision>85</cp:revision>
  <dc:subject/>
  <dc:title>GEF’s Partnership with Civil Society Organizations</dc:title>
</cp:coreProperties>
</file>