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1D6-9EFD-47D4-AE5F-2366EDED25BB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03A-6596-4003-9555-911DB38533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AF8-DEC4-4960-89FD-786FA95490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4CE-145C-43B0-9687-F562E807AE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1425-E1A6-456F-8706-C472F2770D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BF5-D625-4B3D-A922-080B0793E6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24B-7124-4972-A82D-2BC579FD9E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5148-13FA-41CD-94AC-F744EF2A2ED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459-B7F9-4B1E-BCE1-FDA8B4EE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0DB-B1DE-465B-9ACC-50DD8F0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D50-12ED-46DF-AB05-494314D0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2A9-F707-4C36-81DE-41602F42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CDC-06B7-4E25-8E89-0F702FD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861-C32C-4C90-A444-3889D0C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DE6-D8FD-4987-8ACB-6D5849E7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BE9-3CA0-4CB2-85DA-CCF1C08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55F-A398-4123-8A8A-C5A8F6BB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A09-5BFD-4FFE-BE31-DC99FB9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FA4-675C-4BA7-BD8B-C000502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F76-793E-486E-96B4-30D1C23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F537-4496-4499-A633-D5AE7EA1C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Partenariat du FEM avec les organisations de la société civile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70c0"/>
                </a:solidFill>
                <a:latin typeface="Calibri"/>
              </a:rPr>
              <a:t>Organisations de la société civile : </a:t>
            </a:r>
            <a:br>
              <a:rPr sz="4000"/>
            </a:br>
            <a:r>
              <a:rPr b="0" lang="fr-FR" sz="4000" spc="-1" strike="noStrike">
                <a:solidFill>
                  <a:srgbClr val="0070c0"/>
                </a:solidFill>
                <a:latin typeface="Calibri"/>
              </a:rPr>
              <a:t>Politiques et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EM fait participer activement les OSC à ses programmes, projets et poli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SC participent au FEM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s’impliquant dans les projets du FEM et en y participant ; 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s’impliquant dans les processus d’élaboration des politiques par l’intermédiaire de l’Assemblée et du Conseil du F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litiques spécifiques adoptées par le Conseil du FEM, qui définissent la participation des OSC aux activités du FEM sur deux plans distincts, les projets et la politique internationale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Qu’est-ce que la société civi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FEM reconnait la définition des principaux groupes arrêtée par les gouvernements à la Conférence des Nations Unies sur l’environnement et le développement (CNUED) e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société civile est constituée de neuf groupes principaux  : organisations non gouvernementales, agriculteurs, femmes, communauté scientifique et technologique, enfants et jeunes, populations autochtones et leurs communautés, commerce et industrie, travailleurs et syndicats et autorités local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ce contexte, selon le principe de base approuvé par le Conseil du FEM en 199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GEF/C.3/5),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les OSC/ONG qui participent à ses réunions ou y assistent en qualité  d’observateurs sont des « organisations à but non lucratif dont le mandat, l’expérience, l’expertise et les capacités se rapportent à l’action du FEM 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Les politiques du FEM liées à la participation des OSC au niveau des proj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ion du public dans les projets financés par le FEM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tique approuvée par le Conseil du FEM en avril 199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du public comprend trois processus voisins qui se recoupent souvent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usion de l’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ion des acte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le s’applique à tous les programme et projets des domaines d’intervention du FEM 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finition de la raison d’être, des conditions et des principes de la participation du publ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finition des besoins opérationnels de la participation et du partenariat des parties prenantes à l’élaboration, la mise en œuvre et l’évaluation des activités financées par le F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Politiques du FEM – Politiques mond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seil du FEM consulte les organisations de la société civile, y compris les organisations des populations autochtones, avant chaque réunion du Conseil, notamment les réunions sur la reconstitution des ressourc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les doivent appartenir au réseau d’OSC/ONG. (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t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critères ci-après s’appliquent à la sélection des participants parrainé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e large représentation géographique doit être assur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étences adaptées au programme du F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Équilibre entre les représentations internationale, nationale et locale – et vaste gamme des avis et experti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passée des OSC aux réunions du Conseil doit être prise en considération de même qu’une rotation des O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Raison d’être de la participation du public aux projets financés par le F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articipation du public améliore les résultats et accroît l’impact des projet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renforçant l’appropriation des résultats des projets par les pays bénéficiaires et en les responsabilisant da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s’attaquant aux besoins sociaux et économiques des personnes touch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mettant en place des partenariats entre les agents d’exécution des projets et les parties pren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faisant spécifiquement appel aux compétences, à l’expérience et aux connaissances des organisations non gouvernementales (ONG), des groupes communautaires et locaux et du secteur privé, pour l’élaboration, la mise en œuvre et l’évaluation des activités des proj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17T16:40:09Z</dcterms:modified>
  <cp:revision>85</cp:revision>
  <dc:subject/>
  <dc:title>GEF’s Partnership with Civil Society Organizations</dc:title>
</cp:coreProperties>
</file>