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C8C-2B54-495F-9452-CF0E1B46A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995-51B9-4E55-9D45-A0E08B087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F9C-C61B-4DDA-9DE4-3D5CFA847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52B-35C7-4026-AA73-0CBE717D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9B1-2BE4-478F-88DF-D6EC2F4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AC8-8D09-4FD4-A884-6A1E6720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9C2-7908-4709-86F3-98B6C2EA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A78-6BE3-4FA6-8FC1-177349A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8B9-CE35-44F5-A282-13BDADE7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E71-DC34-4D66-A274-8319F88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0CF-A50A-41FF-BAB1-1398C57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C98-1ECD-4AC5-B271-29A5A506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EAC-9F64-4D91-AF36-DD18000A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811-9913-4114-ABF1-454B4961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9B8-AA2F-48A2-8550-D961A17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0443-7A4D-4EC9-BF6E-F40045969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mor Les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18:25:39Z</dcterms:modified>
  <cp:revision>61</cp:revision>
  <dc:subject/>
  <dc:title>GEF Small Grants Program</dc:title>
</cp:coreProperties>
</file>