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FBC-DF2A-45BB-8330-6B673EFE4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4881-55C9-49BB-936C-C94D79623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CFE-E271-426B-AA83-E9668420B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CEB-B8AD-429C-86A0-A1A22C0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EDE-D705-4C68-A7E8-A8ACF8DB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A24-CBDD-4787-887D-05C204A8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E0B-7838-4AFB-92E5-62A8DA2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8E1-B611-49FD-BF2D-89544EF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459-3B2E-47ED-A4D8-B5DA9842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3BF-65DC-4158-8530-8E25411A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6C2-07E2-4415-ACF5-351111F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69B-D5FC-47EB-AE98-DA2FE44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C51-2163-4A06-866E-79AA9C9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C9B-1B0B-450A-A897-0C405EB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FF0-4F2B-4CD4-9B94-A223E7A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5AB-06A9-4843-93FD-A1250EC99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mor Les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18:25:39Z</dcterms:modified>
  <cp:revision>61</cp:revision>
  <dc:subject/>
  <dc:title>GEF Small Grants Program</dc:title>
</cp:coreProperties>
</file>