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4CE4-EBF0-4F5C-9EB4-AD2A9A4805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1E8A-21D6-44C5-B700-3F0377A8724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2BCA-EBA6-4BB4-9F2A-9CEBF1ED9D1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2BA-1264-4C54-927C-F1AC12FA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9B2-C13C-483F-B9B1-DC51C68C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65F-FBCE-4A38-B566-98A75709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73E-FF24-4F03-AD81-E819F24B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13D-013B-4A20-B8B4-3AAD7D73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874-EB7F-436A-8BAC-3ACF5BE9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FA3-FA06-4EA5-A21B-D9590976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A5A-2B29-4CBD-A687-E43998A0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65C-A2ED-4542-977F-796DA02D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162-7E4A-4843-A9B6-BF163B8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1DA-A447-46CD-A4B0-3A441F5D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CCF-0F03-44DF-9B51-1EC2D43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0D5F-3A56-4213-861F-975F64BB1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 to 3 November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Cape Town, South Af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8088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66680" y="2438280"/>
          <a:ext cx="6782040" cy="358956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11-17T18:04:18Z</dcterms:modified>
  <cp:revision>66</cp:revision>
  <dc:subject/>
  <dc:title>GEF Small Grants Program</dc:title>
</cp:coreProperties>
</file>