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34.png" ContentType="image/png"/>
  <Override PartName="/ppt/media/image17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46.png" ContentType="image/png"/>
  <Override PartName="/ppt/media/image36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13.png" ContentType="image/png"/>
  <Override PartName="/ppt/media/image38.png" ContentType="image/png"/>
  <Override PartName="/ppt/media/image8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Pallavi Nuka" initials="PN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<Relationship Id="rId32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11-09-21T11:41:17.755000000" idx="1">
    <p:pos x="5461" y="1692"/>
    <p:text>sort order from biggest $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24EC-70F4-439D-B072-53493F8226C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D054-9765-44F0-BC8D-D62D9D3EBC8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7D4A-EA91-46D1-A0E9-90AB302C109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DEB1-E93F-478D-8260-9D4760AC7BE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5825-FF08-445D-96F5-810E6045EEB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76A3-DDF8-4DAC-B19D-3A0507C2D34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A949-6D90-4DB1-ADEA-CE4587C38B8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Grant and Co-financing based on PMIS data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ludes Projects with the status “dropped” or “canceled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01AF-B7CF-410E-A0F7-27EE25F83A0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3.4 billion dollars in funding South Pacific nations, for national projects, close to 95% goes to the Philippines and Indones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2E07-303A-42D1-A042-752D759AF29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7EA2-5570-42D8-9454-1A9FDDE07A3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148F-9343-4234-A471-F33EAEDD88D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51C4-744B-44E3-983B-8E3E7AE3238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347B-9140-403E-B8E1-CA617FE3A61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61BD-DDC3-4E8A-AE36-C977D7E9198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92FF-C643-451D-B803-F5CF7F6322F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315C-08C0-4548-BB7A-C772ED8C9EE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E66D-65EF-4889-991B-E8F3BFFA9CE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6896-B12E-45B1-B734-CF6E8CBE181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9B5E-86DA-42AD-8F91-9AAF3B67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13A8-9713-474A-A6FE-06712A38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C9E4-E75F-4309-BEAF-DD5E090F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E4A4-C434-462A-8236-723F3B25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0F19-01FA-4BF5-BA2C-C38C6E91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9003-F89F-4857-B2EF-6BB0A384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2928-B99F-4C52-8A6C-0FB4D262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01A9-C8B0-4A77-801B-09528354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60BA-70AF-4190-9FA3-AAD154C0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7A8B-DEF6-4170-AD80-4797B714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2DDF-287A-4033-A1C3-6D87D532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73AB-7963-4C9C-9C7C-85771AF7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2FC5-92EA-4C73-B94C-FED97D00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DF7E-1C26-417F-92F3-EB88BC70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E983-EB4B-4596-8331-CFC3DBB7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D1BF-F469-47F6-8626-A2ABBF15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F7DC-1050-4E29-BAD3-EF7C99B7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6B3F0-5914-4544-BCAF-4832934481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5E566-5F01-44FD-A281-02261706ED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C99726-9804-4069-A2CA-31D9821193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DF6A0E-3D87-4466-BA77-E5C90B8505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7CD7C-794F-408E-B71C-CEEFD82C0C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5A6B-2D4C-4382-B57A-AF677C66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ED7017-22D2-4C5C-B6D9-C2D01B0DB8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FA06F5-894B-4EF7-973B-C2C5545DF0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19DF35-3C7B-4E86-ABA2-66DBB3222E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8A993D-6D75-4194-A84D-87971AF85C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C6BD7D-26B0-43EC-8D11-D744E31A06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D38EC-5D50-4075-94BE-A577BE764D9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CD99C9-C9DA-48EF-88D7-44A7C8A0A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A4CB-272E-48C4-827A-206E7BE9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ED79-3C33-4501-81E2-1C4CC68B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1AD3-5F42-4853-9867-CB5FE3D4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D2D6-DBCC-4BF4-8802-0D73BA2A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1655-E728-4CF3-AA07-3AD307E0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3E83-3FDB-49CE-92AF-D179872B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F945-D35F-497A-A3A4-61C2DD251D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9B49-B61C-4EEA-88EF-4A7C28CAD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AA39-DA26-45B1-9A91-E19669D093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EE08-CAD1-404B-8503-D340A2940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4509-D1F1-4B19-8D7C-36DC476B8CD7}" type="slidenum">
              <a:rPr b="1" lang="en-US" sz="24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2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hyperlink" Target="http://www.gefeo.org/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57400" y="167652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376b4c"/>
                </a:solidFill>
                <a:latin typeface="Calibri"/>
              </a:rPr>
              <a:t>M&amp;E in the GEF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47920" y="2971440"/>
            <a:ext cx="586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obert van den Ber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irector,  Evaluation Off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7 - 29 September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niara, Solomon Is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285840" y="112680"/>
            <a:ext cx="1923840" cy="1716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5181480" y="271440"/>
            <a:ext cx="358164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9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5D7B-9DBA-4320-8DBD-47ED95AC6F5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Content Placeholder 4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739116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1218960" y="1494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anagement response is required for all evaluations and performance reports presented to the GEF Council by the GEF 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Council takes into account both the evaluation and the management response when taking a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EO reports on implementation of decisions annually (Management Action Recor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case of Country Portfolio Evaluations countries have the opportunity to provide their perspective to Council as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A5E1-31F6-4421-BAE5-52960F7BBDF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 of M&amp;E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rete and fully budgeted M&amp;E plan by CEO endorsement for FSP and CEO approval for MSP. Project logical frameworks should align with GEF focal area results frameworks. M&amp;E Plan should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indic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Baseline data for M&amp;E by CEO endors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Mid Term Reviews (where required or foreseen) and Terminal Evaluations included i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rganizational set up and budget for M&amp;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6F67-141E-4F70-8B24-5F3DBB89AAC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1218960" y="14475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lementation of M&amp;E Pla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/program monitoring and supervision will include execution of the M&amp;E pla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Use of SMART indicators for process and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Use of SMART indicators for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Baseline for the project is fully established and data are compiled to review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rganizational set up for M&amp;E is operational and its budget is spent as plan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114C-9C7F-48DF-8F11-BDDB5F696DF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218960" y="11426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/Program Evalua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All full sized projects and programs will be evaluated at the end of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Evaluations sh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independent of project management or reviewed by GEF Agency evaluation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 evaluation norms and standards of the GEF Ag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, as a minimum, outputs and outcomes, likelihood of sustainability, compliance with Minimum Requirements 1 &amp;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 basic project data and lessons on the evaluation itself (including T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uld be sent to GEF EO within 12 months of completion of project/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uidelines for evaluating MSPs/EAs will be develop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C107-42FC-4060-8EC1-D84FB369BEE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Title 1" descr=""/>
          <p:cNvPicPr/>
          <p:nvPr/>
        </p:nvPicPr>
        <p:blipFill>
          <a:blip r:embed="rId1"/>
          <a:stretch/>
        </p:blipFill>
        <p:spPr>
          <a:xfrm>
            <a:off x="1212840" y="298440"/>
            <a:ext cx="7937640" cy="804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1219320" y="11430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gagement of Operational Focal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45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M&amp;E plans should include how OFPs will be engag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FPs to be informed on M&amp;E activities, including Mid Term Reviews and Terminal Evaluations, receiving drafts for comments and final rep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FPs invited to contribute to the management response (where applic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GEF Agencies keep track of the application of this requirement in their GEF financed projects and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7AB5-2833-4402-B6B0-88D974DB5EC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218960" y="106668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eep track of GEF suppor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 the national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keholders inform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sul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plans, implementation and results of GEF activities in the cou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sseminat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&amp;E information, promoting use of evaluation recommendations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ist the Evaluation Offi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s the first point of entry into a countr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identify major relevant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oordinate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ssist with agend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oordinate country responses to these evalu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7AF7-5E28-4FAB-9C46-CB60E2403A4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-5 cross-cutting capacity development strateg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component: enhancing capacities to monitor and evaluate environmental impacts and trends. This should be identified as a priority in the NCSA capacity development action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e capacity development plan should be formulated as a medium size project, or it should be integrated into a broader proposal that would be formulated as MSP or FSP – if MSP it should have 1:1 cofu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Development of regional partnerships could be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unding from $44m set-aside for 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8856-CC2B-40FD-9D18-8586F197D3D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8001000" y="6230880"/>
            <a:ext cx="58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1A32-CD18-4008-BFC4-933423F83B9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1444680" y="201600"/>
            <a:ext cx="7705800" cy="7491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295280" y="12189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olidation and strengthening of the four streams of evaluative evid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Country Portfolio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up to 15 during GEF-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Impact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International Waters, Climate Change and other focal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Performance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APR continued and strengthened as well as independent process revi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Thematic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focal area strategies and adap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121896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ification and ratings of outcome and progress toward imp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verage of the reform process: GEF project cycle and modalities, direct access, STAR, paragraph 2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attention to the catalytic role of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nds in ownership and country driven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nds in global environmental problems and relevance of the GEF to the con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in-depth look at the focal area strategies, including sustainable forestry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understanding of the longer term impact of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3D5A-8D09-4D6A-9E62-F272C7FEE24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1212840" y="152280"/>
            <a:ext cx="7937640" cy="920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2189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ults-based management (RBM), and Monitoring and evaluation (M&amp;E) in GEF-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&amp;E policy for GEF-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&amp;E Minimum Requir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volvement of focal poi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valuation planning for GEF-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B2CB-6326-400E-8F85-B79D80C65F6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987480" y="231840"/>
            <a:ext cx="8163000" cy="1249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1218960" y="175248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to NCSAs was one of the approaches to implement the GEF capacity development strategy and UN conventions guidance to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CSA aimed to identify country level priorities and needs for capacity development to address global environmental issues, holistic and long-term approach, country driven and 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tion is ongoing; next week the consultant will be in Dakar and Banjul; the report expected for the November 2011 GEF Counc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A479-4D3F-487B-B7AD-0AA70D7B346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1212840" y="212760"/>
            <a:ext cx="7937640" cy="708120"/>
          </a:xfrm>
          <a:prstGeom prst="rect">
            <a:avLst/>
          </a:prstGeom>
          <a:ln w="0">
            <a:noFill/>
          </a:ln>
        </p:spPr>
      </p:pic>
      <p:sp>
        <p:nvSpPr>
          <p:cNvPr id="23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41F4-2989-48D8-9032-8D781D92970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03360" y="1295280"/>
          <a:ext cx="7107120" cy="4997520"/>
        </p:xfrm>
        <a:graphic>
          <a:graphicData uri="http://schemas.openxmlformats.org/drawingml/2006/table">
            <a:tbl>
              <a:tblPr/>
              <a:tblGrid>
                <a:gridCol w="1378080"/>
                <a:gridCol w="1522440"/>
                <a:gridCol w="512640"/>
                <a:gridCol w="352440"/>
                <a:gridCol w="1368360"/>
                <a:gridCol w="1973160"/>
              </a:tblGrid>
              <a:tr h="390960">
                <a:tc gridSpan="6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rojects Approved: Active and Comple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280">
                <a:tc>
                  <a:txBody>
                    <a:bodyPr lIns="87120" rIns="87120" tIns="42840" bIns="42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2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7 BD, 85 CC, 20 IW, 16 LD, 39 MF, 25 PO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6 Active, 66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cfb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87120" rIns="87120" tIns="42840" bIns="428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TION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5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gridSpan="2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cal 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t and Co-finanic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329400">
                <a:tc gridSpan="2"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8 Active, 47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rowSpan="2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5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5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2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147060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Gran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$393 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 Financing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$2.98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1920">
                <a:tc gridSpan="3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IONAL   49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Grant    $302 M  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Co Financing   $1.4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 BD, 11 CC, 15 IW, 7 MF, 5 P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  38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Grant    $312 M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Co Financing   $39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 BD, 12 CC, 2 IW, 8 MF, 3 P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3" name="TextBox 5"/>
          <p:cNvSpPr/>
          <p:nvPr/>
        </p:nvSpPr>
        <p:spPr>
          <a:xfrm>
            <a:off x="1981080" y="714240"/>
            <a:ext cx="6400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k Islands, Fiji, Indonesia, Kiribati, Marshall Islands, Micronesia, Nauru, Niue, Palau, Papua New Guinea, Philippines, Samoa, Solomon Islands, Timor Leste, Tonga, Tuvalu, and Vanuat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1212840" y="208080"/>
            <a:ext cx="7785000" cy="590400"/>
          </a:xfrm>
          <a:prstGeom prst="rect">
            <a:avLst/>
          </a:prstGeom>
          <a:ln w="0">
            <a:noFill/>
          </a:ln>
        </p:spPr>
      </p:pic>
      <p:sp>
        <p:nvSpPr>
          <p:cNvPr id="23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7E89-3978-4B43-9176-F712CAB5E5D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Chart 2" descr=""/>
          <p:cNvPicPr/>
          <p:nvPr/>
        </p:nvPicPr>
        <p:blipFill>
          <a:blip r:embed="rId2"/>
          <a:stretch/>
        </p:blipFill>
        <p:spPr>
          <a:xfrm>
            <a:off x="1168560" y="863640"/>
            <a:ext cx="3682800" cy="2997000"/>
          </a:xfrm>
          <a:prstGeom prst="rect">
            <a:avLst/>
          </a:prstGeom>
          <a:ln w="0">
            <a:noFill/>
          </a:ln>
        </p:spPr>
      </p:pic>
      <p:pic>
        <p:nvPicPr>
          <p:cNvPr id="237" name="Chart 6" descr=""/>
          <p:cNvPicPr/>
          <p:nvPr/>
        </p:nvPicPr>
        <p:blipFill>
          <a:blip r:embed="rId3"/>
          <a:stretch/>
        </p:blipFill>
        <p:spPr>
          <a:xfrm>
            <a:off x="1092240" y="4444920"/>
            <a:ext cx="2921040" cy="2235240"/>
          </a:xfrm>
          <a:prstGeom prst="rect">
            <a:avLst/>
          </a:prstGeom>
          <a:ln w="0">
            <a:noFill/>
          </a:ln>
        </p:spPr>
      </p:pic>
      <p:pic>
        <p:nvPicPr>
          <p:cNvPr id="238" name="Chart 12" descr=""/>
          <p:cNvPicPr/>
          <p:nvPr/>
        </p:nvPicPr>
        <p:blipFill>
          <a:blip r:embed="rId4"/>
          <a:stretch/>
        </p:blipFill>
        <p:spPr>
          <a:xfrm>
            <a:off x="3301920" y="4444920"/>
            <a:ext cx="2921040" cy="23115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8"/>
          <p:cNvSpPr/>
          <p:nvPr/>
        </p:nvSpPr>
        <p:spPr>
          <a:xfrm>
            <a:off x="1219320" y="4038480"/>
            <a:ext cx="4114800" cy="2514600"/>
          </a:xfrm>
          <a:prstGeom prst="rect">
            <a:avLst/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1795320" y="4052880"/>
            <a:ext cx="304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Active &amp; Completed National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Chart 5" descr=""/>
          <p:cNvPicPr/>
          <p:nvPr/>
        </p:nvPicPr>
        <p:blipFill>
          <a:blip r:embed="rId5"/>
          <a:stretch/>
        </p:blipFill>
        <p:spPr>
          <a:xfrm>
            <a:off x="4521240" y="787320"/>
            <a:ext cx="4521240" cy="4254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73188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F3D4-9103-457E-B5F2-39F8E2F273E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Chart 2" descr=""/>
          <p:cNvPicPr/>
          <p:nvPr/>
        </p:nvPicPr>
        <p:blipFill>
          <a:blip r:embed="rId2"/>
          <a:stretch/>
        </p:blipFill>
        <p:spPr>
          <a:xfrm>
            <a:off x="939960" y="787320"/>
            <a:ext cx="3835080" cy="3073320"/>
          </a:xfrm>
          <a:prstGeom prst="rect">
            <a:avLst/>
          </a:prstGeom>
          <a:ln w="0">
            <a:noFill/>
          </a:ln>
        </p:spPr>
      </p:pic>
      <p:pic>
        <p:nvPicPr>
          <p:cNvPr id="245" name="Chart 16" descr=""/>
          <p:cNvPicPr/>
          <p:nvPr/>
        </p:nvPicPr>
        <p:blipFill>
          <a:blip r:embed="rId3"/>
          <a:stretch/>
        </p:blipFill>
        <p:spPr>
          <a:xfrm>
            <a:off x="4978440" y="939960"/>
            <a:ext cx="3835440" cy="2920680"/>
          </a:xfrm>
          <a:prstGeom prst="rect">
            <a:avLst/>
          </a:prstGeom>
          <a:ln w="0">
            <a:noFill/>
          </a:ln>
        </p:spPr>
      </p:pic>
      <p:pic>
        <p:nvPicPr>
          <p:cNvPr id="246" name="Chart 17" descr=""/>
          <p:cNvPicPr/>
          <p:nvPr/>
        </p:nvPicPr>
        <p:blipFill>
          <a:blip r:embed="rId4"/>
          <a:stretch/>
        </p:blipFill>
        <p:spPr>
          <a:xfrm>
            <a:off x="1816200" y="3624120"/>
            <a:ext cx="6578640" cy="31496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4"/>
          <p:cNvSpPr/>
          <p:nvPr/>
        </p:nvSpPr>
        <p:spPr>
          <a:xfrm>
            <a:off x="1522440" y="1150920"/>
            <a:ext cx="5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8"/>
          <p:cNvSpPr/>
          <p:nvPr/>
        </p:nvSpPr>
        <p:spPr>
          <a:xfrm>
            <a:off x="2471760" y="18288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9"/>
          <p:cNvSpPr/>
          <p:nvPr/>
        </p:nvSpPr>
        <p:spPr>
          <a:xfrm>
            <a:off x="3538440" y="13716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0"/>
          <p:cNvSpPr/>
          <p:nvPr/>
        </p:nvSpPr>
        <p:spPr>
          <a:xfrm>
            <a:off x="5105520" y="99072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1"/>
          <p:cNvSpPr/>
          <p:nvPr/>
        </p:nvSpPr>
        <p:spPr>
          <a:xfrm>
            <a:off x="6172200" y="2620800"/>
            <a:ext cx="4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2"/>
          <p:cNvSpPr/>
          <p:nvPr/>
        </p:nvSpPr>
        <p:spPr>
          <a:xfrm>
            <a:off x="7120080" y="22096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4"/>
          <p:cNvSpPr/>
          <p:nvPr/>
        </p:nvSpPr>
        <p:spPr>
          <a:xfrm>
            <a:off x="1811160" y="4038480"/>
            <a:ext cx="5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5"/>
          <p:cNvSpPr/>
          <p:nvPr/>
        </p:nvSpPr>
        <p:spPr>
          <a:xfrm>
            <a:off x="2852640" y="403848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6"/>
          <p:cNvSpPr/>
          <p:nvPr/>
        </p:nvSpPr>
        <p:spPr>
          <a:xfrm>
            <a:off x="6348240" y="5189400"/>
            <a:ext cx="5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7"/>
          <p:cNvSpPr/>
          <p:nvPr/>
        </p:nvSpPr>
        <p:spPr>
          <a:xfrm>
            <a:off x="7391520" y="532764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1" descr=""/>
          <p:cNvPicPr/>
          <p:nvPr/>
        </p:nvPicPr>
        <p:blipFill>
          <a:blip r:embed="rId1"/>
          <a:stretch/>
        </p:blipFill>
        <p:spPr>
          <a:xfrm>
            <a:off x="1292400" y="219240"/>
            <a:ext cx="7553160" cy="1006200"/>
          </a:xfrm>
          <a:prstGeom prst="rect">
            <a:avLst/>
          </a:prstGeom>
          <a:ln w="0">
            <a:noFill/>
          </a:ln>
        </p:spPr>
      </p:pic>
      <p:sp>
        <p:nvSpPr>
          <p:cNvPr id="25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A411-ECB0-4B22-AE38-DD4D10F7252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3"/>
          <p:cNvSpPr/>
          <p:nvPr/>
        </p:nvSpPr>
        <p:spPr>
          <a:xfrm>
            <a:off x="228600" y="18637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National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4"/>
          <p:cNvSpPr/>
          <p:nvPr/>
        </p:nvSpPr>
        <p:spPr>
          <a:xfrm>
            <a:off x="0" y="3753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5"/>
          <p:cNvSpPr/>
          <p:nvPr/>
        </p:nvSpPr>
        <p:spPr>
          <a:xfrm>
            <a:off x="558720" y="533412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S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Chart 16" descr=""/>
          <p:cNvPicPr/>
          <p:nvPr/>
        </p:nvPicPr>
        <p:blipFill>
          <a:blip r:embed="rId2"/>
          <a:stretch/>
        </p:blipFill>
        <p:spPr>
          <a:xfrm>
            <a:off x="1114560" y="1015920"/>
            <a:ext cx="2288880" cy="2463840"/>
          </a:xfrm>
          <a:prstGeom prst="rect">
            <a:avLst/>
          </a:prstGeom>
          <a:ln w="0">
            <a:noFill/>
          </a:ln>
        </p:spPr>
      </p:pic>
      <p:pic>
        <p:nvPicPr>
          <p:cNvPr id="263" name="Chart 17" descr=""/>
          <p:cNvPicPr/>
          <p:nvPr/>
        </p:nvPicPr>
        <p:blipFill>
          <a:blip r:embed="rId3"/>
          <a:stretch/>
        </p:blipFill>
        <p:spPr>
          <a:xfrm>
            <a:off x="1397160" y="3378240"/>
            <a:ext cx="2082600" cy="1576440"/>
          </a:xfrm>
          <a:prstGeom prst="rect">
            <a:avLst/>
          </a:prstGeom>
          <a:ln w="0">
            <a:noFill/>
          </a:ln>
        </p:spPr>
      </p:pic>
      <p:pic>
        <p:nvPicPr>
          <p:cNvPr id="264" name="Chart 18" descr=""/>
          <p:cNvPicPr/>
          <p:nvPr/>
        </p:nvPicPr>
        <p:blipFill>
          <a:blip r:embed="rId4"/>
          <a:stretch/>
        </p:blipFill>
        <p:spPr>
          <a:xfrm>
            <a:off x="1320840" y="5130720"/>
            <a:ext cx="2082600" cy="1576440"/>
          </a:xfrm>
          <a:prstGeom prst="rect">
            <a:avLst/>
          </a:prstGeom>
          <a:ln w="0">
            <a:noFill/>
          </a:ln>
        </p:spPr>
      </p:pic>
      <p:pic>
        <p:nvPicPr>
          <p:cNvPr id="265" name="Chart 19" descr=""/>
          <p:cNvPicPr/>
          <p:nvPr/>
        </p:nvPicPr>
        <p:blipFill>
          <a:blip r:embed="rId5"/>
          <a:stretch/>
        </p:blipFill>
        <p:spPr>
          <a:xfrm>
            <a:off x="3301920" y="1015920"/>
            <a:ext cx="3073320" cy="2463840"/>
          </a:xfrm>
          <a:prstGeom prst="rect">
            <a:avLst/>
          </a:prstGeom>
          <a:ln w="0">
            <a:noFill/>
          </a:ln>
        </p:spPr>
      </p:pic>
      <p:pic>
        <p:nvPicPr>
          <p:cNvPr id="266" name="Chart 20" descr=""/>
          <p:cNvPicPr/>
          <p:nvPr/>
        </p:nvPicPr>
        <p:blipFill>
          <a:blip r:embed="rId6"/>
          <a:stretch/>
        </p:blipFill>
        <p:spPr>
          <a:xfrm>
            <a:off x="6121440" y="1004760"/>
            <a:ext cx="3225600" cy="2463840"/>
          </a:xfrm>
          <a:prstGeom prst="rect">
            <a:avLst/>
          </a:prstGeom>
          <a:ln w="0">
            <a:noFill/>
          </a:ln>
        </p:spPr>
      </p:pic>
      <p:pic>
        <p:nvPicPr>
          <p:cNvPr id="267" name="Chart 21" descr=""/>
          <p:cNvPicPr/>
          <p:nvPr/>
        </p:nvPicPr>
        <p:blipFill>
          <a:blip r:embed="rId7"/>
          <a:stretch/>
        </p:blipFill>
        <p:spPr>
          <a:xfrm>
            <a:off x="3530520" y="3367080"/>
            <a:ext cx="2387520" cy="1701720"/>
          </a:xfrm>
          <a:prstGeom prst="rect">
            <a:avLst/>
          </a:prstGeom>
          <a:ln w="0">
            <a:noFill/>
          </a:ln>
        </p:spPr>
      </p:pic>
      <p:pic>
        <p:nvPicPr>
          <p:cNvPr id="268" name="Chart 22" descr=""/>
          <p:cNvPicPr/>
          <p:nvPr/>
        </p:nvPicPr>
        <p:blipFill>
          <a:blip r:embed="rId8"/>
          <a:stretch/>
        </p:blipFill>
        <p:spPr>
          <a:xfrm>
            <a:off x="3530520" y="5054760"/>
            <a:ext cx="2387520" cy="1701720"/>
          </a:xfrm>
          <a:prstGeom prst="rect">
            <a:avLst/>
          </a:prstGeom>
          <a:ln w="0">
            <a:noFill/>
          </a:ln>
        </p:spPr>
      </p:pic>
      <p:pic>
        <p:nvPicPr>
          <p:cNvPr id="269" name="Chart 23" descr=""/>
          <p:cNvPicPr/>
          <p:nvPr/>
        </p:nvPicPr>
        <p:blipFill>
          <a:blip r:embed="rId9"/>
          <a:stretch/>
        </p:blipFill>
        <p:spPr>
          <a:xfrm>
            <a:off x="6426360" y="3378240"/>
            <a:ext cx="2311200" cy="1865160"/>
          </a:xfrm>
          <a:prstGeom prst="rect">
            <a:avLst/>
          </a:prstGeom>
          <a:ln w="0">
            <a:noFill/>
          </a:ln>
        </p:spPr>
      </p:pic>
      <p:pic>
        <p:nvPicPr>
          <p:cNvPr id="270" name="Chart 24" descr=""/>
          <p:cNvPicPr/>
          <p:nvPr/>
        </p:nvPicPr>
        <p:blipFill>
          <a:blip r:embed="rId10"/>
          <a:stretch/>
        </p:blipFill>
        <p:spPr>
          <a:xfrm>
            <a:off x="6350040" y="5043600"/>
            <a:ext cx="2311200" cy="1865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2"/>
          <p:cNvSpPr/>
          <p:nvPr/>
        </p:nvSpPr>
        <p:spPr>
          <a:xfrm>
            <a:off x="2057400" y="2017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, 2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5"/>
          <p:cNvSpPr/>
          <p:nvPr/>
        </p:nvSpPr>
        <p:spPr>
          <a:xfrm>
            <a:off x="1981080" y="35830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, 1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6"/>
          <p:cNvSpPr/>
          <p:nvPr/>
        </p:nvSpPr>
        <p:spPr>
          <a:xfrm>
            <a:off x="4552920" y="376884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,2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828800" y="114264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Calibri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F EO CPE web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hegef.org/gef/node/78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nior Evaluation Offic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28AD-2B4E-41D5-AEE0-801F6CECA820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B326-FC1D-4785-B670-0E66EA42F92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7" name="Title 1" descr=""/>
          <p:cNvPicPr/>
          <p:nvPr/>
        </p:nvPicPr>
        <p:blipFill>
          <a:blip r:embed="rId2"/>
          <a:stretch/>
        </p:blipFill>
        <p:spPr>
          <a:xfrm>
            <a:off x="1517760" y="298440"/>
            <a:ext cx="7480080" cy="1030320"/>
          </a:xfrm>
          <a:prstGeom prst="rect">
            <a:avLst/>
          </a:prstGeom>
          <a:ln w="0">
            <a:noFill/>
          </a:ln>
        </p:spPr>
      </p:pic>
      <p:sp>
        <p:nvSpPr>
          <p:cNvPr id="148" name="Content Placeholder 2"/>
          <p:cNvSpPr/>
          <p:nvPr/>
        </p:nvSpPr>
        <p:spPr>
          <a:xfrm>
            <a:off x="1295280" y="1600200"/>
            <a:ext cx="7620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Result based management - Setting goals and objectives, Monitoring, learning and decision m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Evaluation is a “reality check” on RB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RBM,  especially monitoring, tell whether the organization is 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“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on tr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Evaluation could tell whether the organization is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“on the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right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 trac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294920" y="1294920"/>
            <a:ext cx="7620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Two overarching objectives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or the achievement of GEF objectives through the assessment of 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</a:rPr>
              <a:t>result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</a:rPr>
              <a:t>effectivenes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</a:rPr>
              <a:t>process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</a:rPr>
              <a:t>performan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f the partners involved in GEF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knowledge sharing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 results and lessons learned among the GEF and its partners as a basis for decision making on policies, strategies, program management, programs, and projects; and to improv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knowledg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B68F-2CA1-44E0-9393-93962495C9A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1"/>
          <a:stretch/>
        </p:blipFill>
        <p:spPr>
          <a:xfrm>
            <a:off x="1212840" y="-648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295280" y="13712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ference to GEF Results-based Management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(RB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engthened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knowledge sharing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lear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arification of roles and responsibil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onger role for GEF Operational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Focal Point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M&amp;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lusion of programs and jointly implement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Baseline data for M&amp;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be established by CEO endors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New Minimum Requirement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 engagement of GEF Operational Focal Points in project and program M&amp;E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9E1D-174E-4616-B509-27771049BCE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755640" y="298440"/>
            <a:ext cx="8089920" cy="8539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609480" y="1295280"/>
            <a:ext cx="8153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40"/>
          <p:cNvGrpSpPr/>
          <p:nvPr/>
        </p:nvGrpSpPr>
        <p:grpSpPr>
          <a:xfrm>
            <a:off x="1295280" y="1447920"/>
            <a:ext cx="7390800" cy="4874400"/>
            <a:chOff x="1295280" y="1447920"/>
            <a:chExt cx="7390800" cy="4874400"/>
          </a:xfrm>
        </p:grpSpPr>
        <p:sp>
          <p:nvSpPr>
            <p:cNvPr id="158" name="Text Box 56"/>
            <p:cNvSpPr/>
            <p:nvPr/>
          </p:nvSpPr>
          <p:spPr>
            <a:xfrm>
              <a:off x="1295280" y="4815360"/>
              <a:ext cx="1486080" cy="9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perating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bottom-u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55"/>
            <p:cNvSpPr/>
            <p:nvPr/>
          </p:nvSpPr>
          <p:spPr>
            <a:xfrm>
              <a:off x="1524240" y="2375280"/>
              <a:ext cx="1245240" cy="9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stitutional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top-dow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41"/>
            <p:cNvGrpSpPr/>
            <p:nvPr/>
          </p:nvGrpSpPr>
          <p:grpSpPr>
            <a:xfrm>
              <a:off x="3544560" y="1447920"/>
              <a:ext cx="5141520" cy="4799520"/>
              <a:chOff x="3544560" y="1447920"/>
              <a:chExt cx="5141520" cy="4799520"/>
            </a:xfrm>
          </p:grpSpPr>
          <p:sp>
            <p:nvSpPr>
              <p:cNvPr id="161" name="AutoShape 42"/>
              <p:cNvSpPr/>
              <p:nvPr/>
            </p:nvSpPr>
            <p:spPr>
              <a:xfrm>
                <a:off x="3544560" y="1447920"/>
                <a:ext cx="5141520" cy="479952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43"/>
              <p:cNvSpPr/>
              <p:nvPr/>
            </p:nvSpPr>
            <p:spPr>
              <a:xfrm>
                <a:off x="5553720" y="5223960"/>
                <a:ext cx="1226520" cy="94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ject Objectiv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4"/>
              <p:cNvSpPr/>
              <p:nvPr/>
            </p:nvSpPr>
            <p:spPr>
              <a:xfrm>
                <a:off x="5332680" y="3215880"/>
                <a:ext cx="1575720" cy="56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ocal Are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o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45"/>
              <p:cNvSpPr/>
              <p:nvPr/>
            </p:nvSpPr>
            <p:spPr>
              <a:xfrm>
                <a:off x="5638320" y="1887120"/>
                <a:ext cx="915480" cy="77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EF Strategic Go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46"/>
              <p:cNvSpPr/>
              <p:nvPr/>
            </p:nvSpPr>
            <p:spPr>
              <a:xfrm>
                <a:off x="4722840" y="4100400"/>
                <a:ext cx="281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5536800" y="4352760"/>
                <a:ext cx="1243800" cy="56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ocal Are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ectiv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48"/>
              <p:cNvSpPr/>
              <p:nvPr/>
            </p:nvSpPr>
            <p:spPr>
              <a:xfrm>
                <a:off x="4124880" y="5110560"/>
                <a:ext cx="398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49"/>
              <p:cNvSpPr/>
              <p:nvPr/>
            </p:nvSpPr>
            <p:spPr>
              <a:xfrm>
                <a:off x="5369040" y="2836800"/>
                <a:ext cx="149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Text Box 50"/>
            <p:cNvSpPr/>
            <p:nvPr/>
          </p:nvSpPr>
          <p:spPr>
            <a:xfrm>
              <a:off x="2781360" y="2362680"/>
              <a:ext cx="1807200" cy="39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E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mpa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co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1"/>
            <p:cNvSpPr/>
            <p:nvPr/>
          </p:nvSpPr>
          <p:spPr>
            <a:xfrm flipV="1">
              <a:off x="3655080" y="4190400"/>
              <a:ext cx="1800" cy="69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2"/>
            <p:cNvSpPr/>
            <p:nvPr/>
          </p:nvSpPr>
          <p:spPr>
            <a:xfrm>
              <a:off x="3655080" y="3112920"/>
              <a:ext cx="1800" cy="69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53"/>
            <p:cNvSpPr/>
            <p:nvPr/>
          </p:nvSpPr>
          <p:spPr>
            <a:xfrm flipH="1">
              <a:off x="2741400" y="2075400"/>
              <a:ext cx="321120" cy="1199880"/>
            </a:xfrm>
            <a:custGeom>
              <a:avLst/>
              <a:gdLst>
                <a:gd name="textAreaLeft" fmla="*/ 0 w 321120"/>
                <a:gd name="textAreaRight" fmla="*/ 115920 w 321120"/>
                <a:gd name="textAreaTop" fmla="*/ 33120 h 1199880"/>
                <a:gd name="textAreaBottom" fmla="*/ 1166760 h 119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60"/>
                    <a:pt x="10800" y="1920"/>
                  </a:cubicBezTo>
                  <a:lnTo>
                    <a:pt x="10800" y="8880"/>
                  </a:lnTo>
                  <a:cubicBezTo>
                    <a:pt x="10800" y="9840"/>
                    <a:pt x="16200" y="10800"/>
                    <a:pt x="21600" y="10800"/>
                  </a:cubicBezTo>
                  <a:cubicBezTo>
                    <a:pt x="16200" y="10800"/>
                    <a:pt x="10800" y="11760"/>
                    <a:pt x="10800" y="12720"/>
                  </a:cubicBezTo>
                  <a:lnTo>
                    <a:pt x="10800" y="19680"/>
                  </a:lnTo>
                  <a:cubicBezTo>
                    <a:pt x="10800" y="2064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54"/>
            <p:cNvSpPr/>
            <p:nvPr/>
          </p:nvSpPr>
          <p:spPr>
            <a:xfrm flipH="1">
              <a:off x="2741400" y="4327560"/>
              <a:ext cx="321120" cy="1499760"/>
            </a:xfrm>
            <a:custGeom>
              <a:avLst/>
              <a:gdLst>
                <a:gd name="textAreaLeft" fmla="*/ 0 w 321120"/>
                <a:gd name="textAreaRight" fmla="*/ 115920 w 321120"/>
                <a:gd name="textAreaTop" fmla="*/ 39600 h 1499760"/>
                <a:gd name="textAreaBottom" fmla="*/ 1460160 h 149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12"/>
                    <a:pt x="10800" y="1824"/>
                  </a:cubicBezTo>
                  <a:lnTo>
                    <a:pt x="10800" y="8976"/>
                  </a:lnTo>
                  <a:cubicBezTo>
                    <a:pt x="10800" y="9888"/>
                    <a:pt x="16200" y="10800"/>
                    <a:pt x="21600" y="10800"/>
                  </a:cubicBezTo>
                  <a:cubicBezTo>
                    <a:pt x="16200" y="10800"/>
                    <a:pt x="10800" y="11712"/>
                    <a:pt x="10800" y="12624"/>
                  </a:cubicBezTo>
                  <a:lnTo>
                    <a:pt x="10800" y="19776"/>
                  </a:lnTo>
                  <a:cubicBezTo>
                    <a:pt x="10800" y="2068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B4A3-C1E5-459A-B1B4-0F9112F012F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Rectangle 2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4"/>
          <p:cNvGrpSpPr/>
          <p:nvPr/>
        </p:nvGrpSpPr>
        <p:grpSpPr>
          <a:xfrm>
            <a:off x="1143000" y="1447920"/>
            <a:ext cx="7543440" cy="4113360"/>
            <a:chOff x="1143000" y="1447920"/>
            <a:chExt cx="7543440" cy="4113360"/>
          </a:xfrm>
        </p:grpSpPr>
        <p:sp>
          <p:nvSpPr>
            <p:cNvPr id="177" name="Text Box 5"/>
            <p:cNvSpPr/>
            <p:nvPr/>
          </p:nvSpPr>
          <p:spPr>
            <a:xfrm>
              <a:off x="1143000" y="1447920"/>
              <a:ext cx="26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ject and Program Desig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3809520" y="1447920"/>
              <a:ext cx="243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6255360" y="1447920"/>
              <a:ext cx="243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valu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>
              <a:off x="3810960" y="1598760"/>
              <a:ext cx="37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>
              <a:off x="6098040" y="1598760"/>
              <a:ext cx="60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1479240" y="2077200"/>
              <a:ext cx="191556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FA/Results frame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&amp;E P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1"/>
            <p:cNvSpPr/>
            <p:nvPr/>
          </p:nvSpPr>
          <p:spPr>
            <a:xfrm>
              <a:off x="2781720" y="3493440"/>
              <a:ext cx="3994560" cy="1415880"/>
            </a:xfrm>
            <a:prstGeom prst="rightArrow">
              <a:avLst>
                <a:gd name="adj1" fmla="val 50000"/>
                <a:gd name="adj2" fmla="val 705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2"/>
            <p:cNvSpPr/>
            <p:nvPr/>
          </p:nvSpPr>
          <p:spPr>
            <a:xfrm>
              <a:off x="2745720" y="3965400"/>
              <a:ext cx="335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nagement, monitoring, and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3"/>
            <p:cNvSpPr/>
            <p:nvPr/>
          </p:nvSpPr>
          <p:spPr>
            <a:xfrm>
              <a:off x="3581280" y="2077200"/>
              <a:ext cx="266652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nitoring of progress; midpoint course correction as need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4"/>
            <p:cNvSpPr/>
            <p:nvPr/>
          </p:nvSpPr>
          <p:spPr>
            <a:xfrm>
              <a:off x="6428880" y="2077200"/>
              <a:ext cx="21708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erminal Evalu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essons Lear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6"/>
            <p:cNvSpPr/>
            <p:nvPr/>
          </p:nvSpPr>
          <p:spPr>
            <a:xfrm>
              <a:off x="4557600" y="5223960"/>
              <a:ext cx="281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ssons learned; Good pract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7"/>
          <p:cNvSpPr/>
          <p:nvPr/>
        </p:nvSpPr>
        <p:spPr>
          <a:xfrm>
            <a:off x="1468800" y="6245280"/>
            <a:ext cx="70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apted from the World Bank’s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Results Focus in Country Assistance Strategie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July 2005, p.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934320" y="632448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4578-B161-4BD5-B07F-07E2069BE5E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AutoShape 15"/>
          <p:cNvCxnSpPr/>
          <p:nvPr/>
        </p:nvCxnSpPr>
        <p:spPr>
          <a:xfrm rot="5400000">
            <a:off x="4942800" y="237960"/>
            <a:ext cx="219960" cy="5077440"/>
          </a:xfrm>
          <a:prstGeom prst="bentConnector3">
            <a:avLst>
              <a:gd name="adj1" fmla="val 149131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129528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&amp;E contributes to knowledge building and organizational improve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ndings and lessons should be accessible to target audiences in a user-friendly wa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Evaluation reports should be subject to a dynamic dissemination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 sharing enables partners to capitalize on lessons learned from experie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 of KM in the GE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Promotion of a culture of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pplication of lessons l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eedback to new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6644-DADA-4B60-8B70-D6E13CDC603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84160"/>
          </a:xfrm>
          <a:prstGeom prst="rect">
            <a:avLst/>
          </a:prstGeom>
          <a:ln w="0">
            <a:noFill/>
          </a:ln>
        </p:spPr>
      </p:pic>
      <p:sp>
        <p:nvSpPr>
          <p:cNvPr id="19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1EC8-3A92-4B8F-AD5E-4DF49EE256C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Object 2" descr=""/>
          <p:cNvPicPr/>
          <p:nvPr/>
        </p:nvPicPr>
        <p:blipFill>
          <a:blip r:embed="rId2"/>
          <a:stretch/>
        </p:blipFill>
        <p:spPr>
          <a:xfrm>
            <a:off x="1523880" y="1219320"/>
            <a:ext cx="7358040" cy="5410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wb350798</cp:lastModifiedBy>
  <dcterms:modified xsi:type="dcterms:W3CDTF">2011-11-01T18:27:44Z</dcterms:modified>
  <cp:revision>224</cp:revision>
  <dc:subject/>
  <dc:title>Slide 1</dc:title>
</cp:coreProperties>
</file>