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34.png" ContentType="image/png"/>
  <Override PartName="/ppt/media/image17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46.png" ContentType="image/png"/>
  <Override PartName="/ppt/media/image36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13.png" ContentType="image/png"/>
  <Override PartName="/ppt/media/image38.png" ContentType="image/png"/>
  <Override PartName="/ppt/media/image8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Pallavi Nuka" initials="PN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<Relationship Id="rId32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11-09-21T11:41:17.755000000" idx="1">
    <p:pos x="5461" y="1692"/>
    <p:text>sort order from biggest $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3360-365F-48AC-8A76-EE81BC9CB08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A4A2-3ED8-4BAD-ADDE-82179E5A412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3473-0D8F-48F5-A5B3-0238C96CFAE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97F3-F96F-4E51-95B8-127FAA3C178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54C7-CB66-4152-834E-67F5573CA41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2392-7291-4BD8-A3AC-A9154486FC6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633C-BA3B-4858-A9C5-4125955D9C1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Grant and Co-financing based on PMIS data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ludes Projects with the status “dropped” or “canceled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FF9C-13D1-4D67-9EDC-6BAB6C2D108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3.4 billion dollars in funding South Pacific nations, for national projects, close to 95% goes to the Philippines and Indones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F718-AC4B-4ACC-8866-EAB1EE66981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8F05-3E0C-4A55-9BAB-AACE2564D65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AF16-C3D1-4B38-9F68-2980BFB919B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D9FD-A971-4E15-84DB-4524C18BCC7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DC99-181F-4C72-9AA9-14D1134466D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83AD-22F4-49D3-8F85-6734E50766A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8444-9306-465D-B7CF-D6C25BE8B35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8019-B1B9-4184-9212-C150D73FFB5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DAF9-6A27-41B3-982E-DE5C0A663AE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892F-D0EE-4A18-ABE9-A90A3FB3105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D7B2-8AB8-491E-AA4C-EEE63D54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C3D0-5576-4CA5-B977-DB9A9161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9EA6-A4AA-47FC-9A39-7CBA8DA7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BDA3-B5EC-4CCC-B470-3F9FD2A0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2AD8-6D55-4D16-96C8-9EAAEC51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A070-0E79-4F96-B085-85D32A09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0635-3E09-4AA2-9090-A2D84691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FD54-D827-452A-8450-EF8469C2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E0C6-8B42-43C0-A409-833F3B91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3EC0-4C53-4461-8618-873812DE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B3C3-8509-4C70-833B-514F4ECA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B47F-F025-45F3-8592-4FBB7AF3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3038-F66C-435B-9A96-A95ACD7B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9B3E-9313-4E16-997E-5E775EE2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04EB-3732-486D-9F9C-32AC47B5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B749-9CBA-4EDE-ACAB-BC8D6975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BC46-4F47-4604-BBE5-934423BB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D6EE76-8490-4FA2-9CB9-EF2D4523E8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5287E7-0C2C-43F9-8442-3E327ABC06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54A250-C23C-477A-A2EE-31670F85A3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FF375-6E0D-4BF8-8E6D-31ED5D29A6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658EC-B349-42F6-9E37-90ECC202C4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F4F0-3C53-4261-83AD-6375B1B4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3F016E-F630-49D8-8204-85C027BEC0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5B54B7-435D-42E4-9A21-AB6F385711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BE3C22-B597-4EAE-8605-D7E9821414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04606A-F872-4D49-899B-23F3CBF6FF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B2101D-EC66-4DC5-A665-B9002A40B4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330B52-63D5-458D-AA54-B166DB1FCE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3DF070-69E5-42BF-9366-B7AF0AA10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E1EE-0845-4903-A46D-03CBA890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514C-43AC-4684-977D-2BA81FB9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80E-828D-4589-92B5-5AA51490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642B-FF0E-416B-A36E-7806F40A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C24A-E17E-45B2-8F3E-1EDAC6C8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9576-9C5E-4032-AC29-07B8BD5F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2109-1FE4-40E1-AC9B-E48971B005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95D7-7C6A-4417-B343-773D19D04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F753-7BAA-4F5F-9AA4-8159E377F7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0433-3F53-467F-95F5-2C43C32EE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EFCD-25E6-4755-9215-26EF6F718E4D}" type="slidenum">
              <a:rPr b="1" lang="en-US" sz="24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2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hyperlink" Target="http://www.gefeo.org/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57400" y="167652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376b4c"/>
                </a:solidFill>
                <a:latin typeface="Calibri"/>
              </a:rPr>
              <a:t>M&amp;E in the GEF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47920" y="2971440"/>
            <a:ext cx="586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obert van den Ber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irector,  Evaluation Off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7 - 29 September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niara, Solomon Is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285840" y="112680"/>
            <a:ext cx="1923840" cy="1716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5181480" y="271440"/>
            <a:ext cx="358164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9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ECA9-537F-4963-BBFE-4E70A5561F5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Content Placeholder 4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739116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1218960" y="1494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anagement response is required for all evaluations and performance reports presented to the GEF Council by the GEF 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Council takes into account both the evaluation and the management response when taking a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EO reports on implementation of decisions annually (Management Action Recor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case of Country Portfolio Evaluations countries have the opportunity to provide their perspective to Council as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89A5-CC1B-48E0-B23B-8D3D3A09157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 of M&amp;E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rete and fully budgeted M&amp;E plan by CEO endorsement for FSP and CEO approval for MSP. Project logical frameworks should align with GEF focal area results frameworks. M&amp;E Plan should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indic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Baseline data for M&amp;E by CEO endors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Mid Term Reviews (where required or foreseen) and Terminal Evaluations included i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rganizational set up and budget for M&amp;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5AC1-8A07-4355-B6C1-1829C0089C6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1218960" y="14475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lementation of M&amp;E Pla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/program monitoring and supervision will include execution of the M&amp;E pla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Use of SMART indicators for process and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Use of SMART indicators for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Baseline for the project is fully established and data are compiled to review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rganizational set up for M&amp;E is operational and its budget is spent as plan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7277-B61A-4C0C-BE5C-4B0E33C4B3F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218960" y="11426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/Program Evalua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All full sized projects and programs will be evaluated at the end of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Evaluations sh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independent of project management or reviewed by GEF Agency evaluation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 evaluation norms and standards of the GEF Ag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, as a minimum, outputs and outcomes, likelihood of sustainability, compliance with Minimum Requirements 1 &amp;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 basic project data and lessons on the evaluation itself (including T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uld be sent to GEF EO within 12 months of completion of project/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uidelines for evaluating MSPs/EAs will be develop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9F70-FE7C-48CF-8F84-589768A9B75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Title 1" descr=""/>
          <p:cNvPicPr/>
          <p:nvPr/>
        </p:nvPicPr>
        <p:blipFill>
          <a:blip r:embed="rId1"/>
          <a:stretch/>
        </p:blipFill>
        <p:spPr>
          <a:xfrm>
            <a:off x="1212840" y="298440"/>
            <a:ext cx="7937640" cy="804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1219320" y="11430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gagement of Operational Focal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45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M&amp;E plans should include how OFPs will be engag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FPs to be informed on M&amp;E activities, including Mid Term Reviews and Terminal Evaluations, receiving drafts for comments and final rep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FPs invited to contribute to the management response (where applic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GEF Agencies keep track of the application of this requirement in their GEF financed projects and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BF1C-AA61-491B-A478-9CEFBE24D10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218960" y="106668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eep track of GEF suppor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 the national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keholders inform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sul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plans, implementation and results of GEF activities in the cou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sseminat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&amp;E information, promoting use of evaluation recommendations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ist the Evaluation Offi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s the first point of entry into a countr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identify major relevant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oordinate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ssist with agend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oordinate country responses to these evalu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7635-6AC6-480C-9A31-AF7530B6F53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-5 cross-cutting capacity development strateg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component: enhancing capacities to monitor and evaluate environmental impacts and trends. This should be identified as a priority in the NCSA capacity development action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e capacity development plan should be formulated as a medium size project, or it should be integrated into a broader proposal that would be formulated as MSP or FSP – if MSP it should have 1:1 cofu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Development of regional partnerships could be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unding from $44m set-aside for 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12DA-45F9-4EF8-8709-E0A44A86AC2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8001000" y="6230880"/>
            <a:ext cx="58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3AE7-05CF-45CD-B322-9F5C232B0A0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1444680" y="201600"/>
            <a:ext cx="7705800" cy="7491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295280" y="12189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olidation and strengthening of the four streams of evaluative evid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Country Portfolio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up to 15 during GEF-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Impact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International Waters, Climate Change and other focal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Performance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APR continued and strengthened as well as independent process revi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Thematic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focal area strategies and adap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121896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ification and ratings of outcome and progress toward imp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verage of the reform process: GEF project cycle and modalities, direct access, STAR, paragraph 2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attention to the catalytic role of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nds in ownership and country driven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nds in global environmental problems and relevance of the GEF to the con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in-depth look at the focal area strategies, including sustainable forestry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understanding of the longer term impact of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EFC4-9BE0-4387-B716-A9C55F23813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1212840" y="152280"/>
            <a:ext cx="7937640" cy="920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2189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ults-based management (RBM), and Monitoring and evaluation (M&amp;E) in GEF-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&amp;E policy for GEF-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&amp;E Minimum Requir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volvement of focal poi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valuation planning for GEF-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851E-160A-4D93-819B-144AB8BCD57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987480" y="231840"/>
            <a:ext cx="8163000" cy="1249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1218960" y="175248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to NCSAs was one of the approaches to implement the GEF capacity development strategy and UN conventions guidance to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CSA aimed to identify country level priorities and needs for capacity development to address global environmental issues, holistic and long-term approach, country driven and 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tion is ongoing; next week the consultant will be in Dakar and Banjul; the report expected for the November 2011 GEF Counc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3B2B-31F6-4216-9020-6C0F83A6532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1212840" y="212760"/>
            <a:ext cx="7937640" cy="708120"/>
          </a:xfrm>
          <a:prstGeom prst="rect">
            <a:avLst/>
          </a:prstGeom>
          <a:ln w="0">
            <a:noFill/>
          </a:ln>
        </p:spPr>
      </p:pic>
      <p:sp>
        <p:nvSpPr>
          <p:cNvPr id="23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85A7-A5EA-4D61-8D86-F355C122B8A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03360" y="1295280"/>
          <a:ext cx="7107120" cy="4997520"/>
        </p:xfrm>
        <a:graphic>
          <a:graphicData uri="http://schemas.openxmlformats.org/drawingml/2006/table">
            <a:tbl>
              <a:tblPr/>
              <a:tblGrid>
                <a:gridCol w="1378080"/>
                <a:gridCol w="1522440"/>
                <a:gridCol w="512640"/>
                <a:gridCol w="352440"/>
                <a:gridCol w="1368360"/>
                <a:gridCol w="1973160"/>
              </a:tblGrid>
              <a:tr h="390960">
                <a:tc gridSpan="6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rojects Approved: Active and Comple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280">
                <a:tc>
                  <a:txBody>
                    <a:bodyPr lIns="87120" rIns="87120" tIns="42840" bIns="42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2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7 BD, 85 CC, 20 IW, 16 LD, 39 MF, 25 PO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6 Active, 66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cfb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87120" rIns="87120" tIns="42840" bIns="428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TION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5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gridSpan="2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cal 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t and Co-finanic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329400">
                <a:tc gridSpan="2"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8 Active, 47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rowSpan="2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5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5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2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147060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Gran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$393 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 Financing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$2.98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1920">
                <a:tc gridSpan="3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IONAL   49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Grant    $302 M  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Co Financing   $1.4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 BD, 11 CC, 15 IW, 7 MF, 5 P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  38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Grant    $312 M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Co Financing   $39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 BD, 12 CC, 2 IW, 8 MF, 3 P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3" name="TextBox 5"/>
          <p:cNvSpPr/>
          <p:nvPr/>
        </p:nvSpPr>
        <p:spPr>
          <a:xfrm>
            <a:off x="1981080" y="714240"/>
            <a:ext cx="6400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k Islands, Fiji, Indonesia, Kiribati, Marshall Islands, Micronesia, Nauru, Niue, Palau, Papua New Guinea, Philippines, Samoa, Solomon Islands, Timor Leste, Tonga, Tuvalu, and Vanuat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1212840" y="208080"/>
            <a:ext cx="7785000" cy="590400"/>
          </a:xfrm>
          <a:prstGeom prst="rect">
            <a:avLst/>
          </a:prstGeom>
          <a:ln w="0">
            <a:noFill/>
          </a:ln>
        </p:spPr>
      </p:pic>
      <p:sp>
        <p:nvSpPr>
          <p:cNvPr id="23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B01E-063B-4E95-8F2E-00B21AB962B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Chart 2" descr=""/>
          <p:cNvPicPr/>
          <p:nvPr/>
        </p:nvPicPr>
        <p:blipFill>
          <a:blip r:embed="rId2"/>
          <a:stretch/>
        </p:blipFill>
        <p:spPr>
          <a:xfrm>
            <a:off x="1168560" y="863640"/>
            <a:ext cx="3682800" cy="2997000"/>
          </a:xfrm>
          <a:prstGeom prst="rect">
            <a:avLst/>
          </a:prstGeom>
          <a:ln w="0">
            <a:noFill/>
          </a:ln>
        </p:spPr>
      </p:pic>
      <p:pic>
        <p:nvPicPr>
          <p:cNvPr id="237" name="Chart 6" descr=""/>
          <p:cNvPicPr/>
          <p:nvPr/>
        </p:nvPicPr>
        <p:blipFill>
          <a:blip r:embed="rId3"/>
          <a:stretch/>
        </p:blipFill>
        <p:spPr>
          <a:xfrm>
            <a:off x="1092240" y="4444920"/>
            <a:ext cx="2921040" cy="2235240"/>
          </a:xfrm>
          <a:prstGeom prst="rect">
            <a:avLst/>
          </a:prstGeom>
          <a:ln w="0">
            <a:noFill/>
          </a:ln>
        </p:spPr>
      </p:pic>
      <p:pic>
        <p:nvPicPr>
          <p:cNvPr id="238" name="Chart 12" descr=""/>
          <p:cNvPicPr/>
          <p:nvPr/>
        </p:nvPicPr>
        <p:blipFill>
          <a:blip r:embed="rId4"/>
          <a:stretch/>
        </p:blipFill>
        <p:spPr>
          <a:xfrm>
            <a:off x="3301920" y="4444920"/>
            <a:ext cx="2921040" cy="23115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8"/>
          <p:cNvSpPr/>
          <p:nvPr/>
        </p:nvSpPr>
        <p:spPr>
          <a:xfrm>
            <a:off x="1219320" y="4038480"/>
            <a:ext cx="4114800" cy="2514600"/>
          </a:xfrm>
          <a:prstGeom prst="rect">
            <a:avLst/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1795320" y="4052880"/>
            <a:ext cx="304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Active &amp; Completed National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Chart 5" descr=""/>
          <p:cNvPicPr/>
          <p:nvPr/>
        </p:nvPicPr>
        <p:blipFill>
          <a:blip r:embed="rId5"/>
          <a:stretch/>
        </p:blipFill>
        <p:spPr>
          <a:xfrm>
            <a:off x="4521240" y="787320"/>
            <a:ext cx="4521240" cy="4254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73188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7382-BB5E-4845-8BEA-836C237E1B6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Chart 2" descr=""/>
          <p:cNvPicPr/>
          <p:nvPr/>
        </p:nvPicPr>
        <p:blipFill>
          <a:blip r:embed="rId2"/>
          <a:stretch/>
        </p:blipFill>
        <p:spPr>
          <a:xfrm>
            <a:off x="939960" y="787320"/>
            <a:ext cx="3835080" cy="3073320"/>
          </a:xfrm>
          <a:prstGeom prst="rect">
            <a:avLst/>
          </a:prstGeom>
          <a:ln w="0">
            <a:noFill/>
          </a:ln>
        </p:spPr>
      </p:pic>
      <p:pic>
        <p:nvPicPr>
          <p:cNvPr id="245" name="Chart 16" descr=""/>
          <p:cNvPicPr/>
          <p:nvPr/>
        </p:nvPicPr>
        <p:blipFill>
          <a:blip r:embed="rId3"/>
          <a:stretch/>
        </p:blipFill>
        <p:spPr>
          <a:xfrm>
            <a:off x="4978440" y="939960"/>
            <a:ext cx="3835440" cy="2920680"/>
          </a:xfrm>
          <a:prstGeom prst="rect">
            <a:avLst/>
          </a:prstGeom>
          <a:ln w="0">
            <a:noFill/>
          </a:ln>
        </p:spPr>
      </p:pic>
      <p:pic>
        <p:nvPicPr>
          <p:cNvPr id="246" name="Chart 17" descr=""/>
          <p:cNvPicPr/>
          <p:nvPr/>
        </p:nvPicPr>
        <p:blipFill>
          <a:blip r:embed="rId4"/>
          <a:stretch/>
        </p:blipFill>
        <p:spPr>
          <a:xfrm>
            <a:off x="1816200" y="3624120"/>
            <a:ext cx="6578640" cy="31496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4"/>
          <p:cNvSpPr/>
          <p:nvPr/>
        </p:nvSpPr>
        <p:spPr>
          <a:xfrm>
            <a:off x="1522440" y="1150920"/>
            <a:ext cx="5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8"/>
          <p:cNvSpPr/>
          <p:nvPr/>
        </p:nvSpPr>
        <p:spPr>
          <a:xfrm>
            <a:off x="2471760" y="18288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9"/>
          <p:cNvSpPr/>
          <p:nvPr/>
        </p:nvSpPr>
        <p:spPr>
          <a:xfrm>
            <a:off x="3538440" y="13716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0"/>
          <p:cNvSpPr/>
          <p:nvPr/>
        </p:nvSpPr>
        <p:spPr>
          <a:xfrm>
            <a:off x="5105520" y="99072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1"/>
          <p:cNvSpPr/>
          <p:nvPr/>
        </p:nvSpPr>
        <p:spPr>
          <a:xfrm>
            <a:off x="6172200" y="2620800"/>
            <a:ext cx="4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2"/>
          <p:cNvSpPr/>
          <p:nvPr/>
        </p:nvSpPr>
        <p:spPr>
          <a:xfrm>
            <a:off x="7120080" y="22096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4"/>
          <p:cNvSpPr/>
          <p:nvPr/>
        </p:nvSpPr>
        <p:spPr>
          <a:xfrm>
            <a:off x="1811160" y="4038480"/>
            <a:ext cx="5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5"/>
          <p:cNvSpPr/>
          <p:nvPr/>
        </p:nvSpPr>
        <p:spPr>
          <a:xfrm>
            <a:off x="2852640" y="403848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6"/>
          <p:cNvSpPr/>
          <p:nvPr/>
        </p:nvSpPr>
        <p:spPr>
          <a:xfrm>
            <a:off x="6348240" y="5189400"/>
            <a:ext cx="5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7"/>
          <p:cNvSpPr/>
          <p:nvPr/>
        </p:nvSpPr>
        <p:spPr>
          <a:xfrm>
            <a:off x="7391520" y="532764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1" descr=""/>
          <p:cNvPicPr/>
          <p:nvPr/>
        </p:nvPicPr>
        <p:blipFill>
          <a:blip r:embed="rId1"/>
          <a:stretch/>
        </p:blipFill>
        <p:spPr>
          <a:xfrm>
            <a:off x="1292400" y="219240"/>
            <a:ext cx="7553160" cy="1006200"/>
          </a:xfrm>
          <a:prstGeom prst="rect">
            <a:avLst/>
          </a:prstGeom>
          <a:ln w="0">
            <a:noFill/>
          </a:ln>
        </p:spPr>
      </p:pic>
      <p:sp>
        <p:nvSpPr>
          <p:cNvPr id="25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FF23-2861-469C-B931-2415F87EF05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3"/>
          <p:cNvSpPr/>
          <p:nvPr/>
        </p:nvSpPr>
        <p:spPr>
          <a:xfrm>
            <a:off x="228600" y="18637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National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4"/>
          <p:cNvSpPr/>
          <p:nvPr/>
        </p:nvSpPr>
        <p:spPr>
          <a:xfrm>
            <a:off x="0" y="3753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5"/>
          <p:cNvSpPr/>
          <p:nvPr/>
        </p:nvSpPr>
        <p:spPr>
          <a:xfrm>
            <a:off x="558720" y="533412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S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Chart 16" descr=""/>
          <p:cNvPicPr/>
          <p:nvPr/>
        </p:nvPicPr>
        <p:blipFill>
          <a:blip r:embed="rId2"/>
          <a:stretch/>
        </p:blipFill>
        <p:spPr>
          <a:xfrm>
            <a:off x="1114560" y="1015920"/>
            <a:ext cx="2288880" cy="2463840"/>
          </a:xfrm>
          <a:prstGeom prst="rect">
            <a:avLst/>
          </a:prstGeom>
          <a:ln w="0">
            <a:noFill/>
          </a:ln>
        </p:spPr>
      </p:pic>
      <p:pic>
        <p:nvPicPr>
          <p:cNvPr id="263" name="Chart 17" descr=""/>
          <p:cNvPicPr/>
          <p:nvPr/>
        </p:nvPicPr>
        <p:blipFill>
          <a:blip r:embed="rId3"/>
          <a:stretch/>
        </p:blipFill>
        <p:spPr>
          <a:xfrm>
            <a:off x="1397160" y="3378240"/>
            <a:ext cx="2082600" cy="1576440"/>
          </a:xfrm>
          <a:prstGeom prst="rect">
            <a:avLst/>
          </a:prstGeom>
          <a:ln w="0">
            <a:noFill/>
          </a:ln>
        </p:spPr>
      </p:pic>
      <p:pic>
        <p:nvPicPr>
          <p:cNvPr id="264" name="Chart 18" descr=""/>
          <p:cNvPicPr/>
          <p:nvPr/>
        </p:nvPicPr>
        <p:blipFill>
          <a:blip r:embed="rId4"/>
          <a:stretch/>
        </p:blipFill>
        <p:spPr>
          <a:xfrm>
            <a:off x="1320840" y="5130720"/>
            <a:ext cx="2082600" cy="1576440"/>
          </a:xfrm>
          <a:prstGeom prst="rect">
            <a:avLst/>
          </a:prstGeom>
          <a:ln w="0">
            <a:noFill/>
          </a:ln>
        </p:spPr>
      </p:pic>
      <p:pic>
        <p:nvPicPr>
          <p:cNvPr id="265" name="Chart 19" descr=""/>
          <p:cNvPicPr/>
          <p:nvPr/>
        </p:nvPicPr>
        <p:blipFill>
          <a:blip r:embed="rId5"/>
          <a:stretch/>
        </p:blipFill>
        <p:spPr>
          <a:xfrm>
            <a:off x="3301920" y="1015920"/>
            <a:ext cx="3073320" cy="2463840"/>
          </a:xfrm>
          <a:prstGeom prst="rect">
            <a:avLst/>
          </a:prstGeom>
          <a:ln w="0">
            <a:noFill/>
          </a:ln>
        </p:spPr>
      </p:pic>
      <p:pic>
        <p:nvPicPr>
          <p:cNvPr id="266" name="Chart 20" descr=""/>
          <p:cNvPicPr/>
          <p:nvPr/>
        </p:nvPicPr>
        <p:blipFill>
          <a:blip r:embed="rId6"/>
          <a:stretch/>
        </p:blipFill>
        <p:spPr>
          <a:xfrm>
            <a:off x="6121440" y="1004760"/>
            <a:ext cx="3225600" cy="2463840"/>
          </a:xfrm>
          <a:prstGeom prst="rect">
            <a:avLst/>
          </a:prstGeom>
          <a:ln w="0">
            <a:noFill/>
          </a:ln>
        </p:spPr>
      </p:pic>
      <p:pic>
        <p:nvPicPr>
          <p:cNvPr id="267" name="Chart 21" descr=""/>
          <p:cNvPicPr/>
          <p:nvPr/>
        </p:nvPicPr>
        <p:blipFill>
          <a:blip r:embed="rId7"/>
          <a:stretch/>
        </p:blipFill>
        <p:spPr>
          <a:xfrm>
            <a:off x="3530520" y="3367080"/>
            <a:ext cx="2387520" cy="1701720"/>
          </a:xfrm>
          <a:prstGeom prst="rect">
            <a:avLst/>
          </a:prstGeom>
          <a:ln w="0">
            <a:noFill/>
          </a:ln>
        </p:spPr>
      </p:pic>
      <p:pic>
        <p:nvPicPr>
          <p:cNvPr id="268" name="Chart 22" descr=""/>
          <p:cNvPicPr/>
          <p:nvPr/>
        </p:nvPicPr>
        <p:blipFill>
          <a:blip r:embed="rId8"/>
          <a:stretch/>
        </p:blipFill>
        <p:spPr>
          <a:xfrm>
            <a:off x="3530520" y="5054760"/>
            <a:ext cx="2387520" cy="1701720"/>
          </a:xfrm>
          <a:prstGeom prst="rect">
            <a:avLst/>
          </a:prstGeom>
          <a:ln w="0">
            <a:noFill/>
          </a:ln>
        </p:spPr>
      </p:pic>
      <p:pic>
        <p:nvPicPr>
          <p:cNvPr id="269" name="Chart 23" descr=""/>
          <p:cNvPicPr/>
          <p:nvPr/>
        </p:nvPicPr>
        <p:blipFill>
          <a:blip r:embed="rId9"/>
          <a:stretch/>
        </p:blipFill>
        <p:spPr>
          <a:xfrm>
            <a:off x="6426360" y="3378240"/>
            <a:ext cx="2311200" cy="1865160"/>
          </a:xfrm>
          <a:prstGeom prst="rect">
            <a:avLst/>
          </a:prstGeom>
          <a:ln w="0">
            <a:noFill/>
          </a:ln>
        </p:spPr>
      </p:pic>
      <p:pic>
        <p:nvPicPr>
          <p:cNvPr id="270" name="Chart 24" descr=""/>
          <p:cNvPicPr/>
          <p:nvPr/>
        </p:nvPicPr>
        <p:blipFill>
          <a:blip r:embed="rId10"/>
          <a:stretch/>
        </p:blipFill>
        <p:spPr>
          <a:xfrm>
            <a:off x="6350040" y="5043600"/>
            <a:ext cx="2311200" cy="1865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2"/>
          <p:cNvSpPr/>
          <p:nvPr/>
        </p:nvSpPr>
        <p:spPr>
          <a:xfrm>
            <a:off x="2057400" y="2017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, 2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5"/>
          <p:cNvSpPr/>
          <p:nvPr/>
        </p:nvSpPr>
        <p:spPr>
          <a:xfrm>
            <a:off x="1981080" y="35830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, 1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6"/>
          <p:cNvSpPr/>
          <p:nvPr/>
        </p:nvSpPr>
        <p:spPr>
          <a:xfrm>
            <a:off x="4552920" y="376884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,2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828800" y="114264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Calibri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F EO CPE web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hegef.org/gef/node/78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nior Evaluation Offic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C29C-DB8A-423D-BF12-0B9DC6C4F266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8EA4-0658-423E-8B12-26681C98343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7" name="Title 1" descr=""/>
          <p:cNvPicPr/>
          <p:nvPr/>
        </p:nvPicPr>
        <p:blipFill>
          <a:blip r:embed="rId2"/>
          <a:stretch/>
        </p:blipFill>
        <p:spPr>
          <a:xfrm>
            <a:off x="1517760" y="298440"/>
            <a:ext cx="7480080" cy="1030320"/>
          </a:xfrm>
          <a:prstGeom prst="rect">
            <a:avLst/>
          </a:prstGeom>
          <a:ln w="0">
            <a:noFill/>
          </a:ln>
        </p:spPr>
      </p:pic>
      <p:sp>
        <p:nvSpPr>
          <p:cNvPr id="148" name="Content Placeholder 2"/>
          <p:cNvSpPr/>
          <p:nvPr/>
        </p:nvSpPr>
        <p:spPr>
          <a:xfrm>
            <a:off x="1295280" y="1600200"/>
            <a:ext cx="7620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Result based management - Setting goals and objectives, Monitoring, learning and decision m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Evaluation is a “reality check” on RB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RBM,  especially monitoring, tell whether the organization is 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“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on tr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Evaluation could tell whether the organization is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“on the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right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 trac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294920" y="1294920"/>
            <a:ext cx="7620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Two overarching objectives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or the achievement of GEF objectives through the assessment of 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</a:rPr>
              <a:t>result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</a:rPr>
              <a:t>effectivenes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</a:rPr>
              <a:t>process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</a:rPr>
              <a:t>performan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f the partners involved in GEF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knowledge sharing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 results and lessons learned among the GEF and its partners as a basis for decision making on policies, strategies, program management, programs, and projects; and to improv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knowledg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DA7E-6652-4A35-A8BA-706482F04F0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1"/>
          <a:stretch/>
        </p:blipFill>
        <p:spPr>
          <a:xfrm>
            <a:off x="1212840" y="-648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295280" y="13712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ference to GEF Results-based Management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(RB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engthened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knowledge sharing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lear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arification of roles and responsibil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onger role for GEF Operational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Focal Point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M&amp;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lusion of programs and jointly implement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Baseline data for M&amp;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be established by CEO endors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New Minimum Requirement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 engagement of GEF Operational Focal Points in project and program M&amp;E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4569-A9F6-4B94-AEA5-3B3BA605EDF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755640" y="298440"/>
            <a:ext cx="8089920" cy="8539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609480" y="1295280"/>
            <a:ext cx="8153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40"/>
          <p:cNvGrpSpPr/>
          <p:nvPr/>
        </p:nvGrpSpPr>
        <p:grpSpPr>
          <a:xfrm>
            <a:off x="1295280" y="1447920"/>
            <a:ext cx="7390800" cy="4874400"/>
            <a:chOff x="1295280" y="1447920"/>
            <a:chExt cx="7390800" cy="4874400"/>
          </a:xfrm>
        </p:grpSpPr>
        <p:sp>
          <p:nvSpPr>
            <p:cNvPr id="158" name="Text Box 56"/>
            <p:cNvSpPr/>
            <p:nvPr/>
          </p:nvSpPr>
          <p:spPr>
            <a:xfrm>
              <a:off x="1295280" y="4815360"/>
              <a:ext cx="1486080" cy="9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perating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bottom-u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55"/>
            <p:cNvSpPr/>
            <p:nvPr/>
          </p:nvSpPr>
          <p:spPr>
            <a:xfrm>
              <a:off x="1524240" y="2375280"/>
              <a:ext cx="1245240" cy="9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stitutional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top-dow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41"/>
            <p:cNvGrpSpPr/>
            <p:nvPr/>
          </p:nvGrpSpPr>
          <p:grpSpPr>
            <a:xfrm>
              <a:off x="3544560" y="1447920"/>
              <a:ext cx="5141520" cy="4799520"/>
              <a:chOff x="3544560" y="1447920"/>
              <a:chExt cx="5141520" cy="4799520"/>
            </a:xfrm>
          </p:grpSpPr>
          <p:sp>
            <p:nvSpPr>
              <p:cNvPr id="161" name="AutoShape 42"/>
              <p:cNvSpPr/>
              <p:nvPr/>
            </p:nvSpPr>
            <p:spPr>
              <a:xfrm>
                <a:off x="3544560" y="1447920"/>
                <a:ext cx="5141520" cy="479952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43"/>
              <p:cNvSpPr/>
              <p:nvPr/>
            </p:nvSpPr>
            <p:spPr>
              <a:xfrm>
                <a:off x="5553720" y="5223960"/>
                <a:ext cx="1226520" cy="94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ject Objectiv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4"/>
              <p:cNvSpPr/>
              <p:nvPr/>
            </p:nvSpPr>
            <p:spPr>
              <a:xfrm>
                <a:off x="5332680" y="3215880"/>
                <a:ext cx="1575720" cy="56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ocal Are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o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45"/>
              <p:cNvSpPr/>
              <p:nvPr/>
            </p:nvSpPr>
            <p:spPr>
              <a:xfrm>
                <a:off x="5638320" y="1887120"/>
                <a:ext cx="915480" cy="77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EF Strategic Go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46"/>
              <p:cNvSpPr/>
              <p:nvPr/>
            </p:nvSpPr>
            <p:spPr>
              <a:xfrm>
                <a:off x="4722840" y="4100400"/>
                <a:ext cx="281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5536800" y="4352760"/>
                <a:ext cx="1243800" cy="56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ocal Are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ectiv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48"/>
              <p:cNvSpPr/>
              <p:nvPr/>
            </p:nvSpPr>
            <p:spPr>
              <a:xfrm>
                <a:off x="4124880" y="5110560"/>
                <a:ext cx="398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49"/>
              <p:cNvSpPr/>
              <p:nvPr/>
            </p:nvSpPr>
            <p:spPr>
              <a:xfrm>
                <a:off x="5369040" y="2836800"/>
                <a:ext cx="149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Text Box 50"/>
            <p:cNvSpPr/>
            <p:nvPr/>
          </p:nvSpPr>
          <p:spPr>
            <a:xfrm>
              <a:off x="2781360" y="2362680"/>
              <a:ext cx="1807200" cy="39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E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mpa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co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1"/>
            <p:cNvSpPr/>
            <p:nvPr/>
          </p:nvSpPr>
          <p:spPr>
            <a:xfrm flipV="1">
              <a:off x="3655080" y="4190400"/>
              <a:ext cx="1800" cy="69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2"/>
            <p:cNvSpPr/>
            <p:nvPr/>
          </p:nvSpPr>
          <p:spPr>
            <a:xfrm>
              <a:off x="3655080" y="3112920"/>
              <a:ext cx="1800" cy="69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53"/>
            <p:cNvSpPr/>
            <p:nvPr/>
          </p:nvSpPr>
          <p:spPr>
            <a:xfrm flipH="1">
              <a:off x="2741400" y="2075400"/>
              <a:ext cx="321120" cy="1199880"/>
            </a:xfrm>
            <a:custGeom>
              <a:avLst/>
              <a:gdLst>
                <a:gd name="textAreaLeft" fmla="*/ 0 w 321120"/>
                <a:gd name="textAreaRight" fmla="*/ 115920 w 321120"/>
                <a:gd name="textAreaTop" fmla="*/ 33120 h 1199880"/>
                <a:gd name="textAreaBottom" fmla="*/ 1166760 h 119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60"/>
                    <a:pt x="10800" y="1920"/>
                  </a:cubicBezTo>
                  <a:lnTo>
                    <a:pt x="10800" y="8880"/>
                  </a:lnTo>
                  <a:cubicBezTo>
                    <a:pt x="10800" y="9840"/>
                    <a:pt x="16200" y="10800"/>
                    <a:pt x="21600" y="10800"/>
                  </a:cubicBezTo>
                  <a:cubicBezTo>
                    <a:pt x="16200" y="10800"/>
                    <a:pt x="10800" y="11760"/>
                    <a:pt x="10800" y="12720"/>
                  </a:cubicBezTo>
                  <a:lnTo>
                    <a:pt x="10800" y="19680"/>
                  </a:lnTo>
                  <a:cubicBezTo>
                    <a:pt x="10800" y="2064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54"/>
            <p:cNvSpPr/>
            <p:nvPr/>
          </p:nvSpPr>
          <p:spPr>
            <a:xfrm flipH="1">
              <a:off x="2741400" y="4327560"/>
              <a:ext cx="321120" cy="1499760"/>
            </a:xfrm>
            <a:custGeom>
              <a:avLst/>
              <a:gdLst>
                <a:gd name="textAreaLeft" fmla="*/ 0 w 321120"/>
                <a:gd name="textAreaRight" fmla="*/ 115920 w 321120"/>
                <a:gd name="textAreaTop" fmla="*/ 39600 h 1499760"/>
                <a:gd name="textAreaBottom" fmla="*/ 1460160 h 149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12"/>
                    <a:pt x="10800" y="1824"/>
                  </a:cubicBezTo>
                  <a:lnTo>
                    <a:pt x="10800" y="8976"/>
                  </a:lnTo>
                  <a:cubicBezTo>
                    <a:pt x="10800" y="9888"/>
                    <a:pt x="16200" y="10800"/>
                    <a:pt x="21600" y="10800"/>
                  </a:cubicBezTo>
                  <a:cubicBezTo>
                    <a:pt x="16200" y="10800"/>
                    <a:pt x="10800" y="11712"/>
                    <a:pt x="10800" y="12624"/>
                  </a:cubicBezTo>
                  <a:lnTo>
                    <a:pt x="10800" y="19776"/>
                  </a:lnTo>
                  <a:cubicBezTo>
                    <a:pt x="10800" y="2068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8F44-F8CA-4EDA-872A-37C2C880F84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Rectangle 2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4"/>
          <p:cNvGrpSpPr/>
          <p:nvPr/>
        </p:nvGrpSpPr>
        <p:grpSpPr>
          <a:xfrm>
            <a:off x="1143000" y="1447920"/>
            <a:ext cx="7543440" cy="4113360"/>
            <a:chOff x="1143000" y="1447920"/>
            <a:chExt cx="7543440" cy="4113360"/>
          </a:xfrm>
        </p:grpSpPr>
        <p:sp>
          <p:nvSpPr>
            <p:cNvPr id="177" name="Text Box 5"/>
            <p:cNvSpPr/>
            <p:nvPr/>
          </p:nvSpPr>
          <p:spPr>
            <a:xfrm>
              <a:off x="1143000" y="1447920"/>
              <a:ext cx="26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ject and Program Desig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3809520" y="1447920"/>
              <a:ext cx="243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6255360" y="1447920"/>
              <a:ext cx="243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valu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>
              <a:off x="3810960" y="1598760"/>
              <a:ext cx="37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>
              <a:off x="6098040" y="1598760"/>
              <a:ext cx="60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1479240" y="2077200"/>
              <a:ext cx="191556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FA/Results frame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&amp;E P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1"/>
            <p:cNvSpPr/>
            <p:nvPr/>
          </p:nvSpPr>
          <p:spPr>
            <a:xfrm>
              <a:off x="2781720" y="3493440"/>
              <a:ext cx="3994560" cy="1415880"/>
            </a:xfrm>
            <a:prstGeom prst="rightArrow">
              <a:avLst>
                <a:gd name="adj1" fmla="val 50000"/>
                <a:gd name="adj2" fmla="val 705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2"/>
            <p:cNvSpPr/>
            <p:nvPr/>
          </p:nvSpPr>
          <p:spPr>
            <a:xfrm>
              <a:off x="2745720" y="3965400"/>
              <a:ext cx="335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nagement, monitoring, and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3"/>
            <p:cNvSpPr/>
            <p:nvPr/>
          </p:nvSpPr>
          <p:spPr>
            <a:xfrm>
              <a:off x="3581280" y="2077200"/>
              <a:ext cx="266652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nitoring of progress; midpoint course correction as need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4"/>
            <p:cNvSpPr/>
            <p:nvPr/>
          </p:nvSpPr>
          <p:spPr>
            <a:xfrm>
              <a:off x="6428880" y="2077200"/>
              <a:ext cx="21708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erminal Evalu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essons Lear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6"/>
            <p:cNvSpPr/>
            <p:nvPr/>
          </p:nvSpPr>
          <p:spPr>
            <a:xfrm>
              <a:off x="4557600" y="5223960"/>
              <a:ext cx="281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ssons learned; Good pract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7"/>
          <p:cNvSpPr/>
          <p:nvPr/>
        </p:nvSpPr>
        <p:spPr>
          <a:xfrm>
            <a:off x="1468800" y="6245280"/>
            <a:ext cx="70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apted from the World Bank’s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Results Focus in Country Assistance Strategie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July 2005, p.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934320" y="632448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9222-7795-4B2A-835B-C9B482836B2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AutoShape 15"/>
          <p:cNvCxnSpPr/>
          <p:nvPr/>
        </p:nvCxnSpPr>
        <p:spPr>
          <a:xfrm rot="5400000">
            <a:off x="4942800" y="237960"/>
            <a:ext cx="219960" cy="5077440"/>
          </a:xfrm>
          <a:prstGeom prst="bentConnector3">
            <a:avLst>
              <a:gd name="adj1" fmla="val 149131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129528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&amp;E contributes to knowledge building and organizational improve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ndings and lessons should be accessible to target audiences in a user-friendly wa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Evaluation reports should be subject to a dynamic dissemination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 sharing enables partners to capitalize on lessons learned from experie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 of KM in the GE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Promotion of a culture of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pplication of lessons l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eedback to new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42BF-2926-45D2-B8E5-F04F9AEDAA1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84160"/>
          </a:xfrm>
          <a:prstGeom prst="rect">
            <a:avLst/>
          </a:prstGeom>
          <a:ln w="0">
            <a:noFill/>
          </a:ln>
        </p:spPr>
      </p:pic>
      <p:sp>
        <p:nvSpPr>
          <p:cNvPr id="19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F0DA-B456-448B-B87F-4E353D44513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Object 2" descr=""/>
          <p:cNvPicPr/>
          <p:nvPr/>
        </p:nvPicPr>
        <p:blipFill>
          <a:blip r:embed="rId2"/>
          <a:stretch/>
        </p:blipFill>
        <p:spPr>
          <a:xfrm>
            <a:off x="1523880" y="1219320"/>
            <a:ext cx="7358040" cy="5410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wb350798</cp:lastModifiedBy>
  <dcterms:modified xsi:type="dcterms:W3CDTF">2011-11-01T18:27:44Z</dcterms:modified>
  <cp:revision>224</cp:revision>
  <dc:subject/>
  <dc:title>Slide 1</dc:title>
</cp:coreProperties>
</file>