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AA65-7D2A-4539-B4A3-9EACF024F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6531-7AE9-4114-909D-7BBF8F67A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C18B-AE21-4348-A662-EE071D3E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CCB-10A0-4673-A369-8DC76CDC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738-BD90-4D4D-BE19-98F6849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75C-B92B-4A86-9420-CD3786E0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C53-2B00-4C1C-8AE3-12234607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935A-EEFC-46B0-B6B8-E5339621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46D-4EE0-4E5E-B547-52AA3D48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ACA3-99B8-4817-8464-CDC31639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551F-2191-4270-A1F2-D3685212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F92F-CF3F-45D1-922A-C13164FC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DB2-A42A-403D-A46A-553DBB59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59FE-960A-4629-B06E-73161F36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EA49-FDE9-4BC1-98EC-6F57466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5C08-69F0-43BF-AE31-15A12F13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EB09-DAF6-49E8-825B-56571C46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B377-CF17-458E-99A7-C5ADEC98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B6ED-91CE-490D-B590-0BD8739C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345-574C-45EE-B587-11278711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9939-703C-44AC-BE34-812ACD4F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E5790-B340-4B55-83E6-4F7CF467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DF71-65B8-4FC4-B354-7FB2096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9DE3-4052-4740-8488-DC0F7615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D3D1-99AC-4A71-8A69-FDFB5DE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865B-971E-49BE-9806-E53E146E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FCD5-5EBF-4D11-9A7D-97906A7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057D-F631-42B1-96E2-A2090013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B195B-B873-4EEC-9695-E6024A7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FF47E-5250-4D37-884E-919F7A3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3EA-B7C6-4368-BF63-7BCE42D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8E35-7AB8-4927-A2DC-9561C63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FE05-0FFD-4A02-8ACF-B245B0EE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3394-8864-4E70-8BC0-704C0441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1554-31C5-4EC3-A3F8-D0BE34FC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025D-5385-4CB8-AFA7-244469CC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BA96-F36A-4F64-A59C-39D0AF80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3BB2-B6A6-4468-9DCE-B77CF9B3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8246-3D5E-4926-856D-9C95AEBC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FCABE-E768-45B4-BBFA-0F7E89C1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EFDA-7C18-4F2C-AB49-2256FF0E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D54-028E-4E3B-985A-0FC9474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00AC-3863-4DEE-BA71-8945F92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AF26-7BA6-4F62-8780-FA7B528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E926-48BC-49A0-A051-28030DAE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31CD-0922-4C19-AE83-F4A2CCC6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A42A-C314-42B9-BC5C-A728D522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4083-C4C3-4D95-B73A-F1080867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22CC-E3C2-4D52-A531-110CAD72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C4710-C5AD-4FAE-95D5-83AE03B7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66481-3F74-4ED8-AAB6-A4140890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BCA57-F5D7-41FD-8188-E9947918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6BB-7C58-4A24-A7A1-BB5A520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C874E-A45A-4D02-B7F8-353B3B92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BD1EA-73F6-4AA7-9DC8-8ED472C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CA227-FA42-4BCA-80EB-EBF48FAE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6F05-F49E-42D9-8151-F3A9CD3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88774-6D2C-439E-9C09-A636A774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7529F-6732-40B4-8E18-60D8D7CA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5D0ED-8846-4CFE-8B6C-27D2F4B4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289B-45E6-484B-ADBC-218DF2AA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BDEB9-8C83-4473-8189-D01830C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049F-614F-44C4-9F45-94C44CC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5DC-4449-4C26-A266-2AE1AE9A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4274-4590-465B-AC25-5BCD4557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AAE15-95CE-4DD6-892B-74283EE9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8FB26-9EB1-453B-A829-F58FFEFA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1E8B-BEB3-40E9-A62A-0D73EFE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DC73-316E-4085-B192-5A8D1B0D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38EF-8B99-4DE1-84C4-B47268E5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84F7C-C08B-4136-9B7A-0010C235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F10F-D049-43D8-9E50-18F1554C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857CE-EAA6-4D49-9654-B8197740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FA474-C566-4B54-89DD-F4109FB0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1FF-03F6-46D2-86F5-30795C21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6E013-15AB-4A65-98B6-4A24EA7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FAA0B-0A14-4DE4-9481-A776CF00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F2E52-615C-4CFC-97ED-A53DD94E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54709-0D04-4035-B6D9-40697E14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44C12-AE06-481D-A75F-4C19D5AB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287E-3EEC-409B-A7D5-E0BC9247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14F87-48CF-4140-8732-656B103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3BA57-38E2-4D30-884F-5FBDB0F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F41D2-7AAC-4FC8-80C9-4630B0F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EE2ED-497C-42A8-B63C-E2EAFBDB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BBA-E648-4EB7-BC88-7AB7F2DE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2099B-7347-4B2D-A170-B55EA29B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83CA3-F854-4A3D-B865-EF979573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A1EDF-6335-4C07-B6CE-B925D0A5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A646D-043B-4122-9C28-9BCB7AB0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60BFC-66D1-45F8-A495-83DAB919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9A094-CA53-4AA5-80FF-BB5EDF98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DE1DC-8813-4046-A3BA-E56EB1D7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29003-C36B-4B2E-9C29-F63BB8D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E6ED-4F2F-470D-82D5-E7D7F4B8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08DDE-90CB-4FE9-AB24-412F70E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85F4B-BC00-4257-A532-7FD1F40C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83962-F263-43CC-94E6-0DB25702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669C9-F5F3-4091-A39A-24A5FEAE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5DBAD-907C-40FF-BBFB-3AE82D88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41821-02D1-4624-8FD3-3211AECC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EB47C-8532-4512-A633-BA4F696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AC989-F95F-4572-BEEC-C8838668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DD0C8-ED43-46D5-8880-71E976C6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598DC-0EE0-40E0-921D-2BF20F3C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221C6-76D9-4DE6-B5A5-33BD21D1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12617-C201-4326-B936-CD9BBF66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D99DD-C193-4455-B2AD-700942B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C46D1-9B47-49DC-AE21-5568C4B5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91BFB-85B8-4C78-9D20-2172C1A8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BC0AB-0368-400C-968C-812D510E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4375C-7B4B-4187-A5A5-AECBC76E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24396-3B67-49AF-B6F2-9922214B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68719-B995-410B-96AD-74179E25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8FAB3-976F-42EA-B44F-95C6E8F9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92FE7-8D1A-4EB5-B229-B2F15DE6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D785A-39AF-472A-AB5E-E3C5A7C8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0C3A9-1355-4C45-B9D6-C9DFBAE7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0A512-5402-4E00-9F8C-57D9CED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E6356-3C66-4D8B-9F04-73118FF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C72FB-EADC-4B9F-A745-4F3C45E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55213-13FC-4F89-BCA5-5B8D930C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3B153-74C1-4A33-8C31-BFB842C9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7DF2E-5891-4940-A42C-1354DB77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462E1-7635-4EF7-ACAB-7C6256CD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2C256-0416-4AFD-AACC-FE729404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3E95-5C7B-4691-87C1-29C35493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DC4D5-F013-4F98-8CE8-C3C7A942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61A51-8B72-4FAC-9869-DAD21154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43FFF-D5EF-436A-807C-D183ACEF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F4964-DB8F-43F7-85CE-7A794F0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36317-B658-4EEF-9828-1A1954A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9B5A7-E260-4276-87B9-08B3069B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650A7-4BB4-435B-97D4-5269B173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9EEE-053C-409F-8538-179DB4BB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A064A-7566-4C4D-A11F-AE3647A0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1B557-8F77-43D1-A658-691907C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DA303-ED46-4E56-B1F4-192B8D96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A5D5A-4D15-4B31-A706-41626F06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FE767-32A7-4B49-8F2F-F2240FEF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7C6BF-0D0E-4151-9406-4F1D3540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6BD6E-ED09-47C5-8ECE-490F40E3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75196-ED77-4F95-9A6A-76765F1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953E5-2841-4D5D-9B02-B6B4E9EC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0452E-A2DD-4C84-8D1B-5B7FFFA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64629-B7E3-46F2-B97E-FD6B55D8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19656-4599-477D-BBB5-2C7EF0B2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B8B76-81B9-4E67-AC19-2B87A2D4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E35FD-BEE4-45E1-8D11-D9231FD4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2A2FB-68C9-4CDB-810B-C92C0BE2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CF987-AFE1-4BEA-93AB-FBE9EF7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6AFE5-5755-4FAA-AB80-CE48363F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185D0-07D8-427B-BFCD-CE3D14C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D9268-FEC7-4D2A-8514-6AF32016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EA7C9-1E4B-4B6A-97AA-79A2B4F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39D6D-6A09-4CF7-8A5A-5FB75359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30DDF-1890-435D-8B7D-720E41A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698A0-656A-4F59-8784-FFCC0890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CEA1A-9F45-4B07-B4D0-8414C7F6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159-0BBC-4B1F-B817-A5A49B4BF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5B1D-ED18-4F5A-9921-14CA6A024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893A-8612-423B-8481-7D7C9648C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EA53-A937-4610-BBD1-A938E8D1E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B5F-20E7-4EEE-98E9-D59A043D6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79A4-7EB0-426F-8265-2966904BC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78D-2294-4CF6-964E-5D3D41686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2DB5-B582-46B2-AF25-5FDA9A36A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B9BD-641A-42BA-8F30-947711117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A546-05C8-4271-B677-732142879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99F-911F-48BC-BC3D-5CE59469D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AD35-7B8F-45A2-B5F0-3DC5B04DE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1066680" y="403848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20680" y="380520"/>
            <a:ext cx="7275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“flexible”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92080" y="76320"/>
            <a:ext cx="7275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“flexible”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“flexible”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2011 and 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9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7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9" name=""/>
          <p:cNvGraphicFramePr/>
          <p:nvPr/>
        </p:nvGraphicFramePr>
        <p:xfrm>
          <a:off x="304920" y="914400"/>
          <a:ext cx="8686800" cy="4906800"/>
        </p:xfrm>
        <a:graphic>
          <a:graphicData uri="http://schemas.openxmlformats.org/drawingml/2006/table">
            <a:tbl>
              <a:tblPr/>
              <a:tblGrid>
                <a:gridCol w="2895480"/>
                <a:gridCol w="826920"/>
                <a:gridCol w="827280"/>
                <a:gridCol w="731880"/>
                <a:gridCol w="923760"/>
                <a:gridCol w="730440"/>
                <a:gridCol w="923760"/>
                <a:gridCol w="827280"/>
              </a:tblGrid>
              <a:tr h="2458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4 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5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enish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k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ib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rshall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l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pua New Gui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ilipp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m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lomon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mor L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n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uva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anua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01T18:11:52Z</dcterms:modified>
  <cp:revision>567</cp:revision>
  <dc:subject/>
  <dc:title>GEF</dc:title>
</cp:coreProperties>
</file>