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6A73-4133-46BD-BFB6-6E514A38A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32D-A11B-4B93-8F54-6FB9E0553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6A35-1AEA-4395-B0A7-4A2706D2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509-2511-4292-B5F9-387F2079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603-B027-4DB2-84AF-52BE5323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48B-A58E-4B76-8D49-4EF1E773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A5D-99AB-43A3-BBBF-1C8AC41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A318-BCBA-4EAD-958D-316F95ED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770-9EDB-4E3C-B6F5-0123A836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AB1A-01E8-4C44-AA7D-588A2CCB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EADD-6E58-4CB1-9B8B-D1070C43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B425-49F5-4E79-A297-2E1229EB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3B9E-8390-4D19-B8E3-3340505A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5DD8-69F1-464E-84F1-63BF3FD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5FC0-DFA1-4500-A178-A1F2253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E0C1-439B-4F8F-BC52-941B3B1C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7D9A-93F3-4213-9A0E-6CDFC3E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F9FA-F091-4913-86FD-99892701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07C2-5830-4B3B-8805-79D3D6B2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D6F-92EF-43F3-ABB7-B244F61D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2418-7ED1-462B-8BAD-59A07401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4F0B-69F9-4FF3-B591-F876AA74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7627-6E6A-45E6-BC26-E4F10F2F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66BE-A1EA-4244-B6D1-6C01C7D4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235C-D3E7-4EAF-AA73-D8684F8B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D85B-E02B-44CB-B459-D7082E41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ED5C-F636-4A7C-8D84-DA140B0A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CBE5-E56A-4E5E-BC3B-5301406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356C-86FF-4CE0-9372-DBAF7C5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F819-33FE-4BA7-8FC1-AE866C1C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FB5-5C51-413D-A066-1C0E2394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17DA-D2EA-4AC8-A12D-90E04254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573B-860B-4DDC-8740-1755830E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F987-CB65-4B4F-9431-32C704FB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080D-2048-43D1-BBF7-4EF8B405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71E4-AAC8-4E2B-A731-DB91A3F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05B2-A9CA-4253-A7B2-7D310D5B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31F9-38C5-48EF-A152-FFAE817B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694F3-2307-48A1-941B-95A7E9EF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B90E-3C23-4D2C-A264-5CF0E67F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F7D4-BA27-40DA-822D-815091DC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F27-0081-4908-A500-F68CB13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45B9-74BA-48B6-A46A-B667C9E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4410-10A8-41D0-B70D-01D52D9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0055-9F35-4E97-B4B2-02B44CE4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9396-CDEC-4D98-8F07-79915927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04F2-551C-4AED-B4D2-D4D75771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DDB88-95BA-4510-A0C1-7A49D736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23B0-455D-4DC0-90E5-7F160696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D05E-9CE2-4841-83D3-6403B443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2456-6943-47E1-A1B2-5C175B2B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AD08-346E-461A-85F7-E7321CE6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BD6-B599-40EC-ABE5-72F690A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9831-DDD3-4FFE-9BAD-7B1885D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E30D4-F191-46A0-A963-F2467A2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E9E1F-F14A-4107-A341-39BFA941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4E71B-CC7E-431B-BF3B-A9757217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A63C-192E-4CB7-808A-712017D0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B3414-04FE-438F-856E-D45608E1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E142-3AD8-433E-AB3C-BEB06107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C6AAA-2FFC-486F-84C6-B0203C13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1303-35A5-4E0E-9973-6989BAC1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2E741-CAF6-4678-98A9-BBFF3CE2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F47-AA34-4EB3-A77B-EEE5B62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CC26B-AE25-46C4-B46B-4EE5DC0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6430-2C03-4114-8F5D-17996F5A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25CB-7169-4635-A9AB-EB3BE471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AD39-9EB3-4166-B8A9-DEC4B405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DA80-5F38-4B3D-BBFB-C6A6576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3176-0FA0-45C2-8EF7-C856A8F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6FE21-988E-42AB-9163-379D1A48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8131C-9C3C-4898-A299-39F7FCA9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66309-D039-48B8-918C-A8E9EBA6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8889E-D2B2-4891-883A-ED6B733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138-FBC7-4655-84A4-6EA62EF0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ACE2-C7FC-4496-B366-03C39B13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9FBD-1BE2-47AB-BA6F-FB3ED8D1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A638-30C9-4A4B-93D4-FDD81A08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8E61-DE9E-4DD2-AB7C-EC37000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CE369-D3F7-4269-A8C8-9B9E4E30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FDB34-9AD2-4C52-80F4-917D001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30DD0-DACA-4A5F-BA2B-570CD871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C2299-CBFA-4977-8907-BA13923F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7C6C2-94B0-40B6-ADDD-650CBBCF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7C27D-3F31-4578-B6C0-9C648016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830-9CA6-48BA-B5F4-740BB3D1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9E1C-5A5D-4719-899E-F18B9FD1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8A925-555B-4C5E-A299-F1BCC9B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0197F-06C9-4709-B18E-B1BA4B8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91A89-8078-42BD-8BB2-38A16982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BE62F-F587-4324-8A15-7EE05160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3D7D6-236E-4F4B-871B-AF1F41DE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2E5B0-C31A-446B-92AD-947AEB4B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B2BB7-47D9-4065-835D-0597BE1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CB147-D674-4A47-9269-7058A25D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737C4-D50A-4F55-8300-AA860FE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946B1-F00E-42BF-B21B-C724348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135F7-005D-4078-877B-C7568790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E32ED-0D2E-4E0D-9AC2-AEA1FDF9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1858C-34E3-4FA3-85C2-9C6CE5C3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8DA9F-3A00-405C-82B0-62DBF5ED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1A19D-C6DD-4A20-A762-7207281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F6F1A-5608-4F97-84E0-AB7A8017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42C5F-0025-4A2C-9A92-C25F618E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782F4-46D3-4D03-862A-55110A6E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3BB10-94B9-4180-85F2-1054EF90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5E5A4-BB70-4643-A1AA-F29A252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BE16-39A9-43F6-BE36-072A1E5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8F017-C90F-455A-9D4E-D4753BB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F6970-FFAA-4276-8576-1B5E3CD9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1E8E2-C2BD-4B56-ACBF-18734A10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E9443-B344-4253-9149-DBA4A413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7E7FB-F1A8-423F-8EDB-1F7C152D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8422B-7FDB-4B59-B471-81BE2EA2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4699A-D0B3-490E-A8FB-BF645184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FA035-1F01-479F-B0C6-9E373D0A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8D4B4-A1A1-4F0D-88CC-E3A17FEC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3E09B-8393-4B61-A47F-3C15168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C30E3-7A0C-42AD-8987-D195B3C4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7A5D4-C04D-40FE-BA7B-CCD6F5F9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49C44-A676-4494-A675-C887F98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17B64-3FEB-41D8-A382-72C1A37E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AB53A-2F28-4161-B795-6D444184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8C6E3-05BB-4CB8-A13D-8699BCE0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4E219-4620-444C-904E-F5630648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0BF0B-9072-406C-9678-E71C4DD0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DE851-3FBC-4C14-8524-DC9CCC7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F9AA9-829D-4BF8-91ED-CB40ED52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41F8F-DD79-4D02-BCC1-B01BC059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28C8B-7F25-4C10-905E-173BC71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5689F-8DD3-4955-8F16-63332C71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36BC-6DCA-4284-AD69-9CECCB4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0C01F-9ECB-4905-97A2-DF2C1662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9EE3-4320-4B77-8039-77B00A55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A3EF5-9EAB-4AA4-ADB5-DD09BD5F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AAAD2-C0DC-4B09-9F77-F30275D2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D039D-0C12-4A53-8394-14CBE7C0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64918-F480-4D84-BD9F-F1BD0639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4F797-1E04-4AA9-A243-486F8053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8FEC9-57CE-44BE-9B94-CAD9CEB0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E5D5D-D227-422E-A4F8-73E359B5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5FFC2-67F6-407C-B424-9751CB03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AF298-888D-4476-B2EE-3AEF832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FEF6F-5ADE-4AFD-AE84-05119601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B509F-07E2-4B47-BA74-8A114316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4EAFA-2FC2-4AF4-887C-9F4D4657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50DCD-8AE8-4D8E-B7C6-B22142FE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CB8A0-1B6E-4B44-AE37-8ECE922E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28616-A749-49EC-A7F6-853627D8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95FC0-8D23-47C9-B61F-7E480984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BF112-DE8F-4CFD-8514-777E96CF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626E3-C882-45AB-9A84-A5AA0C6F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8F49A-911E-4C75-A81C-A4370190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C3342-5C4D-4412-B1BE-A1DE3E58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65C31-8612-41C1-9BDC-48AEDC64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690FD-D6AA-4D6B-AF9C-5D43C57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8E0EF-3AED-47E9-ADFE-040D6DF7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F56F0-B06F-4499-8715-26383AF4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32F0F-E0C0-42ED-96F8-2FAC8EC2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4ACA-0BCE-435C-9DE6-66433B166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C58-6386-476E-B16E-CC04740A7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D995-66E0-4455-BBDA-F57BBD20AB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4A3-16B4-472F-9F2A-4D6310FFE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15CD-221D-4704-8E85-74AAAE5E9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90D0-D642-4DD4-A439-D35CD333C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76F-F48B-4614-8D5E-D5790F2C5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A40-8917-4C33-84C1-116A71144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2B01-8DC7-4C08-A6B7-75C8A557A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1E91-6F0E-41C8-B3CC-B03BF5CC0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AB47-650A-4BE9-8A1B-DAE9562B8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504C-94CA-42F8-A226-ED05A1295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1066680" y="403848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20680" y="380520"/>
            <a:ext cx="7275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“flexible”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92080" y="76320"/>
            <a:ext cx="7275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“flexible”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“flexible”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2011 and 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9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7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9" name=""/>
          <p:cNvGraphicFramePr/>
          <p:nvPr/>
        </p:nvGraphicFramePr>
        <p:xfrm>
          <a:off x="304920" y="914400"/>
          <a:ext cx="8686800" cy="4906800"/>
        </p:xfrm>
        <a:graphic>
          <a:graphicData uri="http://schemas.openxmlformats.org/drawingml/2006/table">
            <a:tbl>
              <a:tblPr/>
              <a:tblGrid>
                <a:gridCol w="2895480"/>
                <a:gridCol w="826920"/>
                <a:gridCol w="827280"/>
                <a:gridCol w="731880"/>
                <a:gridCol w="923760"/>
                <a:gridCol w="730440"/>
                <a:gridCol w="923760"/>
                <a:gridCol w="827280"/>
              </a:tblGrid>
              <a:tr h="2458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4 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5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enish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k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ib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rshall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l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pua New Gui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ilipp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m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lomon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mor L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uva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ua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01T18:11:52Z</dcterms:modified>
  <cp:revision>567</cp:revision>
  <dc:subject/>
  <dc:title>GEF</dc:title>
</cp:coreProperties>
</file>