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3311-48B1-4F25-A399-5186C0901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238-95B4-4FCA-8219-3BA132FA4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7B6B-52BE-4E00-A918-4C0447D54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5CD-4B29-43D7-A5F3-86977616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2A7-87AF-4F72-A840-5770B34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F4E-570E-4724-A1EB-D64603F1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A20-0368-4762-A4A9-6775D96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9EA0-71F8-43B0-A98C-C01A0E9B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08D-AAFC-4EBC-ACDA-57403D0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184-5E29-4827-95F9-EDBCD622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78CD-8322-4055-B9C8-41BB8013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2B4A-DAE3-4D77-B5A4-9719123F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3A1A-5EC4-41D2-B119-D7FB8BC7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1272-D055-4B18-ACB9-E031D3C1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384A-4450-42DC-B04F-2AD2DFD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0AD-A76B-45A1-90B8-B5E6005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E8D2-3C01-4F62-B865-3B4618A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76C0-89B1-48C8-BBBF-90ECE24B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D2AD-A14D-42A7-8F5C-404BD8C7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3E1-B0A8-441F-95D2-0703DE2E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9FE4-1F55-44D1-A3A1-64F511D7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94D9-BC5D-4517-B54E-3C90F19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CDD9-B66F-4631-902E-7958561F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314F-E8ED-4D2A-AC6B-C3B4F21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DC37-6ACD-46E2-B24E-BC4535D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3F3C-176D-4185-9B7E-ED33064A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7E3D-C009-476C-BE66-66BE810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5BC5-A6F3-493E-AF36-FF135820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9618-DC30-44F0-9645-DBCC9AF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8111-7D44-44E8-82FE-79E70F5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265-476B-44C5-A9D8-C88CAE6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4E1F-F520-4D04-8BE7-38B6A43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77A6-2E3D-4782-88D9-AACCB766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5206-B875-478F-B847-2EDE1286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5607-6A6C-462C-8C42-27CBB240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1544-2E26-4A22-82D1-DAB555B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DADD-DEFD-407D-9562-D47E7F4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98C2-CB9D-4026-B8EC-AA6CF1D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611E-ABD9-47E7-926D-D8639C27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F8A8-5564-4FD2-A2B4-B377D564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BCA5-E233-4CA8-99E9-8332949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C22-76AB-4428-BE54-73BAB9C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A051-ECF5-446F-B015-A275A231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184F-DA0F-47D7-9EF7-188B178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F307-625C-4657-B60A-B8AA694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3134-2E67-422A-BA58-EB57C427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7D81-599B-4D7F-B836-2255CC32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B65D-9D3C-4531-BB78-F61DAD5C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3D28-D89D-495C-9D1B-E9935138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ECA6-E696-40AE-9075-87EF2F3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4FF0-7EF2-47C5-82AD-F11DC854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04F3-D39B-4604-9A91-63257B8A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D74-B791-4E7F-846E-42866D8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BC3B3-1B3B-43CE-BD5B-81913155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BB52-DE8F-4EB5-9336-3764330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52BAC-0EA3-4380-9EDF-0CBC3AD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731F-BF58-42EC-9B70-8A8C82E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C86C-28C7-4F28-BA31-488E3E1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F841-D923-45E0-99DF-976FFB32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C263-F077-4D30-A399-35BE75C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AA1B-0EEB-487D-8BB8-AC56D5D4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489ED-C3DB-4715-8573-E2E541F6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874FA-BF53-43CF-8AFA-6B90E867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64A-0227-45F1-BF8D-052509D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A3B1-1261-4AD3-A8DC-0FAEF54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D13DF-953D-4D13-9953-9BB108F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1ABA-FE1A-4B8B-86B0-9189D2B0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AAB7-1484-4151-BAA1-B5A03D5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DA63-42D6-462B-838B-0AED68FC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A7C7-C5F1-4A22-8BFB-05995AE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293D-2DFA-4F77-8825-048A512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1815-F975-46DA-8FBE-64DF71EB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395C-09D3-4E03-AD8C-79EC27B6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3F1C-32CB-4476-B590-D43E8232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972-BD69-4C65-BB3E-ADED7CBE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D5527-50D2-4B17-905B-50B33E59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D671-A762-4F78-8BF5-1AD3B25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B240-E4D9-4A3E-BFC5-46FF8492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696F-AC68-49B7-A76C-612F79D9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287A6-40FC-449A-B79C-9B2AF8D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8F85-36E4-42FB-8E36-47A9F5B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5825F-E352-461A-BC7A-1F9AAEA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5960-6363-46E4-B82D-5B3698B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C7C5A-C5F3-4868-86A6-1F767C0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73E9-A67A-4F01-A78F-6D53564E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519-663F-40B0-AEE5-78958E87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D610-FDD2-43B1-B0E3-07CD94DE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9CAB7-164B-49C7-989A-0E585E15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A3B2-6659-4BA9-BF41-411DE3FE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A753D-DB41-4C7D-AC98-E0710C6A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ADA23-95E1-48F8-A4CA-4AFFAA84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51D3-93C0-4165-BC63-EC6B904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4B116-E44F-4998-8088-4739649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90ED4-E6B6-4BBE-A2CF-15D80C7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CD14-BCEA-42ED-8E41-363C437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C49BD-9368-4916-9EFA-7DCE5D1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8873F-BF1C-466A-9226-212E2D93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498A6-0877-4593-B8B9-7CAFCD32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215B7-E8EB-4CF7-A8B2-0E3BFD8F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0DA7E-C48D-4B6B-A561-9A2A50A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92639-EDEE-4F40-B911-5E7869ED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83C90-2E06-408B-8BBD-A3442DDE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F688C-B027-49BF-90CA-E49AC647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034EC-6F6E-45F4-ADFE-9F75BF4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E31DF-6F07-4F36-98FE-04D63AF0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E9AC7-5D59-4FFA-B190-9AE388C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F346B-D472-49CA-9BBB-027FE23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84B3D-3AB4-4491-9320-95C0D562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EC22D-9345-46E9-A607-0D5D4D5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F93C0-41B4-42A9-BBC7-40D89FC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3B8AF-E539-4D53-927D-1A8FA2D6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EC186-D441-4F6B-8475-BEC82194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F5B4A-F2CB-4404-B6A3-B0338E9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9C95D-2B6A-413B-9A6E-28D38BFD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914A8-BC14-42D1-ACA1-21BF201E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B4CE-B3FC-40FE-B74D-EB84F60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AE928-2369-4683-89DD-3B1B3F8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9748-DDE9-46A9-8346-A713D584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CA96B-1503-44E2-8DAE-316D769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A7DC-1A32-40F8-B20E-01922E40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944C2-B72A-4239-859F-17F4C78E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CC16D-AF77-4677-94AB-D1721169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49A5-E7CB-482F-BDCD-AE51B044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85DDB-323B-434D-A7F9-3EDC168B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DD73-239B-4728-AA75-35267FD5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41146-AF71-4E9A-89E4-CFFD5050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BEBC6-53CE-46FD-A8CC-1EEEDAB1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41023-1F6B-4CFC-A03C-58BA2D4B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995A8-345C-403F-8DD9-735DA3D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9D0F-2904-4DD9-BE9B-7CA00E1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6C375-A9FF-488E-A501-B38A82C7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90178-FE21-4A38-8D0A-218F166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69614-EAA5-4EEB-AE42-EDB4D0CA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E485-9368-4D7E-97AC-B9D05E5A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C7DD9-A11D-4692-8BC0-470B1B62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296CA-40A1-41ED-B840-3DB24572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1290C-790D-4380-8118-949F1649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8FFCC-0384-4BED-B74B-5D35FD3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BA5B5-7FCE-452E-BB7E-9293CB8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A9270-5F5E-413C-98EF-34B01F7D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85E21-41B4-458A-B887-F38C69A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80931-4736-4A00-9706-6A50FA3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D45D1-CB43-46C3-9B72-0566B2C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9CB5C-F7B9-4531-BAAA-CFAAB10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C8B92-7D07-4968-A7A4-EF439524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F80E3-FADC-4C4A-83D4-4FF25DD1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5A8AD-6AFF-437C-A0E0-6D5320EB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7ADFB-8DEB-4DE8-839E-CEAF5ABC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10C5D-B0E8-47DF-A9C1-1E4336F2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61953-F5CE-4A83-A0FB-6097E78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DA469-BC83-4325-B6B4-2A36F54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B8E70-8A10-422C-BC23-FA6A8839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FBF13-5E6E-4444-9444-707AF00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10E98-5D24-45FD-A4E8-69E8D23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6A2D3-A00C-4B96-B0E8-B4EEA83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6FE64-F3ED-4A71-A0F1-EAAAD86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BE9FE-B89E-43FC-93E9-0B04E1A4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CE8B4-9829-44FA-9260-37A5C4A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A163C-A7C3-4DDF-BECC-29216F7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AB7-04CF-4A9D-A3D4-CF4D0FE92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413-7D0C-465D-AA3F-894105145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BFD-9CDB-4CE9-9084-435877A3A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FC2D-63D9-404E-95A8-771DD8FD5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73F3-5A57-4012-A210-EFD7094D5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042F-5EEF-4188-BA17-518D9AF40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8EE-CF5B-422C-AEE2-8C9D18AFD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B88-B1EF-4735-BEFD-575F8EAEB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979-3B1B-4E0C-A333-83AA6D6C2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E1EA-2D47-4C67-9DAB-934B148AD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913-4A1F-43AE-BB78-B2DF6F8D9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20F3-0FA9-456A-8B59-9AA493436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22860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316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m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rbai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l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k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yrgyz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Fed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i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rkmen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zbeki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20:35:05Z</dcterms:modified>
  <cp:revision>579</cp:revision>
  <dc:subject/>
  <dc:title>GEF</dc:title>
</cp:coreProperties>
</file>