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D71C-1F92-4096-ABFF-8C563E506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C32-3ADA-48A7-9E87-CEE4B6F2A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DD8-91A5-45CD-AFC4-E7969F3ED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750-C9E6-43D8-A416-BB657DBB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4A1-7ACB-463C-B9E7-108697E8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A09-2B9E-4C90-A255-977EDAFF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4E3-BDBA-4448-9DB4-29B5F7F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BBF1-5940-40CB-BEE6-E8B38E29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D96-A030-440A-9C3B-F2F05175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FF67-7953-4C60-AFE7-9E80FFDD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D2F0-4E3B-4118-9C7E-371E8F92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990-3E85-44BE-B384-0B5C4789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FE54-A0F7-4309-A878-EE1F391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ECF-BB11-4420-B3F0-3EFD929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C85-E693-4879-A0D4-40B22D7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A893-CDD9-4BE2-BD22-674C8A90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190-1F9A-45DE-8116-74969FD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60D-4172-48D6-8A95-80D3B28B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A72-3A5D-4B7D-B9DE-DB14BE64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081-127B-4BA0-80E0-ABE5E42E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5028-A89A-4486-8D91-84C7C43A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66A56-57FA-41A4-B2B3-389B8075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4530-3551-43DB-A3AC-0B88F49A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2A09-F8D5-420A-B06C-D321CF6C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1EFD-58CF-4692-8611-C3ACDE4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7291-4CD8-4F55-A270-ED758C2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0E71-04EF-40AE-AFD8-D648EBCD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B0C5-15CD-4CDE-BE0A-E956ED0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DE81-D24E-425C-AF3B-E43EF14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615C-CAE7-4A3D-862F-CAD81C8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9F0-9822-470C-BEBD-9BC2AE5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43AC-ECC2-4945-90F9-63BF1E9C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8518-23DF-4286-923E-537895EB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94A2-EBBE-4211-91DC-A76DFDFC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F39B-F53E-4B8C-AFAE-E872DC2E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D2F63-CD08-4422-96CB-007B1C2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A762-0D9B-4B57-A19E-0A729A5A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7D58-48D2-41DF-8861-54CCCADF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9119-F7FC-4A26-86DB-F481837C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320B-1DB7-4932-A1BB-56916DB0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1FFB-46C9-488A-B89F-112CDCE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A1C-F814-4A7C-91BB-27E58A8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EE3E-4E9C-41EB-BE66-616A353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28D3D-6100-47CF-AEF9-1D03E74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648D-580D-408B-B3A1-57B349B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18AE-FD89-4865-A102-CDC56940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8B96-8CCB-478A-9737-382A18F1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3652-7B44-4FF2-A04D-A5102A7B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DFEB-E367-4E84-B796-1A67706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DA05-07CD-4C5F-B961-810C3F14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801C-1171-406C-9512-D3627F52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550D-6764-40CD-B93F-3D7DC0CE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5F1-9326-4831-9D8C-2BCFA13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6D78-E030-4900-B140-D16CE69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9926-FF86-4182-BDF5-16FA8AB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A6D0-F765-4964-80E9-973D074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F749-CB7E-437D-BE5F-6DA7979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CFF5-FAB2-4DE4-8BB1-275E834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C6EF-2705-49EF-85AC-C3A768F9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450CD-CF47-454C-93AB-655CF0A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62760-ACDF-4697-87F5-7FE7DE18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98E0-C312-4304-83FC-E5FD5F48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1AE0-A88C-4904-9136-064781C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52A-E980-4FA7-963D-76717CC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AD006-A1A2-4334-91CD-4C0D8B5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DBB7-DBA2-4D22-AFF2-D3F4A9DB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E332-8350-4B96-9C81-EC7D413B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827B-C09C-4974-A8F7-EC8904B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290EE-8D6E-4B2A-9914-B2C6047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D70A3-ADF5-4FFF-AFD1-7B2CAC3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834F-5A90-42D3-9328-B78DFB59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3715-7607-4262-885C-FBAF59D7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B321-4E46-4FBF-9415-8E0493F1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FDD68-334E-4ADE-9D02-3B7BA7D9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35E-7CC7-44D8-B4B0-9BA12F0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E99C-1D15-450A-ABE5-020EAAA0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683D-8459-4BAE-BB02-905A8E45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67119-A417-43CB-A62F-CE31E57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C368-85B7-4116-BEFE-22D87C82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EA5A4-BF53-4602-8D87-52BCD52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06CE0-5282-49B9-9E33-84637B90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DF48-59EF-46B2-8797-58AF995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0A5EC-8783-4E09-BC55-FD5485B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C8CF-BBBB-4F92-B0EC-6D6B0BC4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BBDBB-7860-46AB-91B5-606A2AD8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E48-ACC4-4D5F-8D2A-7FFA4329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17263-A10A-4B6C-BE91-F3B08540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746A9-92CE-49EB-8F35-9E365A9F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8B53-83D7-4411-BA47-FD40859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22492-D4FB-427E-AABA-C1A8A19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DE7D7-77E8-4878-A5D3-4E2561A6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19195-9372-4E52-A7CE-6B67EBE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5FC4-3CDB-4E0D-89A3-6F5F0D3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D64CA-4032-422C-9E41-C0F9B847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5429-246E-405F-BC47-CC10D18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A90F1-DCBC-4D50-B2A6-FCE6C6C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0E1C-39CE-4E4D-9BE9-15BC5D8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FF1B3-4D98-493A-A44D-9F5F6592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A175-C8FC-4B77-BDCF-F13EF178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7EA52-E1BD-4711-810E-D8408E64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00ABC-0179-47C8-9A41-1B4E0725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CD950-B32B-4715-9050-54AD63A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BCD6C-801C-46DB-9377-548E93E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53815-FD7F-4D56-BD48-FE16BA23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8A686-5171-4657-AE5D-98532253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442DD-AE1E-475B-9B53-5F0CE60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FC3F6-D4A4-4AED-9343-0B3E5BE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0250-376C-43A0-A867-28B0CFD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5C1FD-8170-4473-8BAB-6C6ABA2C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52E6-6A69-4198-AED3-0225ECA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E0BE8-EEF5-40DE-BE09-A7DC1E3D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42D60-388A-4136-BDD8-5C110B5F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D0734-3CD2-41E4-9D71-8DDFC38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0F74B-AD74-4C38-8B2D-5521502D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98C4B-1454-4CCF-BBF9-5F5CEA58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101F4-58FC-4696-A14C-D9920F7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BBF7-B05E-463C-9633-92C47DBC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7F70D-CCFE-488A-8CA6-A82B6E76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FB59C-1903-427B-B63E-406DF38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E72F-2B39-42C3-9F95-5E1CA2EA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C660F-80FF-43C0-BCDA-9E5FA556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8C6A2-206B-4E5C-A538-578CF189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47D5B-1236-4BAD-A85F-856385E2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3B00D-DF59-4EAF-870A-368A6261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58157-3B10-440C-B6D9-F75D5AA1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B3B01-05B8-4553-8964-BD6F1BD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0CED2-C422-42A3-B411-BCA6802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4FBB0-709F-42D8-B27C-44744C3A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18BB-C77F-43BE-83F3-D9582EF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0204-3EA3-4275-8F63-E2AD2C24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540F7-5906-4D49-9202-9D11A89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225D9-C671-4EBF-B567-1E3D23F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C8467-AB46-425D-8B5B-B853913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7B920-7A1D-4DAF-A1FC-0BE640F6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EEB00-95D3-455C-994C-FD7D5583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1CDA5-006B-4CA0-9024-3F487A86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5CCF7-DBD0-4BEB-815A-AA9591FF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5337E-633B-415A-86D7-241A345D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1030C-9DBE-4747-A899-C2F4613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8F4FC-AAF9-451B-94D8-B75A8C71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E2ABE-FE93-4A36-9758-B88FF36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5DFC9-24D3-4871-9583-56C10D4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B3C66-BFC9-4454-B90D-00536E8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0C8E8-E18D-48E5-9F55-9F005E3E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0D612-BFD1-447D-A9FB-C2F496D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BD7A4-A9DD-417A-95B2-B7D6C161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778C8-2E7A-4F4C-A483-1B267302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961E5-6E3E-4451-B0FC-A84686B0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471F5-E32D-4F9D-A8CE-6DC6116F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56F23-85B8-4D80-8EA6-151D8847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48A3B-1249-4C1F-BC3F-231E05E8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2C815-9D9E-460A-B136-E56D3BF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7F9DE-3722-4F6D-94B2-533B011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6A712-86D1-4FFC-9077-5B610EC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2082D-8FEE-4CD7-B928-B0232D0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00923-8AE4-4CD1-A5F0-1B73532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79F90-7B24-48AA-8E66-25ED1382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A92A1-C719-440B-A7F8-7C2D146C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1E696-0DC9-4FD2-9626-5F50ECC7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3617-2889-4307-A12E-438946C350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E21-BF45-40C6-8289-840ABF6F6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A866-D865-4981-9CC0-FEA52875E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71C1-001E-4302-B8ED-7D02C5EDA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464C-71CD-45AB-88CC-327B1B95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4C2-968F-4AE6-B6C7-1B942B973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52A4-05D8-4779-89EB-BEE29984B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BA6D-7EA3-4B9E-B195-6945A3BCE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49F-5C7B-415E-B51E-A5C73372B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62D-AD50-4682-847F-C14AC4F7C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D985-F9CC-4B32-B20F-3603E25B0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D55-A7CB-4727-A394-0F0845C9E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22860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316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m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rbai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l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k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yrgyz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Fed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i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rkmen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zbeki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20:35:05Z</dcterms:modified>
  <cp:revision>579</cp:revision>
  <dc:subject/>
  <dc:title>GEF</dc:title>
</cp:coreProperties>
</file>