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23EC-1348-4F4C-AC1D-6F255E3A7E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33EE-6A93-4115-980C-25A06B130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9ED9-E9FD-4DF6-856A-77A7BC375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BF6-B3EB-4650-BE5B-AF29A28D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130-386F-4A95-8720-D65CEE33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940-DF1A-4F99-A18A-EAFE0358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C54-8B5D-4225-8FD8-ECCBA061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2529-FC4C-44A3-9FF0-1C8ECB2A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DA92-6DEB-4220-BCFC-3FBA081D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3606-3910-4EB3-A40E-EEE29759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30E5-E445-412B-A775-B3B09E0B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C49E-896F-4CB9-A525-9D07CCD4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7258-9D1F-4550-9D56-906F1B57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540F-2206-4CEA-9EE1-EC11D6D6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436A-7F72-48ED-B042-C2566C03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6855-C13D-4407-81D2-9D67A699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66AC-7379-4093-A330-C14D39F0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A176-4020-4CD4-BF56-9EA974FF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259E-6967-40F2-90D9-64C6191D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04D1-94B8-47A9-8BAE-9AB48265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BFD8D-DD3A-494C-8EA2-6EB7E274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E4BC0-BDCC-4A25-A557-90F98DCD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7005D-C5AC-4F59-A867-E34CC2D7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35A2D-075B-46CF-B47A-58F20F99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EF509-9EAE-4612-8421-60DC8A07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F95-D55A-4145-9370-AAAA37BD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C03A-EC7B-487A-A866-DD01C6EE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1C49B-BAEA-475E-811B-FC00219E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E9F04-DEF6-4B11-88FF-026AB8B8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A7A7B-504E-42D6-B7C4-BC912DAD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4145A-B7D1-41E4-BE7E-81D6F603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20ACC-4803-42F1-846D-B32CC894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11A32-8678-4912-A392-82E37402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57E85-0B20-4F0A-BBBE-9DAFCA17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4AA41-47EF-4EDB-BCF9-CCA69D3B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405C7-3EC8-409D-8D90-244731ED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41E-E9BD-4E5A-8FDD-0C8C8C69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23238-8D89-4F75-BDBE-7969AC69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237D4-D1E8-4CE0-A13F-A92D7265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7F1C2-9A03-4763-A3EA-CA00F977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B6B72-2B25-490D-9EBE-BE5B95A5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D9290-9210-401E-9E6F-C2D36358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6743B-CE95-4A08-BFFE-982B6188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679BF-1CFB-42AF-AE90-E287BB21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13A43-5533-4D5B-BFF2-1BED4A98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9F68D-9809-456F-A7A0-8420FD6B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06A-38E3-4609-AC90-98039694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F4EB-B21E-4735-8C41-3162E793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04D-3C67-4565-89FD-55A82159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66A-F70D-4F3C-9BC3-3320751F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DD1-4BB5-4564-A85F-12768216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96C0-1126-4BE5-8990-0EF3FDA0E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-2448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71A6-168B-40A9-AB18-8646384285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4888-2353-4F7D-AEDF-F68E00D58C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215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  <a:ea typeface="Arial"/>
              </a:rPr>
              <a:t>System for a Transparent Allocation of Resources -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066320" y="40381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152280" y="1295280"/>
            <a:ext cx="87631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will be approved on a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irst-come first-served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31 December 2013), resources will remain available to the country to be used in the same focal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1 January 2014), resources may be used in the same focal area or in others, at the discretion of the CEO and with the approval of the Cou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15240" y="304920"/>
            <a:ext cx="71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1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20680" y="18360"/>
            <a:ext cx="72756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STAR Operational Procedures (2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80880" y="1447920"/>
            <a:ext cx="861084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ies classified as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ay use the full value of their allocation free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out the need to respect the specific focal area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rsement letter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ust refer to current STAR alloc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each relevant focal area, including preparation costs (PPG) and Agency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 revised lett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endorsement is required if an amount over 5% of the original is requested during the CEO endorse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STAR Operational Procedures (3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152280" y="838080"/>
            <a:ext cx="899172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untries, reference must be made to the total amount and to the individual amount for each focal are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ecretariats of the relevant conven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informed of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l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ses in the endorsement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2 Council meet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reports on the implementation experience of the STAR will b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3 mee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Council will discuss an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ssessment of STAR design and implement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ed by the Office of Evaluation (OE), in addition to a report on progress in the development of indic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361960" y="2133720"/>
            <a:ext cx="4343400" cy="76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 the S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5"/>
          <p:cNvSpPr/>
          <p:nvPr/>
        </p:nvSpPr>
        <p:spPr>
          <a:xfrm>
            <a:off x="2057400" y="3581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more detailed questions, please contact GE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ing from GEF4  to GEF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Council requested reforms in resource allocation framework (RA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evaluation office, through the consultations with recipient countries, provided useful 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resentation describes the new rules and operational procedures corresponding to the new resource allocation system, ST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288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Outline of the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560" y="1295280"/>
            <a:ext cx="8458200" cy="426744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new from GEF-4 RAF to GEF-5  S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all allocations of the GEF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erational procedures of the S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What is new in the GEF-5  ST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New allocation areas and countr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514240" y="2057040"/>
            <a:ext cx="3049560" cy="3809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 and Climat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  and group al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DC and SIDS in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638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638680" y="2057400"/>
            <a:ext cx="3353040" cy="39513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, Climate Change,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and Degra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countries hav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grou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Placeholder 2"/>
          <p:cNvSpPr/>
          <p:nvPr/>
        </p:nvSpPr>
        <p:spPr>
          <a:xfrm>
            <a:off x="228600" y="213372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Placeholder 2"/>
          <p:cNvSpPr/>
          <p:nvPr/>
        </p:nvSpPr>
        <p:spPr>
          <a:xfrm>
            <a:off x="76320" y="3809880"/>
            <a:ext cx="236196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New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437920" y="2057040"/>
            <a:ext cx="3049560" cy="3809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15% for C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% rul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-aside 10%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63832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638320" y="2057040"/>
            <a:ext cx="3429000" cy="38098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LD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1% for C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$2 M in CC, $1.5 M in BD, and $0.5 M in 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lexibility for small countries  ($7 M ru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t-aside 20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Placeholder 2"/>
          <p:cNvSpPr/>
          <p:nvPr/>
        </p:nvSpPr>
        <p:spPr>
          <a:xfrm>
            <a:off x="15228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Placeholder 2"/>
          <p:cNvSpPr/>
          <p:nvPr/>
        </p:nvSpPr>
        <p:spPr>
          <a:xfrm>
            <a:off x="76320" y="4724280"/>
            <a:ext cx="220968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Placeholder 2"/>
          <p:cNvSpPr/>
          <p:nvPr/>
        </p:nvSpPr>
        <p:spPr>
          <a:xfrm>
            <a:off x="15228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Programs not in the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2120" y="1676160"/>
            <a:ext cx="8076960" cy="4190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Wa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istent Organic Pollutants and Sound Chemicals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porate bu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Support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and global projects/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Grants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th Fund (private sect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42d"/>
                </a:solidFill>
                <a:latin typeface="Calibri"/>
              </a:rPr>
              <a:t>Distribution of GEF-5 Resour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Chart 4" descr=""/>
          <p:cNvPicPr/>
          <p:nvPr/>
        </p:nvPicPr>
        <p:blipFill>
          <a:blip r:embed="rId1"/>
          <a:stretch/>
        </p:blipFill>
        <p:spPr>
          <a:xfrm>
            <a:off x="2147444640" y="2147444640"/>
            <a:ext cx="39600" cy="39600"/>
          </a:xfrm>
          <a:prstGeom prst="rect">
            <a:avLst/>
          </a:prstGeom>
          <a:ln w="0">
            <a:noFill/>
          </a:ln>
        </p:spPr>
      </p:pic>
      <p:pic>
        <p:nvPicPr>
          <p:cNvPr id="288" name="Chart 5" descr=""/>
          <p:cNvPicPr/>
          <p:nvPr/>
        </p:nvPicPr>
        <p:blipFill>
          <a:blip r:embed="rId2"/>
          <a:stretch/>
        </p:blipFill>
        <p:spPr>
          <a:xfrm>
            <a:off x="298440" y="1517760"/>
            <a:ext cx="8547120" cy="443232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"/>
          <p:cNvSpPr/>
          <p:nvPr/>
        </p:nvSpPr>
        <p:spPr>
          <a:xfrm>
            <a:off x="45720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$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42d"/>
                </a:solidFill>
                <a:latin typeface="Calibri"/>
              </a:rPr>
              <a:t>GEF-5 STAR Allo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533520"/>
          <a:ext cx="8305920" cy="5219640"/>
        </p:xfrm>
        <a:graphic>
          <a:graphicData uri="http://schemas.openxmlformats.org/drawingml/2006/table">
            <a:tbl>
              <a:tblPr/>
              <a:tblGrid>
                <a:gridCol w="2768760"/>
                <a:gridCol w="790560"/>
                <a:gridCol w="792000"/>
                <a:gridCol w="698400"/>
                <a:gridCol w="882720"/>
                <a:gridCol w="698400"/>
                <a:gridCol w="884520"/>
                <a:gridCol w="790560"/>
              </a:tblGrid>
              <a:tr h="29520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-4 RA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-5 S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.1 Bill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lenish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.25 Bill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Alloc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 Envelopes (M$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40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exi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fghanist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ge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gy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aq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ord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ban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by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roc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kist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y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nis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rke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m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wb350798</cp:lastModifiedBy>
  <dcterms:modified xsi:type="dcterms:W3CDTF">2012-04-10T16:55:28Z</dcterms:modified>
  <cp:revision>624</cp:revision>
  <dc:subject/>
  <dc:title>GEF</dc:title>
</cp:coreProperties>
</file>