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C28C-9BD6-46CF-9D1E-38F6B502C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3705-4866-4A22-A452-FF67444C0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EB3B-4D95-495B-A759-89F3C1AA6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9F85-F91C-4D90-9CC2-8F9EE4A0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27C-7EA4-4202-B833-0E6FAFCE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8A9-10DD-430E-B4AD-4DDB5748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090-FE6C-4CFE-8831-C491A37A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D36C-21EF-4300-B95F-B0E4EB89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350F-1D3E-40B1-8874-67E7123C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4C0D-3EB9-43AA-93E5-A4015E71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B89B-1F04-45F2-9B22-396FF341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5B62-58FE-43EA-8F0D-3C18D1CB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0F2A-6260-4FAF-8134-6AD46DEF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7E17-2054-4E3E-B456-E0E845BA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65F-F8E3-4B9A-96AC-FD492C22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A9B9-43B0-45C9-8623-51362D5C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38AE-7571-4622-8050-2CEDE9FD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2219-B43D-436B-A226-E4A4C9DF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CA5F-6537-4143-BF93-4DB3C669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E9A5-7206-423A-BF4E-3E824EC3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354FB-0FAC-4AE6-9D81-261436A4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F47C3-3BCF-4AF5-B6C6-065CD2BA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9B579-DAF5-4DD1-A55B-C6633675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3363C-59E6-4A05-B014-7AFE2945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4414-A763-47D9-AA91-5C7048EB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40B-DB44-4535-B597-B98B86E3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BA8B2-FACD-4E69-A0AD-2CB90031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E51D0-B052-404C-AB86-4A62718B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65C96-0A1F-449E-ACA8-987457E7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FF256-8EC5-422E-B104-C2967B71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5B1B1-3299-40C0-B96C-71398031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0C6B9-056D-490C-B669-54D16867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EB972-2562-4713-93D2-08A0DE0E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095A2-C532-4173-BA0C-6F36E935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28E30-F91E-485F-B274-35F7E4AF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B9683-29F5-40F8-B4FC-D1FDBF6D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7D3A-12CB-4D0C-B7CE-A2F6FB9E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71876-0A87-43E5-AF6B-49E8E12E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D95EF-974A-4B30-9797-25854F18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413A4-02C2-48DB-BC64-F4C59D8E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A61E4-A79C-49EF-8BE0-7C665977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9B136-0DF1-4D50-B9EA-EBB449F2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36E42-F9A3-42BB-863E-A1FE0995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0732D-E60A-4801-BE6B-9DD05F8A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976FF-CAD5-4543-B47D-3C199331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16877-2255-413B-A06C-744065DA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4B1-AE3A-4207-B4AE-CE49C728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4C60-0DCF-4ECA-89DC-0C999F16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062-1A58-49B9-8599-5A719E13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4BCA-B787-4BDA-B3E8-130D8193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005-D519-45E8-B28D-24B51B66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5A68-C9D5-41D0-ADE2-8490BF8A6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-2448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9CFD-1AF9-4272-B369-B17D427895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19B5-5E04-4543-9BA0-F2FE8E8578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215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  <a:ea typeface="Arial"/>
              </a:rPr>
              <a:t>System for a Transparent Allocation of Resources -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066320" y="40381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152280" y="1295280"/>
            <a:ext cx="87631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will be approved on a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irst-come first-served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31 December 2013), resources will remain available to the country to be used in the same focal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1 January 2014), resources may be used in the same focal area or in others, at the discretion of the CEO and with the approval of the Cou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15240" y="304920"/>
            <a:ext cx="71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1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20680" y="18360"/>
            <a:ext cx="72756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STAR Operational Procedures (2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80880" y="1447920"/>
            <a:ext cx="861084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ies classified as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ay use the full value of their allocation free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out the need to respect the specific focal area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rsement letter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ust refer to current STAR alloc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each relevant focal area, including preparation costs (PPG) and Agency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 revised lett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endorsement is required if an amount over 5% of the original is requested during the CEO endorse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STAR Operational Procedures (3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152280" y="838080"/>
            <a:ext cx="899172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untries, reference must be made to the total amount and to the individual amount for each focal are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ecretariats of the relevant conven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informed of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ses in the endorsement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2 Council meet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reports on the implementation experience of the STAR will b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3 mee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Council will discuss an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ssessment of STAR design and implement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ed by the Office of Evaluation (OE), in addition to a report on progress in the development of indic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361960" y="2133720"/>
            <a:ext cx="4343400" cy="76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 the S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5"/>
          <p:cNvSpPr/>
          <p:nvPr/>
        </p:nvSpPr>
        <p:spPr>
          <a:xfrm>
            <a:off x="2057400" y="3581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more detailed questions, please contact GE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ing from GEF4  to GEF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Council requested reforms in resource allocation framework (RA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evaluation office, through the consultations with recipient countries, provided useful 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resentation describes the new rules and operational procedures corresponding to the new resource allocation system, ST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288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Outline of the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560" y="1295280"/>
            <a:ext cx="8458200" cy="426744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new from GEF-4 RAF to GEF-5  S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all allocations of the GEF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erational procedures of the S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What is new in the GEF-5  ST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New allocation areas and countr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514240" y="2057040"/>
            <a:ext cx="3049560" cy="3809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 and Climat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  and group al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DC and SIDS in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638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638680" y="2057400"/>
            <a:ext cx="3353040" cy="39513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, Climate Change,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and Degra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countries hav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grou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Placeholder 2"/>
          <p:cNvSpPr/>
          <p:nvPr/>
        </p:nvSpPr>
        <p:spPr>
          <a:xfrm>
            <a:off x="228600" y="213372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Placeholder 2"/>
          <p:cNvSpPr/>
          <p:nvPr/>
        </p:nvSpPr>
        <p:spPr>
          <a:xfrm>
            <a:off x="76320" y="3809880"/>
            <a:ext cx="236196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New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437920" y="2057040"/>
            <a:ext cx="3049560" cy="3809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15% for C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% rul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-aside 10%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63832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638320" y="2057040"/>
            <a:ext cx="3429000" cy="38098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LD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1% for C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$2 M in CC, $1.5 M in BD, and $0.5 M in 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lexibility for small countries  ($7 M ru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t-aside 20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Placeholder 2"/>
          <p:cNvSpPr/>
          <p:nvPr/>
        </p:nvSpPr>
        <p:spPr>
          <a:xfrm>
            <a:off x="15228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Placeholder 2"/>
          <p:cNvSpPr/>
          <p:nvPr/>
        </p:nvSpPr>
        <p:spPr>
          <a:xfrm>
            <a:off x="76320" y="4724280"/>
            <a:ext cx="220968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Placeholder 2"/>
          <p:cNvSpPr/>
          <p:nvPr/>
        </p:nvSpPr>
        <p:spPr>
          <a:xfrm>
            <a:off x="15228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Programs not in the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2120" y="1676160"/>
            <a:ext cx="8076960" cy="4190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Wa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istent Organic Pollutants and Sound Chemicals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porate bu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Support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and global projects/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Grants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th Fund (private sect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Distribution of GEF-5 Resour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Chart 4" descr=""/>
          <p:cNvPicPr/>
          <p:nvPr/>
        </p:nvPicPr>
        <p:blipFill>
          <a:blip r:embed="rId1"/>
          <a:stretch/>
        </p:blipFill>
        <p:spPr>
          <a:xfrm>
            <a:off x="2147444640" y="2147444640"/>
            <a:ext cx="39600" cy="39600"/>
          </a:xfrm>
          <a:prstGeom prst="rect">
            <a:avLst/>
          </a:prstGeom>
          <a:ln w="0">
            <a:noFill/>
          </a:ln>
        </p:spPr>
      </p:pic>
      <p:pic>
        <p:nvPicPr>
          <p:cNvPr id="288" name="Chart 5" descr=""/>
          <p:cNvPicPr/>
          <p:nvPr/>
        </p:nvPicPr>
        <p:blipFill>
          <a:blip r:embed="rId2"/>
          <a:stretch/>
        </p:blipFill>
        <p:spPr>
          <a:xfrm>
            <a:off x="298440" y="1517760"/>
            <a:ext cx="8547120" cy="443232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"/>
          <p:cNvSpPr/>
          <p:nvPr/>
        </p:nvSpPr>
        <p:spPr>
          <a:xfrm>
            <a:off x="45720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$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42d"/>
                </a:solidFill>
                <a:latin typeface="Calibri"/>
              </a:rPr>
              <a:t>GEF-5 STAR Allo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533520"/>
          <a:ext cx="8305920" cy="5219640"/>
        </p:xfrm>
        <a:graphic>
          <a:graphicData uri="http://schemas.openxmlformats.org/drawingml/2006/table">
            <a:tbl>
              <a:tblPr/>
              <a:tblGrid>
                <a:gridCol w="2768760"/>
                <a:gridCol w="790560"/>
                <a:gridCol w="792000"/>
                <a:gridCol w="698400"/>
                <a:gridCol w="882720"/>
                <a:gridCol w="698400"/>
                <a:gridCol w="884520"/>
                <a:gridCol w="790560"/>
              </a:tblGrid>
              <a:tr h="29520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-4 RA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-5 S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.1 Bill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lenish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25 Bill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Alloc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 Envelopes (M$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40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exi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fghanist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ge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gy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aq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ord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ban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by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roc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kist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y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nis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rke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m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wb350798</cp:lastModifiedBy>
  <dcterms:modified xsi:type="dcterms:W3CDTF">2012-04-10T16:55:28Z</dcterms:modified>
  <cp:revision>624</cp:revision>
  <dc:subject/>
  <dc:title>GEF</dc:title>
</cp:coreProperties>
</file>