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ftr" idx="41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 type="sldNum" idx="42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39B1-F9D3-470C-9C8F-D3236D37D5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253B-62CE-4185-8331-FF25F9A0C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EE1A-892A-4AE1-8D8C-B64C5C4EC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ABC4-C1D2-492A-BF06-84AD03EE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F7C1-73FC-422C-8A4C-0F6C8806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ED88-98E0-4589-851C-57471400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5A87-61A6-4E7E-A086-DBF98864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0AFB-D8C1-48C8-BA64-5090AAB4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3A7E-5BF0-404C-920F-BC9EE093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3AB8-87D4-4234-80CE-26A6FC6C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302E-D078-4CCD-9604-6E887714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8F71-3741-4E35-A1D9-50651601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831B-BE7A-4697-8680-2F5D30E5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F3F3-E247-474C-9E08-518283D9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66D9-8060-47B9-BA82-99EE5EC4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23EE-57A6-4275-BB67-FA50E80C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D776-0F2A-4D37-87DF-F55EAE7D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AEFB-4EF7-4D4F-93B9-03B7ECCE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DC29-21E3-449C-8404-E0FB48A7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0B9C-C142-47FA-9D6C-AA4AAF8D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3C5E-D011-4883-8F2B-8195E0A0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C2CBF-455D-4439-B805-D3046FBA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D87C8-4BB0-4124-A45C-E31C405E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44682-F295-4C15-B117-AACC3AB7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1B15A-EB0D-4FDE-9029-A24FC006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BD214-3F22-4E0A-B31C-588675CF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DE6DF-FFCE-420B-9CD4-CD923675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36275-3081-43F7-8432-1193D9CE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7C65C-717E-4DEE-AFC3-484B345B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76363-F6A6-4196-8C09-45ECCCC2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7D8A-64EC-4C8B-89ED-DF1755C6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7328A-1209-4814-B7FF-437AEB9F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3FE78-809A-48F4-9C00-07E7A523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F04E1-AD08-40EB-8D58-36E5C915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00449-9D03-49BF-AEBF-297E62D3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655E6-4115-4E9C-91D0-4789EB21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833B7-C050-4386-B834-FCD10127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E89DC-604B-44B7-9820-5E4DA50D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44412-B540-4F2A-98F1-B5176068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D645A-384A-4794-9752-014B3BE8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362B4-9CAE-42AA-B345-426CDDBA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B11B-1F1B-4DDC-967C-8E7DA1C8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14A12-A4BC-4004-AB4D-ED2EBEE2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E2746-CF0D-47B2-94CE-3E3E14D0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4BCD3-5ED9-4907-8BFE-A1979B06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730C3-4893-4711-B2C2-8B531F2B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2844C-A452-46F3-A2D9-215D1C85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0C3A9-580D-42AA-ACB7-CE363E66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D450D-03A3-4F79-A62A-F0DEBC6F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03052-E155-4BA4-91AA-2E31BCD8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53E1C-D2C2-4F1D-915B-6C9EBB25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7A173-7631-49F2-AD41-016937B7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369E-AE1F-4104-AD5F-C72AFB52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A42CA-E16D-4890-85CD-64B0931C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532BB-1628-417C-B290-4A0179AE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E728D-3AB5-43DE-A95D-EBB3AEE3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7B325-2156-4BA0-8D78-3B3509CC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2C5A0-0790-47BE-8AE9-8C3CFFFE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CFCD8-915F-4E20-BEC3-8E24CD88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DAA65-F890-4320-B0FC-C3E71557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455BD-FE12-4E16-81D2-05CB0CFC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9A242-8D70-4E9C-B7BE-442A82B0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01187-8E85-4107-9EF4-F3E4E13C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23D3-F140-400E-815C-416480EB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8E608-98BE-4A99-85A4-06E1557F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48A18-CC9B-46B1-9909-0F353857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10705-B754-47AC-9DFD-044B8468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78A0B-4845-4215-AD65-7C67E6DA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09E1F-C128-4E4A-B1C1-2076FB89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95A8E-DBF1-4A88-A735-F5C6EA7C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0A6EA-BDF1-44AA-92EF-D4F99BEE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BB0DC-1DEB-4FA1-B613-6416AB9E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F9237-9E15-4D7B-B65A-E0E9C174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0CD7B-FEE5-425D-B3D5-A0141E0E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410F-8EA1-4796-AD62-B27D023A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A9098-8A78-4646-9C35-D96AB825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E98D3-1D74-48A7-B7B7-945F66D7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DFD62-F947-47F5-90BD-FF9DAE5A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E5848-31F1-44B5-B7C3-99C16EC7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43D4F-904B-4045-B090-BA1FB093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1D014-EA36-4A2E-AFBF-A1302306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72CCA-4B1C-45FD-9F17-732F8231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04DFD-F75F-4AD4-87BD-2C2E603B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1655F-C6B7-4599-A9D5-B7ABB2A6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87AD9-F518-4131-A5FF-7D299256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801-FB0D-47C7-BF35-74A8BED4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CC932-9429-47DC-B6F0-28BDD5BD5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F7BD5-CE80-49E0-8E99-F65915F3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AB03C-6CDF-442A-B92A-F14A7E8F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F68D8-BAB3-448F-8E5A-C6822099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15D29-AFED-4DEF-A5D4-312ABF85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98FED-6977-43CA-AE13-383334E9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9641C-19F4-4FC3-9A42-A3D6AC50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8CF66-F617-43BC-9FB0-B8828647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7AD30-212C-4EF6-BF97-EE17430E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8569C-90F2-4565-A605-3C834265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67073-28B7-4E56-9DAB-C4BB396A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13E76-D099-48EB-86A7-FA4DEE8C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E7B28-BA8D-43FB-BBD2-E9986D51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C2423-F2F1-453B-8F39-D52B61A8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880FC-E8BD-49E4-8514-8A18765F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F63C1-9F64-4FDE-9AF1-82A958F7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DA2BC-39E8-4BD7-8AC8-C530510A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B1D1C-3E26-4058-BA09-5A611535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DEBDE-7B02-400F-8305-AFB3B6C9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7AE34-AC49-4AE1-A531-2F69E44B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699A3-4691-4083-936D-1877A24E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13CF0-F54B-4A07-BB63-7CD72825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9FBDD-CC3C-40FC-8053-68BC1319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74CFF-D602-4F56-B648-59F444DA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D2469-1CA1-4E1E-80A0-42D08B63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1AA48-BB2D-4240-970A-724CD02B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E8618-494F-4FB8-AB6E-E2AE3164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05AB8-AE63-4207-A707-DBB128C1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99AFB-2635-4FEA-A2DA-0BE034EC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5D153-1527-41D4-BF44-5956169E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28A75-0F62-4CD6-AF45-EE7B325C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AE32E-9D1A-4CE5-9BAE-811C10E2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61D90-64A2-4261-9294-8165E140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58A19-CC1C-422F-A4D8-6A244384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C1361-8EEF-4ACB-9C90-360A2E09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EA5E2-C894-4E48-9A85-58C992EA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E3B3A-FBB3-4F4B-B8C6-77C201AA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DACC2-630A-4838-A078-B8BAD2F0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FDA18-F4A9-4DD1-8D3F-E0632938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CCBFA-8C9A-40DB-8C8D-3FE710E0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98D27-5F66-4612-8835-470D50F7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BCDE3-0581-4FFF-A00F-07DA0FA2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3795F-2B15-4046-8F62-FD13CE5B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F3D20-CAD1-4425-8D91-CD58DE65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A1973-32F7-4948-AB18-9FE8EAAE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2D87E-D699-4397-947F-CBBF0C2B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C7F36-C233-47DE-A379-3866B0B7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15FE9-3AA3-44DC-B590-6D13DCC5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56E4C-A638-41A6-AAD2-F44DA0D8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1ACF6-D601-4AD6-86A7-72EBAE22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9E682-5CC2-43CC-B20B-570FA323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672DF-FCD0-405D-89B2-5FFEBA73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4B8A0-2FCA-42FB-9A3F-BD8CE29E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4BFF3-F02E-4802-8B11-83AD2830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A98DE-3338-402D-BFB3-EEFEB092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26CB0-81AA-4A01-A9CA-0F1C355D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D1D4F-2456-41EA-BF07-875C5430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FBF5B-00C1-4C09-9E9B-7A7A30B0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00865-8E48-409A-8C56-6A7AA6C4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A5913-5C2A-4C55-953F-808DB0CB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19153-5631-42DC-93D4-603A48CE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993920-B1F2-4B6D-995B-C8803539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762F8E-35A1-45FA-AD3D-37ED86E0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9DEA16-2341-4E03-82C1-CCB6615D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6FDEA1-5D28-4739-B904-EB01C1C1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17DD2C-4B18-4969-8173-3DD5C135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6FA2F7-B9FF-4F4A-B7CE-FAA0BC1C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0B9405-1D9F-4E8A-A8B9-1AAF8B29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6628E6-4D79-4B6D-8F8C-F720A5B7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5EC4FC-8926-4C82-A7CC-4D9699F2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1C7C3A-4E2B-418D-9721-BB15DB6B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834433-1FD3-4CAC-A1BE-37979EFF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481C17-E7B3-474D-BDC5-367AA623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533520" y="64771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G L O B A L   E N V I R O N M E N T   F A C I L I T Y   -   www.TheGE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304920" y="6502320"/>
            <a:ext cx="304560" cy="35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3E44-3FD4-47A1-86FA-D3FB72B2B9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6A95-1A41-4C7F-9CE0-C1252DD32A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4F1B-F5C1-4C2D-A98E-98EDD55D19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F353-C453-4973-8DE2-A5F576167C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F852-BBB3-419C-91B1-DD7E891D6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1831-59C5-44DF-9A47-D0F4F33626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E92F-8437-412E-8116-74F4302895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4F14-0E5C-42D0-B362-124D8A0CC7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8B3F-9E39-4C72-93F8-9181C8CEB0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B43F-3B0A-44C9-BBEC-91623A020C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EE00-B4AA-4A1B-87FC-9D93BA130A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320C-CBFA-48E8-9AF4-904B563F03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33520" y="64771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G L O B A L   E N V I R O N M E N T   F A C I L I T Y   -   www.TheGE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304920" y="6502320"/>
            <a:ext cx="304560" cy="355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2130480"/>
            <a:ext cx="815328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  <a:ea typeface="Arial"/>
              </a:rPr>
              <a:t>Система прозрачного распределения ресурсов</a:t>
            </a: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 – </a:t>
            </a:r>
            <a:r>
              <a:rPr b="1" lang="lt-LT" sz="4000" spc="-1" strike="noStrike">
                <a:solidFill>
                  <a:srgbClr val="00642d"/>
                </a:solidFill>
                <a:latin typeface="Calibri"/>
                <a:ea typeface="Arial"/>
              </a:rPr>
              <a:t>(</a:t>
            </a:r>
            <a:r>
              <a:rPr b="1" lang="ru-RU" sz="4000" spc="-1" strike="noStrike">
                <a:solidFill>
                  <a:srgbClr val="00642d"/>
                </a:solidFill>
                <a:latin typeface="Calibri"/>
                <a:ea typeface="Arial"/>
              </a:rPr>
              <a:t>СТАР</a:t>
            </a:r>
            <a:r>
              <a:rPr b="1" lang="lt-LT" sz="4000" spc="-1" strike="noStrike">
                <a:solidFill>
                  <a:srgbClr val="00642d"/>
                </a:solidFill>
                <a:latin typeface="Calibri"/>
                <a:ea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ubtitle 4"/>
          <p:cNvSpPr/>
          <p:nvPr/>
        </p:nvSpPr>
        <p:spPr>
          <a:xfrm>
            <a:off x="990720" y="3581280"/>
            <a:ext cx="67053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Семинар для членов ГЭФ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расширенном соста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11–13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 октября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 2011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Ташкент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Узбеки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Подзаголовок 2"/>
          <p:cNvSpPr/>
          <p:nvPr/>
        </p:nvSpPr>
        <p:spPr>
          <a:xfrm>
            <a:off x="414360" y="717480"/>
            <a:ext cx="728640" cy="12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Подзаголовок 2"/>
          <p:cNvSpPr/>
          <p:nvPr/>
        </p:nvSpPr>
        <p:spPr>
          <a:xfrm>
            <a:off x="1332000" y="398520"/>
            <a:ext cx="384948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Подзаголовок 2"/>
          <p:cNvSpPr/>
          <p:nvPr/>
        </p:nvSpPr>
        <p:spPr>
          <a:xfrm>
            <a:off x="1276200" y="65232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4"/>
          <p:cNvSpPr/>
          <p:nvPr/>
        </p:nvSpPr>
        <p:spPr>
          <a:xfrm>
            <a:off x="152280" y="1295280"/>
            <a:ext cx="876312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ы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утверждаются в порядке поступления заявок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лучае аннулирования проекта </a:t>
            </a:r>
            <a:r>
              <a:rPr b="0" i="1" lang="ru-RU" sz="2000" spc="-1" strike="noStrike">
                <a:solidFill>
                  <a:srgbClr val="c00000"/>
                </a:solidFill>
                <a:latin typeface="Calibri"/>
              </a:rPr>
              <a:t>до начала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шести последних месяце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-5 (до 31 декабря 2013 года) страна сможет продолжать использовать ресурсы в той же самой тематической обла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лучае аннулирования проекта </a:t>
            </a:r>
            <a:r>
              <a:rPr b="0" i="1" lang="ru-RU" sz="2000" spc="-1" strike="noStrike">
                <a:solidFill>
                  <a:srgbClr val="c00000"/>
                </a:solidFill>
                <a:latin typeface="Calibri"/>
              </a:rPr>
              <a:t>после начала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шести последних месяце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ЭФ-5 (с 1 января 2014 года)  ресурсы могут использоваться в той же самой или других тематических областях по усмотрению ИД и пр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обрении Сове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7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108" name="Rectangle 7"/>
          <p:cNvSpPr/>
          <p:nvPr/>
        </p:nvSpPr>
        <p:spPr>
          <a:xfrm>
            <a:off x="625680" y="304920"/>
            <a:ext cx="58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Операционные процедуры СТАР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 (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865160" y="380880"/>
            <a:ext cx="5808960" cy="52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Операционные процедуры СТАР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(2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Rectangle 5"/>
          <p:cNvSpPr/>
          <p:nvPr/>
        </p:nvSpPr>
        <p:spPr>
          <a:xfrm>
            <a:off x="380880" y="1447920"/>
            <a:ext cx="8610840" cy="43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аны, отнесенные к категории "гибкая схема",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могут без ограничений и в полном объеме использовать предоставленные им ресурс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з необходимости соблюдения требования в отношении использования конкретных сумм в определенных тематических областя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сьма-согласования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должны отражать текущие ассигнования в рамках СТАР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аждой соответствующей тематической области, включая  затраты, связанные с подготовкой проекта (гранты на подготовку проекта) и возмещение расходов учреждению-исполнител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Пересмотренное письмо-согласовани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буется в том случае, если в течение периода времени, необходимого для получения одобрения ИД, запрашивается сумма, превышающая  5% первоначально запрошен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115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636560" y="75960"/>
            <a:ext cx="580896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Операционные процедуры СТАР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(3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Rectangle 5"/>
          <p:cNvSpPr/>
          <p:nvPr/>
        </p:nvSpPr>
        <p:spPr>
          <a:xfrm>
            <a:off x="228600" y="1219320"/>
            <a:ext cx="8458200" cy="38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стран, отнесенных к категории "гибкая схема", необходимо указать общую сумму, а также конкретные суммы для каждой из тематических областе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Секретариаты соответствующих конвенций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исьме-согласовании должны быть проинформированы о случаях использования категории "гибкая схема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К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  <a:ea typeface="Calibri"/>
              </a:rPr>
              <a:t>заседанию Совета в июне 2012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года будет представлен доклад об опыте практического внедрения СТА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  <a:ea typeface="Calibri"/>
              </a:rPr>
              <a:t>На заседании в июне 2013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года Совет обсудит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  <a:ea typeface="Calibri"/>
              </a:rPr>
              <a:t> оценку процессов разработки и практического внедрения СТА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, подготовленную Отделом оценки (ОО), в дополнение к докладу о прогрессе, достигнутом в рамках разработки показате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0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121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Подзаголовок 2"/>
          <p:cNvSpPr/>
          <p:nvPr/>
        </p:nvSpPr>
        <p:spPr>
          <a:xfrm>
            <a:off x="1263600" y="629748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</a:rPr>
              <a:t>Последующие шаги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2361960" y="2133720"/>
            <a:ext cx="4343400" cy="761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ктическое внедрени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6" name="Picture 3" descr=""/>
          <p:cNvPicPr/>
          <p:nvPr/>
        </p:nvPicPr>
        <p:blipFill>
          <a:blip r:embed="rId1"/>
          <a:stretch/>
        </p:blipFill>
        <p:spPr>
          <a:xfrm>
            <a:off x="-9360" y="588492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127" name="TextBox 5"/>
          <p:cNvSpPr/>
          <p:nvPr/>
        </p:nvSpPr>
        <p:spPr>
          <a:xfrm>
            <a:off x="2057400" y="358128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более подробными вопросами просьба обращаться в Секретариат ГЭ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1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1000" fill="hold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двигаясь от ГЭФ-4 к ГЭФ-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т ГЭФ потребовал реформировать систему распределения ресурс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дел оценки ГЭФ на основе консультаций со странами-получателями ресурсов представил ценные замеч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настоящей презентации описываются новые правила и операционные процедуры, соответствующи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вой системе распределения ресурсов – СТА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0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51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</a:rPr>
              <a:t>Содержание презентации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26744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отличается СТАР в рамках ГЭФ-5 от СРР в рамках ГЭФ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ммарный объем ресурсов, распределяемых в рамках ГЭФ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ерационные процедуры СТ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6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57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80520" y="2666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нового в СТАР в рамках ГЭФ-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0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61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Calibri"/>
              </a:rPr>
              <a:t>Распределение ресурсов: новые тематические области и новые стран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РР в рамках ГЭФ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2514240" y="2057040"/>
            <a:ext cx="3049560" cy="3809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оразнообразие и изменение клима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дивидуальные и групповые выпла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РС и МОРГ ка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5638680" y="1294920"/>
            <a:ext cx="327672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АР в рамках ГЭФ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5638680" y="2057400"/>
            <a:ext cx="3353040" cy="395136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разнообразие, изменение климата и деградация земельных ресур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страны получают индивидуальные ассигн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  <a:ea typeface="Calibri"/>
              </a:rPr>
              <a:t>Ассигнования группам не предусмотре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9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70" name="Text Placeholder 2"/>
          <p:cNvSpPr/>
          <p:nvPr/>
        </p:nvSpPr>
        <p:spPr>
          <a:xfrm>
            <a:off x="76320" y="2057400"/>
            <a:ext cx="2209680" cy="716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матические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Placeholder 2"/>
          <p:cNvSpPr/>
          <p:nvPr/>
        </p:nvSpPr>
        <p:spPr>
          <a:xfrm>
            <a:off x="76320" y="3809880"/>
            <a:ext cx="236196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Ассигнован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</a:rPr>
              <a:t>Новые правил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РР в рамках ГЭФ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2437920" y="2057040"/>
            <a:ext cx="3049560" cy="3809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%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БР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%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у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%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ерв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%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5638320" y="1294920"/>
            <a:ext cx="34290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АР в рамках ГЭФ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5638320" y="2057040"/>
            <a:ext cx="3429000" cy="380988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%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БР и Д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1%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ля 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млн. долл. США  для ИК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, 1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5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млн. долл. США  для БР и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5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млн. долл. США  для ДЗ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Гибкая схема для малых стран (правило 7 млн. долл. США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Резервы в объеме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0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0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81" name="Text Placeholder 2"/>
          <p:cNvSpPr/>
          <p:nvPr/>
        </p:nvSpPr>
        <p:spPr>
          <a:xfrm>
            <a:off x="152280" y="220968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ксим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Placeholder 2"/>
          <p:cNvSpPr/>
          <p:nvPr/>
        </p:nvSpPr>
        <p:spPr>
          <a:xfrm>
            <a:off x="76320" y="4724280"/>
            <a:ext cx="220968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Placeholder 2"/>
          <p:cNvSpPr/>
          <p:nvPr/>
        </p:nvSpPr>
        <p:spPr>
          <a:xfrm>
            <a:off x="152280" y="342900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ним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раммы, не включенные в СТАР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762120" y="1676160"/>
            <a:ext cx="8076960" cy="480060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народные в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йкие органические загрязнители и рациональное обращение с химическими веществ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поративные бюдже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а поддержки стр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ые и глобальные проекты/програм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а малых гран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нд Земли (частный секто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9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90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Подзаголовок 2"/>
          <p:cNvSpPr/>
          <p:nvPr/>
        </p:nvSpPr>
        <p:spPr>
          <a:xfrm>
            <a:off x="1263600" y="629748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пределение ресурсов в рамках ГЭФ-5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4" name="Chart 4" descr=""/>
          <p:cNvPicPr/>
          <p:nvPr/>
        </p:nvPicPr>
        <p:blipFill>
          <a:blip r:embed="rId1"/>
          <a:stretch/>
        </p:blipFill>
        <p:spPr>
          <a:xfrm>
            <a:off x="298440" y="1517760"/>
            <a:ext cx="8547120" cy="452268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96" name="TextBox 1"/>
          <p:cNvSpPr/>
          <p:nvPr/>
        </p:nvSpPr>
        <p:spPr>
          <a:xfrm>
            <a:off x="441360" y="1676520"/>
            <a:ext cx="173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Распределение ресурсов в рамках СТАР ГЭФ-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1" name="Picture 3" descr=""/>
          <p:cNvPicPr/>
          <p:nvPr/>
        </p:nvPicPr>
        <p:blipFill>
          <a:blip r:embed="rId1"/>
          <a:stretch/>
        </p:blipFill>
        <p:spPr>
          <a:xfrm>
            <a:off x="0" y="5915160"/>
            <a:ext cx="9144000" cy="99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2" name=""/>
          <p:cNvGraphicFramePr/>
          <p:nvPr/>
        </p:nvGraphicFramePr>
        <p:xfrm>
          <a:off x="228600" y="1300320"/>
          <a:ext cx="8763120" cy="4805280"/>
        </p:xfrm>
        <a:graphic>
          <a:graphicData uri="http://schemas.openxmlformats.org/drawingml/2006/table">
            <a:tbl>
              <a:tblPr/>
              <a:tblGrid>
                <a:gridCol w="2921040"/>
                <a:gridCol w="834840"/>
                <a:gridCol w="833760"/>
                <a:gridCol w="738000"/>
                <a:gridCol w="932040"/>
                <a:gridCol w="736560"/>
                <a:gridCol w="931680"/>
                <a:gridCol w="835200"/>
              </a:tblGrid>
              <a:tr h="49032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Р в рамках ГЭФ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Р в рамках ГЭФ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рд. долл. 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пол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рд. долл. 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воначальное рас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пределение в рамках СТАР (млн. долл. СШ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ибкая сх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рм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ербайдж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елару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ах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ыргызская Республ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йская Фед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джик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уркмен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збек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03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Подзаголовок 2"/>
          <p:cNvSpPr/>
          <p:nvPr/>
        </p:nvSpPr>
        <p:spPr>
          <a:xfrm>
            <a:off x="1314360" y="6134040"/>
            <a:ext cx="38498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5:45:29Z</dcterms:created>
  <dc:creator>Peter Bjornsen</dc:creator>
  <dc:description/>
  <dc:language>en-US</dc:language>
  <cp:lastModifiedBy>wb350798</cp:lastModifiedBy>
  <cp:lastPrinted>2011-09-28T11:06:04Z</cp:lastPrinted>
  <dcterms:modified xsi:type="dcterms:W3CDTF">2011-11-01T20:53:27Z</dcterms:modified>
  <cp:revision>641</cp:revision>
  <dc:subject/>
  <dc:title>GEF</dc:title>
</cp:coreProperties>
</file>