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931-BCB5-4A1E-8928-FD45CA20E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A97E-A7C4-4994-992D-DF84AE342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7D1-6E66-43FB-AB94-04EE8A4CF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866-6276-49CB-A8F4-656A8664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B28-A686-4ADC-9F68-033EF09D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D2C-DB6D-4E40-8539-972C99FE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56A-2BF0-4EE1-B761-1B1AD141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AA8B-D5FC-4662-B10A-E836212F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F30-76FC-4E4F-9409-0DF884BE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67AF-A28E-47D8-8864-2AA0F50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8F06-1F38-4AAD-BCFD-BAE4163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B9B3-BC84-48A2-8297-66FF84A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F735-1B40-4D5A-A6A0-6F73402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DA6C-F7FF-48D0-9F06-D1191391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7C0F-2B32-49B7-8C40-03E3B7C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9480-E197-4EEB-A010-FF21523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44B6-96F3-4737-A854-2A0EA57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1C5D-B565-406F-B3C1-AEE6C402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5372-802A-4EF4-A52C-C0D14899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FEB-799C-4EB2-8876-7E4248A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5705-557C-4362-A790-440A7239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0F10-C40E-415D-BB2F-0DDC8EF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3D5E-8528-4DFB-94BF-5DBE859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705F-586E-433E-B11E-68894DE0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CF0A-1A6B-43C3-B5D5-DA0B2B4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77A14-EC53-4239-87F0-0E6D505E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F559-6852-45EE-8AEA-76FD434B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2CDB-4889-4E31-9B27-79B09B0A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D54D-F2D0-4160-B270-48FCEA5F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AFE1-DD15-4D5A-B607-CC3EBD7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FEA-ABC5-48AC-9BD9-41BD4DA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D64A-0AD6-4A11-B421-8649F0C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D1D0-7124-457A-9C5C-293C9E90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6D62-7288-4B17-80A9-A42E9FA7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91DC-58B9-4169-9230-B2C17420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97E7-2C5B-4AFA-8A33-EF1D0D0B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E0996-0E64-4446-AD53-B40BF636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06BD-07ED-49BB-B4FF-AD30E0B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7F5C-5320-4014-A486-C6DC0149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CDBD-C076-4434-92AB-1EECEBA7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96B0-D66D-4046-9335-3C09D27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873-2861-46BA-A80F-53A6707B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75A6-4B40-4471-ABEC-1BBAC44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63EB-1CC0-4F9E-9988-5F81718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C6B3-D020-4062-A450-7EADBE84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6468-C6DC-4B8B-940A-CE2D65CD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E4E7-57FA-4FFB-8FA4-11C99743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2121-32BE-4629-A8EE-40808B22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F019F-4DC4-4F26-B6AA-4F01FCC9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33A9-7E8F-42F8-A94F-6C3F1F33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D854-678F-4912-8B8B-1DE8F01E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4BF9-23D8-4975-9615-6D072549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FDC-CCC0-4C79-9386-F05E862C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5E40-A2E8-4897-A150-0FFCA662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6C6F-FA15-4B4E-B4FC-4B2863D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8629-2620-47A1-8A26-9B025A20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A0CA-C222-4115-8121-D6DD630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843F-63C1-4A19-9FD2-CCDEE7AA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75394-65E6-436C-9A6F-65EB301D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1451-0C01-4CAF-881D-0532F7F9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36414-DDCA-4E64-8633-1F24F950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4728-026C-4450-A452-7C7044B3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D625F-B6C2-4DC8-A5F0-E1AE1061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FCA-FA27-4A6B-AC1B-DE9B44B5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1AEB-D413-4F4A-8801-837CE3A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96682-7DEA-4C1F-A4E6-EA05ED4D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D7746-A74C-448F-9EF3-0BC0ACB1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59ABC-E601-4BC2-B508-C4624956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8440B-B61C-4043-98D1-08518D19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C1B7B-5637-43F4-98A7-23FA4CD0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DA1DE-32F6-4680-A5B5-BB26E64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7E5C8-1B71-44FC-A32F-B866E5F9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6E67-C367-4A00-AB41-F3488B13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A23AD-A0C1-42E4-BB5D-973B092B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5F1-0FB0-41FC-BA03-AFA9FF68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F56B-5766-4B18-B9C8-F1790FE0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0A849-F123-460A-8E7C-CF84EA5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F50DF-DACA-4241-A563-54A8D76C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B412-EFC9-40C1-99DE-10FD7377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87FC-B6F3-4D8F-8504-7103CA90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68A0-EF7F-4641-844B-8578884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5DB8A-C82C-4A80-BD96-6B4167D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05C83-3C3E-4103-8E23-BB1930A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39B30-9E5E-453D-AEFE-2A91A4DC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51B30-557A-4F22-A4B2-96E7B537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897-D905-4CFC-B0B3-F36E1C72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A4B8B-AD40-41B7-A0E0-E8CCFFBE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763CA-1B6B-480F-A32C-1CB3D69B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55551-4EC4-480D-A905-4EB144EC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6CBFF-7B85-4802-A002-DB68C22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A57F2-7EF0-4C68-9E1D-56A692C9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5356A-3EB0-428D-AA18-65E49B82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BBA9-608C-4081-B75C-7FDA9B8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ACB86-F869-46AA-B8F9-FFBBA71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8E013-942A-466B-964C-BFA0874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1B7B-5437-49B0-A5A0-3257901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FFD45-F4CB-4A6A-88F0-C712346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A02CF-6668-497C-8E89-0A3A2B35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02AB4-8AD3-4F03-81E9-EC64F77F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F8E47-9192-484B-931F-935CFA56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85586-F000-4E55-933C-B784DF18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88C9B-5F5E-4E35-9648-0370265A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2C5F6-AF06-46FC-A4E5-75F7718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085F7-566A-4172-8C1B-A317C993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D6124-EADF-4698-9448-5C06C15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6080B-F9F1-4253-9E2F-1D2F669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ABC83-2BF8-4339-91A2-E9D0F8B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B26D1-B7A4-4C95-BCC5-349755C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8FF74-D740-4FD2-B65B-C1C647B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549FC-4238-4678-A6BB-D2DC40F5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144D0-ACBA-46C4-A4E0-60D5F931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56A89-2082-40FA-8D6A-EABBB7BD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DBBFB-CE51-40FD-92A9-C09D81EA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957D7-7948-46C4-8740-51F921D4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A5A1F-A8C7-4C8D-BE4F-4E03743F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39EAA-3AC7-413A-A4C9-225E4F83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2F678-A538-497E-923F-3DBF8004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EC1F2-0016-41D3-84AC-0DC354F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89BCD-35EB-4F89-8EFF-4E3BC950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60B2A-D7BC-416A-A87C-D57A6EFF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FD4ED-8589-4F97-B730-6F6DC825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33335-3612-4A04-B00F-2B3F5DC9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A766D-6059-4937-99A8-B9B61BA6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AD55B-FD52-4F72-AFFA-B19726BD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CC1D-885E-4F5D-9870-4823F6C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D5972-F1AE-4F2D-B795-1BD7E12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57DFC-4055-49C3-A9DB-800361B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28E0A-D56F-4330-AB7C-2D918F1F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B9BB8-A4A6-46AA-967D-12745569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A6D82-C4F9-4A96-8F35-78410CB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3AA15-4C7F-4FDF-8319-BA2219D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1B367-5778-40AF-89A1-D2DCD7D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BA21B-0609-4C38-8AA6-2DF5283B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5A026-55AB-41A5-B2E3-25F32EE2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38808-0293-4C44-BB90-6023E1BA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A5ABA-F591-408C-AD59-5B6DBC84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2C33D-B103-4463-89C8-C24D316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6649D-2462-482F-A5EF-B6286A9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9CD2F-DD2E-4623-B884-3F96CB86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8E295-4A6F-4004-82A9-2C61B850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EE8A7-C60F-45A6-B8C1-B06FD9AE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35834-E567-49F5-BEA1-2AA4419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A267E-286E-4864-8A55-401A4C2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F3514-46A8-4CB1-B3D8-012B6DA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17FB3-23D9-456B-A096-3AFA999D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0B02C-F5C0-4D6A-99E0-11EDB781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87FAD-5A5F-45E4-A836-571F37B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4FB53-2DAA-4512-80AE-270C5CCD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EAF8B-F6E3-4E2F-8D11-5C294EAF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D38E7-D250-4BFB-B969-A7D97435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3A370-4F40-4900-B760-E615EC25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CF8BF-46B3-4355-BFFE-8FF23FCF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3F3A3-DD9A-4ED5-9FE0-19B9279B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A1029-517B-42F6-A462-A2D560FA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AB5B5-603B-4B5B-957C-5900F16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9BA3A-E224-41DE-BCEC-21AD57B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668ED-DCF2-4D51-BE4B-435B23B0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288C4-7CA9-4AFE-9F6A-61837F45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0981C-27C1-4ED3-ABFF-F92ABAE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4755-8E0C-4DB0-8FB7-0792ED458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FED-1CDC-4712-9FA3-1868E40B1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5FA3-A5C4-47DF-8B61-4E04F49F9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D08D-B96D-43D0-906A-FB5BC8DB8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2FC7-AE46-4AE5-8982-C8B222A9B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E52B-C0F9-41BE-8D8E-5E1F4C106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6B44-F2E6-44EE-88C1-46846AFBF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11E2-1EDB-4886-9363-CC59CBACC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DD0-40A7-4EEE-B535-6EDC548AE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353-DEBD-4F49-BA2F-3A3AB5E58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76E-E0C7-4240-9510-DDA154CA6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C82-9E75-45B2-9A0A-5C0B19245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истема прозрачного распределения ресурсов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(</a:t>
            </a: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ТАР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990720" y="3581280"/>
            <a:ext cx="6705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Подзаголовок 2"/>
          <p:cNvSpPr/>
          <p:nvPr/>
        </p:nvSpPr>
        <p:spPr>
          <a:xfrm>
            <a:off x="414360" y="71748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одзаголовок 2"/>
          <p:cNvSpPr/>
          <p:nvPr/>
        </p:nvSpPr>
        <p:spPr>
          <a:xfrm>
            <a:off x="1332000" y="3985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одзаголовок 2"/>
          <p:cNvSpPr/>
          <p:nvPr/>
        </p:nvSpPr>
        <p:spPr>
          <a:xfrm>
            <a:off x="1276200" y="6523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4"/>
          <p:cNvSpPr/>
          <p:nvPr/>
        </p:nvSpPr>
        <p:spPr>
          <a:xfrm>
            <a:off x="152280" y="1295280"/>
            <a:ext cx="87631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утверждаются в порядке поступления заявок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до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-5 (до 31 декабря 2013 года) страна сможет продолжать использовать ресурсы в той же самой тематической обл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после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-5 (с 1 января 2014 года)  ресурсы могут использоваться в той же самой или других тематических областях по усмотрению ИД и пр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нии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7"/>
          <p:cNvSpPr/>
          <p:nvPr/>
        </p:nvSpPr>
        <p:spPr>
          <a:xfrm>
            <a:off x="62568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865160" y="380880"/>
            <a:ext cx="580896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2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380880" y="1447920"/>
            <a:ext cx="86108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ы, отнесенные к категории "гибкая схема",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могут без ограничений и в полном объеме использовать предоставленные им ресурс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необходимости соблюдения требования в отношении использования конкретных сумм в определенных тематических областя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а-согласовани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лжны отражать текущие ассигнования в рамках СТА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й соответствующей тематической области, включая  затраты, связанные с подготовкой проекта (гранты на подготовку проекта) и возмещение расходов учреждению-исполнит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ересмотренное письмо-согласова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уется в том случае, если в течение периода времени, необходимого для получения одобрения ИД, запрашивается сумма, превышающая  5% первоначально запрошен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15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36560" y="75960"/>
            <a:ext cx="58089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3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5"/>
          <p:cNvSpPr/>
          <p:nvPr/>
        </p:nvSpPr>
        <p:spPr>
          <a:xfrm>
            <a:off x="228600" y="1219320"/>
            <a:ext cx="8458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, отнесенных к категории "гибкая схема", необходимо указать общую сумму, а также конкретные суммы для каждой из тематических областе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екретариаты соответствующих конвенций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исьме-согласовании должны быть проинформированы о случаях использования категории "гибкая схем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заседанию Совета в июне 201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будет представлен доклад об опыте практического внедрения СТ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На заседании в июне 201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Совет обсудит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 оценку процессов разработки и практического внедрения СТА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подготовленную Отделом оценки (ОО), в дополнение к докладу о прогрессе, достигнутом в рамках разработки показа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Последующие ша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ое внедре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6" name="Picture 3" descr=""/>
          <p:cNvPicPr/>
          <p:nvPr/>
        </p:nvPicPr>
        <p:blipFill>
          <a:blip r:embed="rId1"/>
          <a:stretch/>
        </p:blipFill>
        <p:spPr>
          <a:xfrm>
            <a:off x="-9360" y="588492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7" name="TextBox 5"/>
          <p:cNvSpPr/>
          <p:nvPr/>
        </p:nvSpPr>
        <p:spPr>
          <a:xfrm>
            <a:off x="2057400" y="35812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олее подробными вопросами просьба обращаться в Секретариат ГЭ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вигаясь от ГЭФ-4 к ГЭФ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 ГЭФ потребовал реформировать систему распределения 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 оценки ГЭФ на основе консультаций со странами-получателями ресурсов представил ценные замеч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й презентации описываются новые правила и операционные процедуры, соответствующ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й системе распределения ресурсов – С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Содержание презент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тличается СТАР в рамках ГЭФ-5 от 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рный объем ресурсов, распределяемых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ерационные процедуры 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7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ового в СТАР в рамках ГЭФ-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Распределение ресурсов: новые тематические области и новые стран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разнообразие и изменение клим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дивидуальные и групповые выпл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РС и МОРГ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разнообразие, изменение климата и деградация земельн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страны получают индивидуальные ассиг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Ассигнования группам не предусмотре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0" name="Text Placeholder 2"/>
          <p:cNvSpPr/>
          <p:nvPr/>
        </p:nvSpPr>
        <p:spPr>
          <a:xfrm>
            <a:off x="76320" y="2057400"/>
            <a:ext cx="2209680" cy="71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тические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Ассигнова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Новые правил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Р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 и Д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%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ИК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БР и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Д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Гибкая схема для малых стран (правило 7 млн. долл. СШ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ервы в объеме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ы, не включенные в СТАР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762120" y="1676160"/>
            <a:ext cx="8076960" cy="480060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и рациональное обращение с химическими вещ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е бюдж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поддержки ст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е и глобальные проекты/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малых гр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д Земли (частный сек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ресурсов в рамках ГЭФ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5226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1"/>
          <p:cNvSpPr/>
          <p:nvPr/>
        </p:nvSpPr>
        <p:spPr>
          <a:xfrm>
            <a:off x="44136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аспределение ресурсов в рамках СТАР ГЭФ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1" name="Picture 3" descr=""/>
          <p:cNvPicPr/>
          <p:nvPr/>
        </p:nvPicPr>
        <p:blipFill>
          <a:blip r:embed="rId1"/>
          <a:stretch/>
        </p:blipFill>
        <p:spPr>
          <a:xfrm>
            <a:off x="0" y="5915160"/>
            <a:ext cx="9144000" cy="99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2" name=""/>
          <p:cNvGraphicFramePr/>
          <p:nvPr/>
        </p:nvGraphicFramePr>
        <p:xfrm>
          <a:off x="228600" y="1300320"/>
          <a:ext cx="8763120" cy="480528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49032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Р в рамках ГЭФ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 в рамках ГЭФ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оначальное рас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в рамках СТАР (млн. долл. СШ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ая сх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ыргыз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уркмен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3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одзаголовок 2"/>
          <p:cNvSpPr/>
          <p:nvPr/>
        </p:nvSpPr>
        <p:spPr>
          <a:xfrm>
            <a:off x="1314360" y="6134040"/>
            <a:ext cx="38498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cp:lastPrinted>2011-09-28T11:06:04Z</cp:lastPrinted>
  <dcterms:modified xsi:type="dcterms:W3CDTF">2011-11-01T20:53:27Z</dcterms:modified>
  <cp:revision>641</cp:revision>
  <dc:subject/>
  <dc:title>GEF</dc:title>
</cp:coreProperties>
</file>