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EB4-CDFB-4DBB-A6A7-182F2249C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8E39-784D-48EF-89E9-1E2326117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26C-4E86-4B53-A016-AF07100E8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705-6492-4727-BA86-66615799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CC4-4668-4988-A1A2-FCAE033D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8CA-29D8-4243-93C7-F1CF5830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E89-F5DE-4338-A3CD-C0C631C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383-7BA0-4363-8D24-C9B2E3A6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8C3F-C89A-45CC-B417-B5B8FCA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817-2C25-4FCC-A910-8E91428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ACBC-8DC3-45F8-973F-68C37EE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321E-CFD9-49E6-A997-AFBAF84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2B5-273D-4597-AF1F-B9D4B32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8E93-90E0-4439-9A6F-47A7960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489-7679-4968-BA2E-97D48C2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427-23EE-4868-94B5-5E17AE4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C48A-79E7-46DC-A724-969B4DC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6C97-4567-47EA-A5AE-15609BA6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8BEA-A9FF-4A27-B424-C9AEC6F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59E-D5E9-423F-AFFD-B93BA7FF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A41F-C7E3-4A7B-8E00-9C1498C2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70D0-54E7-4BF8-91A9-8442B3A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C6D0-E163-4791-935B-9B33440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2B8B-6BE8-4B80-92AD-3918C90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D422-E61A-445E-B4C4-388D54BB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C10-E3C1-4CCB-9745-A7E552C6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5329-41D7-46FC-A420-CFC7E45A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B9B9-2867-442B-8F91-FBAEEFA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585C-95CF-4AE3-9355-37814C0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EC77-DDC2-4EFD-A59C-82BF0CD4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4C69-BBBB-4FE2-BC85-8199738A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FA48-04C6-4701-9D49-A42CFB1C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E299-7AF8-4B97-AADE-27AABCFA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7585-8A23-4370-A456-20C00803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BD59-452A-43F7-93D3-E9ED7BB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4467-FBCD-4DE4-A87B-6718BCD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CA1-3B9C-4DDA-8540-4EFBB5C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4783-C3E5-49EA-AFD0-C8F4B794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892C-9412-4700-8339-B9801A4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4DA22-9F16-4884-9FD1-799D5FE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441B-0CEA-42A7-9EA8-9FE6D76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BA77-1B85-4741-A6F3-FEC8AD82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175B-9C19-47F5-8A5F-F11E8A3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E600-8315-4FD0-90A2-41AEC1F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0F78-21DE-486E-BA11-D7925B2C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CAFF-47DE-484C-BA9F-6974EB5D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F01-D4C9-430F-8CFA-A623097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C2F-1067-4C2A-9ADE-F65D5CD2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619-B8B3-4423-AED9-C2CB3B3C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C0C-5382-4B9F-8F6A-19CE836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B04-6DE4-457D-B799-9B8B95D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90C3-33EB-4408-86D2-C9E29A836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8F1D-7E5B-4BF5-83A6-DACA5A582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887-E998-4CCF-B54A-EDA836C86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Arial"/>
              </a:rPr>
              <a:t>نظام التخصيص الشفاف للموارد ــ 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ea typeface="Arial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52280" y="152388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ستتم الموافقة على المشروعات ع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ساس الأسبق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قبل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يسمبر/كانون الأو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ستظل الموارد متاحة للبلد العني لاستخدامها في نفس مجال الترك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بع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يناير/كانون الثان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قد تُستخدم الموارد في نفس مجال التركيز أو في مجالات تركيز أخرى حسبما يتراءى للرئيس التنفيذي للصندوق وبموافقة مجلس الصند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الإجراءات العملية لنظام التخصيص الشفاف للموارد (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9400" y="-316080"/>
            <a:ext cx="74181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 </a:t>
            </a:r>
            <a:br>
              <a:rPr sz="4400"/>
            </a:b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موارد (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0880" y="1600200"/>
            <a:ext cx="861084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وز للبلدان المصنفة على أنها تتمتع "بمرونة في التصرف"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ن تستخدم كامل قيمة المبلغ المخصص لها بحر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ون الحاجة إلى الالتزام بالمبالغ المحددة لمجالات التركيز المعن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تشير خطابات التصديق إ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المخصصات الحالية ب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كل مجال تركيز معني بما في ذلك تكاليف الإعداد (منحة إعداد المشروع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PPG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وأتعاب الهيئ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يشترط وجود خطاب تصديق منقح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طُلب مبلغ يتجاوز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% من المبلغ الأصلي أثناء فترة تصديق الرئيس التنفي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</a:t>
            </a:r>
            <a:br>
              <a:rPr sz="3600"/>
            </a:b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 للموارد (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3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295280"/>
            <a:ext cx="899172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 للبلدان التي تتمتع بمرونة في التصرف في المخصصات، يجب الإشارة إلى إجمالي المبلغ والمبلغ الفردي لكل مجال تركيز على حد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إحاط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مانات الاتفاقيات المع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الحالات التي تتمتع بمرونة في التصرف في خطاب التصدي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ات مجلس الصندوق في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تم تقديم تقارير عن خبرات وتجارب تنفيذ نظام التخصيص الشفاف للمو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ناقش المجلس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تقييماً لتصميم وتنفيذ 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أعده مكتب التقييم، بالإضافة إلى تقرير عن التقدم المحرز في إعداد المؤشرات المطل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خطوات الت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61960" y="2133360"/>
            <a:ext cx="434340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نفيذ نظام التخصيص الشفاف ل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لمزيد من الأسئلة والاستفسارات التفصيلية، يجرى الاتصال بسكرتارية صندوق البيئة ال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9903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نتقال من العملية الرابعة إلى العملية الخامسة لتجديد موارد الصند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لب مجلس الصندوق إدخال إصلاحات على إطار تخصيص الموارد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RAF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دم مكتب التقييم لدى الصندوق، من خلال مشاورات مع البلدان المستفيدة، ملاحظات مف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صف هذا العرض التقديمي القواعد الجديدة والإجراءات العملية التي تتماشى مع النظام الجديد لتخصيص الموارد (نظام التخصيص الشفاف للموار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STA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وجز العرض التقديم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جديد من إطار تخصيص الموارد في العملية الرابعة لتجديد موارد الصندوق إلى نظام التخصيص الشفاف للموارد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خصصات الشاملة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 العملية ل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ا الجديد في نظام التخصيص الشفاف للموارد في العملية الخامسة لتجديد موارد الصندوق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جالات التخصيص الجديدة والبلدان المع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2057040"/>
            <a:ext cx="3049560" cy="3886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فردية وجماع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بلدان الأقل نمواً والدول النامية الجزر</a:t>
            </a:r>
            <a:r>
              <a:rPr b="0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ة الصغي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52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3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52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 و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تدهور الأراض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بلدان لها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فرد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دم وجو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Placeholder 2"/>
          <p:cNvSpPr/>
          <p:nvPr/>
        </p:nvSpPr>
        <p:spPr>
          <a:xfrm>
            <a:off x="716292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ج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"/>
          <p:cNvSpPr/>
          <p:nvPr/>
        </p:nvSpPr>
        <p:spPr>
          <a:xfrm>
            <a:off x="6781680" y="3809880"/>
            <a:ext cx="236232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قواعد الجديد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96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لا يوج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ـ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636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7636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تدهور الأراضي،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ليونا دولار أمريكي في تغير المناخ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دولار في التنوع البيولوجي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0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في تدهور الأراض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رونة للبلدان الصغيرة (قاعدة الـ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ايين دولار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2"/>
          <p:cNvSpPr/>
          <p:nvPr/>
        </p:nvSpPr>
        <p:spPr>
          <a:xfrm>
            <a:off x="716292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قص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6781680" y="4724280"/>
            <a:ext cx="221004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واعد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16292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رامج التي ليست موجودة في نظام التخصيص الشفاف للموار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600200"/>
            <a:ext cx="8076960" cy="4191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 والإدارة السليمة للكيماوي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وازنات المالية ل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/المشروعات الإقليمية و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نح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أرض (قطاع خا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توزيع موارد العملية الخامسة لتجديد موارد صندوق البيئة العال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Chart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ملايين الدولار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مخصصات في إطار نظام التخصيص الشفاف للموارد في العملية الخامسة لتجديد موارد الصندو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1371600"/>
          <a:ext cx="7848360" cy="4376880"/>
        </p:xfrm>
        <a:graphic>
          <a:graphicData uri="http://schemas.openxmlformats.org/drawingml/2006/table">
            <a:tbl>
              <a:tblPr/>
              <a:tblGrid>
                <a:gridCol w="744480"/>
                <a:gridCol w="839880"/>
                <a:gridCol w="660240"/>
                <a:gridCol w="839880"/>
                <a:gridCol w="512640"/>
                <a:gridCol w="787320"/>
                <a:gridCol w="847800"/>
                <a:gridCol w="2616120"/>
              </a:tblGrid>
              <a:tr h="531360">
                <a:tc rowSpan="3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ظام التخصيص الشفاف للموارد في العملية الخامس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طار تخصيص الموارد في العملية الرابع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5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جديد الموار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ظروفات نظام التخصيص الشفاف للموارد (بملايين الدولارات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خصصات الأول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رونة في التصر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جمو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دهور الأراض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لد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فغان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جزائ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ص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ير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را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أرد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بن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يب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غر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اك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ور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ون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رك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يم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Lisa</cp:lastModifiedBy>
  <dcterms:modified xsi:type="dcterms:W3CDTF">2012-04-22T23:41:33Z</dcterms:modified>
  <cp:revision>629</cp:revision>
  <dc:subject/>
  <dc:title>GEF</dc:title>
</cp:coreProperties>
</file>