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5B6-D4B4-4D2F-92A8-6A1853500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AFBA-8340-4245-A83C-CF91CE4E5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607-241A-49CB-85DC-982B30641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DE9-65DC-4C09-BC1A-7222DE7E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592-AE52-46A6-8D0C-FF8797E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E29-D8FC-42C7-A0C8-07649124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4BF-5A4F-4625-9882-BFDBF23C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BE1B-DB76-41D7-A3CC-78AC47C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BEE-FB55-46D5-A38D-2813B04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C081-A2F3-4950-A4F5-C46362F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CADA-BDB7-49B6-917D-0256A1E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FAD5-7817-44B8-B4C1-5E28EB3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0F06-9581-4413-A427-F2D2BCF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0B8-2AB1-4421-863E-E383D21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281-3278-4CBD-9769-00BEA4E7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244-D18B-4A3F-98A7-3A1F77C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BF19-3EEF-46F2-BB92-9316A28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788E-EAE9-4CF8-990E-46A85D1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FA8-6A1D-494D-B25D-A145BAF5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E20D-876C-4DB2-9408-00963231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C4AC-CFCA-43D3-8772-20DE9F16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7B3F-23F1-4F49-A7F2-B7079C3B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92F7-327D-4B5F-B04F-F52BE98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1404-E183-42DD-9437-898843A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AF7B-68EE-4B71-B540-0DF05DB5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618-23B0-48B5-80AD-E13F946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36A2-0671-413E-B7F4-7668886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6458-A99A-4D27-A1C2-FFBB671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12B7-83FD-478A-9B1D-0271BC7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FD2A-DFC1-4CA5-A54B-8D43706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6BBD-395A-4B1C-B56B-6ADD74E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F8E7-CF7E-437B-9BB8-B3838C06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79BB-B529-4480-A49F-1F2AB7F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B7E3-3244-42D7-AC7E-495F3C4E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8C37-92E0-48F5-B99A-D7784FCF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539B-30D3-44EC-A25E-5C835EF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6AC-801A-4FC0-B4BC-F4B3F5BD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C01A-4240-441A-9196-1996512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7E3C-FC46-4179-8433-02956B15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B96E-EAD6-4CF0-9652-76340222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D81E-B231-47BB-A123-948D977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8E00-EF39-4940-95AD-5D362D3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8814-6096-4BFF-B4B4-FC8757B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5A49-6B91-4D5A-A0B2-8AB084B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BF4E-F175-4C8B-A665-C90FFD54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C041-99CA-4268-8E73-254F5BD4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832-1A20-4472-A3FD-5DB77DC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F12-CE1C-48BD-B0ED-71B5A06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491-4CCA-4CCB-A1A3-0CD0D44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3C2-B78A-46DC-B004-C628505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A84-C7F1-4084-9F80-21E78AC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637-1DC7-4222-AF53-43DA25886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9E19-7A17-41DB-A91E-5E60D3E18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601E-C634-40C8-8307-163DBD8DD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GEF-PPT-BG-AR.png"/>
          <p:cNvPicPr/>
          <p:nvPr/>
        </p:nvPicPr>
        <p:blipFill>
          <a:blip r:embed="rId2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Arial"/>
              </a:rPr>
              <a:t>نظام التخصيص الشفاف للموارد ــ 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ea typeface="Arial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حلقة العمل الموسعة على مستوى البلدان الأعضاء في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Arial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52280" y="1523880"/>
            <a:ext cx="876312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ستتم الموافقة على المشروعات ع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ساس الأسبق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قبل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يسمبر/كانون الأو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ستظل الموارد متاحة للبلد العني لاستخدامها في نفس مجال التركي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إلغاء مشروع</a:t>
            </a:r>
            <a:r>
              <a:rPr b="0" i="1" lang="ar-SA" sz="2400" spc="-1" strike="noStrike">
                <a:solidFill>
                  <a:srgbClr val="c00000"/>
                </a:solidFill>
                <a:latin typeface="Calibri"/>
              </a:rPr>
              <a:t> بع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آخر ستة أشه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ن العملية الخامسة لتجديد موارد الصندوق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يناير/كانون الثان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، قد تُستخدم الموارد في نفس مجال التركيز أو في مجالات تركيز أخرى حسبما يتراءى للرئيس التنفيذي للصندوق وبموافقة مجلس الصند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33520" y="3049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الإجراءات العملية لنظام التخصيص الشفاف للموارد (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642d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9400" y="-316080"/>
            <a:ext cx="741816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 </a:t>
            </a:r>
            <a:br>
              <a:rPr sz="4400"/>
            </a:b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موارد (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80880" y="1600200"/>
            <a:ext cx="861084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وز للبلدان المصنفة على أنها تتمتع "بمرونة في التصرف"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ن تستخدم كامل قيمة المبلغ المخصص لها بحر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ون الحاجة إلى الالتزام بالمبالغ المحددة لمجالات التركيز المعني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تشير خطابات التصديق إلى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المخصصات الحالية ب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كل مجال تركيز معني بما في ذلك تكاليف الإعداد (منحة إعداد المشروع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PPG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وأتعاب الهيئات المع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يشترط وجود خطاب تصديق منقح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طُلب مبلغ يتجاوز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% من المبلغ الأصلي أثناء فترة تصديق الرئيس التنفي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إجراءات العملية لنظام التخصيص الشفاف</a:t>
            </a:r>
            <a:br>
              <a:rPr sz="3600"/>
            </a:b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 للموارد (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3</a:t>
            </a:r>
            <a:r>
              <a:rPr b="0" lang="ar-SA" sz="3600" spc="-1" strike="noStrike">
                <a:solidFill>
                  <a:srgbClr val="00642d"/>
                </a:solidFill>
                <a:latin typeface="Calibri"/>
                <a:ea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52280" y="1295280"/>
            <a:ext cx="899172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 للبلدان التي تتمتع بمرونة في التصرف في المخصصات، يجب الإشارة إلى إجمالي المبلغ والمبلغ الفردي لكل مجال تركيز على حد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إحاط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أمانات الاتفاقيات المعني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الحالات التي تتمتع بمرونة في التصرف في خطاب التصدي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ات مجلس الصندوق في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تم تقديم تقارير عن خبرات وتجارب تنفيذ نظام التخصيص الشفاف للمو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النسبة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لاجتماع يونيو/حزيران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2013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سيناقش المجلس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 تقييماً لتصميم وتنفيذ نظام التخصيص الشفاف للموار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أعده مكتب التقييم، بالإضافة إلى تقرير عن التقدم المحرز في إعداد المؤشرات المطل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خطوات التا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61960" y="2133360"/>
            <a:ext cx="434340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نفيذ نظام التخصيص الشفاف ل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لمزيد من الأسئلة والاستفسارات التفصيلية، يجرى الاتصال بسكرتارية صندوق البيئة العال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9903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نتقال من العملية الرابعة إلى العملية الخامسة لتجديد موارد الصند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لب مجلس الصندوق إدخال إصلاحات على إطار تخصيص الموارد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RAF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دم مكتب التقييم لدى الصندوق، من خلال مشاورات مع البلدان المستفيدة، ملاحظات مف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صف هذا العرض التقديمي القواعد الجديدة والإجراءات العملية التي تتماشى مع النظام الجديد لتخصيص الموارد (نظام التخصيص الشفاف للموار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STA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وجز العرض التقديم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جديد من إطار تخصيص الموارد في العملية الرابعة لتجديد موارد الصندوق إلى نظام التخصيص الشفاف للموارد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خصصات الشاملة في العملية الخامسة لتجديد موارد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 العملية لنظام التخصيص الشفاف ل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ا الجديد في نظام التخصيص الشفاف للموارد في العملية الخامسة لتجديد موارد الصندوق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مجالات التخصيص الجديدة والبلدان المع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240" y="2057040"/>
            <a:ext cx="3049560" cy="3886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فردية وجماع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بلدان الأقل نمواً والدول النامية الجزر</a:t>
            </a:r>
            <a:r>
              <a:rPr b="0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ة الصغير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52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3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352680" y="2057400"/>
            <a:ext cx="3353040" cy="3951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نوع البيولوجي وتغير المناخ و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تدهور الأراض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جميع البلدان لها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Arial"/>
              </a:rPr>
              <a:t> فرد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دم وجو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خصصات 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Placeholder 2"/>
          <p:cNvSpPr/>
          <p:nvPr/>
        </p:nvSpPr>
        <p:spPr>
          <a:xfrm>
            <a:off x="716292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ج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Placeholder 2"/>
          <p:cNvSpPr/>
          <p:nvPr/>
        </p:nvSpPr>
        <p:spPr>
          <a:xfrm>
            <a:off x="6781680" y="3809880"/>
            <a:ext cx="236232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</a:rPr>
              <a:t>المخصصا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قواعد الجديد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طار تخصيص الموارد في العملية الرابع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960" y="2057040"/>
            <a:ext cx="3049560" cy="3809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لا يوج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ـ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636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 fontScale="75000"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نظام التخصيص الشفاف للموارد في العملية الخامسة لتجديد موارد الصندو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76360" y="2057040"/>
            <a:ext cx="3429000" cy="380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10%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للتنوع البيولوجي وتدهور الأراضي،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 لتغير المنا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ليونا دولار أمريكي في تغير المناخ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1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دولار في التنوع البيولوجي، و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0.5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يون في تدهور الأراض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 algn="r" rtl="1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رونة للبلدان الصغيرة (قاعدة الـ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 ملايين دولار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تجنيب 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0" lang="ar-SA" sz="2200" spc="-1" strike="noStrike">
                <a:solidFill>
                  <a:srgbClr val="ff0000"/>
                </a:solidFill>
                <a:latin typeface="Calibri"/>
                <a:ea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Placeholder 2"/>
          <p:cNvSpPr/>
          <p:nvPr/>
        </p:nvSpPr>
        <p:spPr>
          <a:xfrm>
            <a:off x="716292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قص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2"/>
          <p:cNvSpPr/>
          <p:nvPr/>
        </p:nvSpPr>
        <p:spPr>
          <a:xfrm>
            <a:off x="6781680" y="4724280"/>
            <a:ext cx="221004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واعد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Placeholder 2"/>
          <p:cNvSpPr/>
          <p:nvPr/>
        </p:nvSpPr>
        <p:spPr>
          <a:xfrm>
            <a:off x="716292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حد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رامج التي ليست موجودة في نظام التخصيص الشفاف للموار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1600200"/>
            <a:ext cx="8076960" cy="41911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لوثات العضوية الثابتة والإدارة السليمة للكيماوي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وازنات المالية ل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برامج/المشروعات الإقليمية و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نح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أرض (قطاع خا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توزيع موارد العملية الخامسة لتجديد موارد صندوق البيئة العال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Chart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ملايين الدولار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مخصصات في إطار نظام التخصيص الشفاف للموارد في العملية الخامسة لتجديد موارد الصندو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2120" y="1371600"/>
          <a:ext cx="7848360" cy="4376880"/>
        </p:xfrm>
        <a:graphic>
          <a:graphicData uri="http://schemas.openxmlformats.org/drawingml/2006/table">
            <a:tbl>
              <a:tblPr/>
              <a:tblGrid>
                <a:gridCol w="744480"/>
                <a:gridCol w="839880"/>
                <a:gridCol w="660240"/>
                <a:gridCol w="839880"/>
                <a:gridCol w="512640"/>
                <a:gridCol w="787320"/>
                <a:gridCol w="847800"/>
                <a:gridCol w="2616120"/>
              </a:tblGrid>
              <a:tr h="531360">
                <a:tc rowSpan="3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ظام التخصيص الشفاف للموارد في العملية الخامس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طار تخصيص الموارد في العملية الرابعة لتجديد موارد الصندو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5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جديد الموار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مليار دولا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ظروفات نظام التخصيص الشفاف للموارد (بملايين الدولارات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خصصات الأول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رونة في التصر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جمو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دهور الأراض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نوع البيولوج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غير المنا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لد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فغان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جزائ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ص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ير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عرا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أرد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بن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نع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يب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غر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اكستا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ور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ون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ركي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ل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26640" rIns="2664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خصيص جماع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يم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Lisa</cp:lastModifiedBy>
  <dcterms:modified xsi:type="dcterms:W3CDTF">2012-04-22T23:41:33Z</dcterms:modified>
  <cp:revision>629</cp:revision>
  <dc:subject/>
  <dc:title>GEF</dc:title>
</cp:coreProperties>
</file>