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C06E186-5BD8-412C-97F2-8AF3B7A8B731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E6AECE3-6851-4164-B913-EA71F5397D44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5D114FB-9D00-4C16-957D-8570540A1CC3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6A5-ECA5-4560-821D-CB9FFCC6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244-B8E3-4AB5-B397-F75750C0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D66-BB60-44EB-A69C-1F89A4DE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DA8-EA15-480E-B1F3-B0B708FF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FF2C-4D38-4C20-B042-005840E4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B85F-B02F-483E-B28E-F90B46D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F334-A225-4F22-86B6-F085A4A7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B5F6-527B-48DB-8DC7-95EDF8E5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EFE5-25DD-4675-A878-BF105165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413C-AF08-45B6-9588-80A1F0E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FFD0-7110-453A-AFD0-2FA1DDD8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A81-80B4-4663-8B77-EC4D913C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3B89-FB4C-46F5-8011-50326FE5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F6E7-30B0-4498-903B-D19E3966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9794-B5CB-45DD-B571-FA2132C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EDBD-357A-458D-B161-1AA00C13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FEE1-13F4-47DE-B5BB-FC8ECDE1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FF08-375A-474A-8843-C1694E02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7079-404A-4F90-B17C-E6CA3131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CC59-D338-4A1F-B1A7-1E2A12D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F858-C9CE-498D-9E42-51444DB3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6210-CDEB-4E05-A51E-F899BDC2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C55-0C6B-48C7-A688-2292A7FD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C26F3-ACFE-4952-AB86-74E72C23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71FA-D95C-43DF-B4C9-FE1D6A3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6BF1-1C14-4B35-BB35-36B8895E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55AEA-2A52-40FA-BDFB-A13F1A8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EEC1-FEB4-43A6-8D00-97EA6DBB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7870-4CE8-4452-A3CC-60789FAE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B34D-E9C6-4D67-8FE7-427D0D98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A1AD-41D9-41ED-94F6-1131AEF0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4C844-8B19-4BE5-A7A5-18B92C90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BB8D9-2589-4391-9EBD-F476FFAF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C7A-97F3-4267-8018-D1733956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92AF-866A-4D60-AD29-E9F9C637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054F-42A0-4BB6-9AC7-6DC90DF2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0DC0-3291-4E10-9811-F9B3980F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00C3C-0BA6-4DE0-812E-15BD4C94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8EC8-A252-4E98-AFAB-7C3A743A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167C-8057-431B-9C7F-DD664C89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3EC74-23CD-40C6-98F9-1B90C79F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97CB-4D88-41D2-B4E8-7D0160A3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EE52-DC8D-4D20-BEBD-7E4115EB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B10-FEA1-4024-9A78-F0AB9AA9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1E6-443B-4AE5-99BF-825A321E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2DC-ADFD-4F5B-9586-A3790491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714-58AE-4C2E-B6A9-9A06226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F37-68E9-47E7-930A-68CCE367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2F78-EA5D-45E4-8588-B6E807C3A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75C4-DF88-41B8-A683-6B2BD82B88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BE41-3101-45EB-8BA5-E80D925B91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F61F-50F7-45AC-9D35-694042FFF70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945B-6511-4CAF-A1FE-D5E8B9EFAD1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5B4A-00F0-4083-B54E-050CD1A017D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0033-DE91-4DC7-94B3-41410656C29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CA36-6218-41F2-AD93-FD40547CD1E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3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23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دورة مش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ر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ي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ع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EG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عايير مراجعة المشروعات متوسطة/كاملة الحج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14479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لية البلد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عن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حمله للمسؤو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نافع البيئي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ستراتيجية مجال تركيز صندوق البيئ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زة النسبية لهيئة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فر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افق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ميم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المشروع والتمويل المشترك للمشروع (خط الأسا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صد والتقييم؛ 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د الهيئة على الملاحظات والمراجع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صديق البلد المعني</a:t>
            </a:r>
            <a:br>
              <a:rPr sz="32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ea typeface="Arial"/>
              </a:rPr>
              <a:t>(من جانب 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(نقطة)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مسؤول الاتصال المعني بالعمليات لدى البلد المعني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جب أن يصدق مسؤول</a:t>
            </a:r>
            <a:r>
              <a:rPr b="0" lang="ar-EG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نقطة)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تصال المعني بالعمليات على جميع نماذج تحديد المشروعات عند عرضها على الصندوق لاعتمادها (في حالة المشروعات كاملة الحجم) أو الموافقة (في حالة المشروعات المتوسطة الحجم التي تطلب منحة إعداد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مشروعات في مجالات تركيز التنوع البيولوجي وتغير المناخ وتدهور الأراضي قواعد نظام التخصيص الشفاف للموار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نسبة للمشروعات القائمة بذاتها، أتعاب قيمتها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على مبلغ الصندوق المخصص للمشروع (منحة المشروع + منحة إعداد المشروع)*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اين أتعاب الهيئة بالنسبة للنُهج البرامجية حسب نوع الهيئة المقدمة للنُهج البرامج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 تتمتع بموافقة المجلس على المشروعات: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بدون موافقة المجلس على المشروعات: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حالة إلغاء المشروع، يتعين إعادة جميع مبالغ الأتعاب غير المستخدمة أو أية نسبة محددة إلى الصندوق الاستئماني لصندوق البيئة العالمية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إشارة إلى وثيقة مجلس الصندوق، "</a:t>
            </a:r>
            <a:r>
              <a:rPr b="0" i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دوار والميزات النسبية لهيئات صندوق البيئة العالمية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لإرشادات الخاصة بنسب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أتعاب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30/9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إشارة إلى وثيقة مجلس الصندوق، "</a:t>
            </a:r>
            <a:r>
              <a:rPr b="0" i="1" lang="ar-SA" sz="1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ترح مراجعة نظام الأتعاب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إرشادات إعادة الأتعاب (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23/8/Rev.1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1500"/>
            </a:b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أتعاب الهيئ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نُهج البرامجية (</a:t>
            </a:r>
            <a:r>
              <a:rPr b="0" lang="ar-SA" sz="3600" spc="-1" strike="noStrike">
                <a:solidFill>
                  <a:srgbClr val="558ed5"/>
                </a:solidFill>
                <a:latin typeface="Calibri"/>
                <a:ea typeface="Arial"/>
              </a:rPr>
              <a:t>1</a:t>
            </a:r>
            <a:r>
              <a:rPr b="0" lang="ar-EG" sz="36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نوعان من النُهج البرامجية حسب نوع هيئة الصندوق المقدمة للبرنامج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تتمتع بموافقة المجلس على المشروعات ــ هيئات الصندوق التي تستوفي معايير سلطة الموافقة المخول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بدون موافقة المجلس على المشروعات ــ هيئات الصندوق التي لا تستوفي هذه المعايير، حيث يمكن عرض هذه البرامج بواسطة هيئة تنسيق برامج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Group 3" descr=""/>
          <p:cNvPicPr/>
          <p:nvPr/>
        </p:nvPicPr>
        <p:blipFill>
          <a:blip r:embed="rId1"/>
          <a:stretch/>
        </p:blipFill>
        <p:spPr>
          <a:xfrm>
            <a:off x="865080" y="189000"/>
            <a:ext cx="2719440" cy="585720"/>
          </a:xfrm>
          <a:prstGeom prst="rect">
            <a:avLst/>
          </a:prstGeom>
          <a:ln w="0">
            <a:noFill/>
          </a:ln>
        </p:spPr>
      </p:pic>
      <p:grpSp>
        <p:nvGrpSpPr>
          <p:cNvPr id="237" name="Rounded Rectangle 4"/>
          <p:cNvGrpSpPr/>
          <p:nvPr/>
        </p:nvGrpSpPr>
        <p:grpSpPr>
          <a:xfrm>
            <a:off x="878040" y="2316240"/>
            <a:ext cx="2511360" cy="718920"/>
            <a:chOff x="878040" y="2316240"/>
            <a:chExt cx="2511360" cy="718920"/>
          </a:xfrm>
        </p:grpSpPr>
        <p:pic>
          <p:nvPicPr>
            <p:cNvPr id="238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878040" y="2316240"/>
              <a:ext cx="25113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990720" y="23335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ات على فرادى نماذج تحديد المشروعات ضمن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0" name="Group 28" descr=""/>
          <p:cNvPicPr/>
          <p:nvPr/>
        </p:nvPicPr>
        <p:blipFill>
          <a:blip r:embed="rId3"/>
          <a:stretch/>
        </p:blipFill>
        <p:spPr>
          <a:xfrm>
            <a:off x="5048280" y="195120"/>
            <a:ext cx="2475000" cy="481320"/>
          </a:xfrm>
          <a:prstGeom prst="rect">
            <a:avLst/>
          </a:prstGeom>
          <a:ln w="0">
            <a:noFill/>
          </a:ln>
        </p:spPr>
      </p:pic>
      <p:pic>
        <p:nvPicPr>
          <p:cNvPr id="241" name="Group 48" descr=""/>
          <p:cNvPicPr/>
          <p:nvPr/>
        </p:nvPicPr>
        <p:blipFill>
          <a:blip r:embed="rId4"/>
          <a:stretch/>
        </p:blipFill>
        <p:spPr>
          <a:xfrm>
            <a:off x="1925640" y="2919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51" descr=""/>
          <p:cNvPicPr/>
          <p:nvPr/>
        </p:nvPicPr>
        <p:blipFill>
          <a:blip r:embed="rId5"/>
          <a:stretch/>
        </p:blipFill>
        <p:spPr>
          <a:xfrm>
            <a:off x="19256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3" name="Group 58" descr=""/>
          <p:cNvPicPr/>
          <p:nvPr/>
        </p:nvPicPr>
        <p:blipFill>
          <a:blip r:embed="rId6"/>
          <a:stretch/>
        </p:blipFill>
        <p:spPr>
          <a:xfrm>
            <a:off x="1925640" y="38336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4" name="Group 64" descr=""/>
          <p:cNvPicPr/>
          <p:nvPr/>
        </p:nvPicPr>
        <p:blipFill>
          <a:blip r:embed="rId7"/>
          <a:stretch/>
        </p:blipFill>
        <p:spPr>
          <a:xfrm>
            <a:off x="60404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5" name="Group 48" descr=""/>
          <p:cNvPicPr/>
          <p:nvPr/>
        </p:nvPicPr>
        <p:blipFill>
          <a:blip r:embed="rId8"/>
          <a:stretch/>
        </p:blipFill>
        <p:spPr>
          <a:xfrm>
            <a:off x="1925640" y="20048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46" name="Rounded Rectangle 4"/>
          <p:cNvGrpSpPr/>
          <p:nvPr/>
        </p:nvGrpSpPr>
        <p:grpSpPr>
          <a:xfrm>
            <a:off x="927000" y="3230640"/>
            <a:ext cx="2449440" cy="718920"/>
            <a:chOff x="927000" y="3230640"/>
            <a:chExt cx="2449440" cy="718920"/>
          </a:xfrm>
        </p:grpSpPr>
        <p:pic>
          <p:nvPicPr>
            <p:cNvPr id="247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927000" y="32306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32479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927000" y="4145040"/>
            <a:ext cx="2449440" cy="718920"/>
            <a:chOff x="927000" y="4145040"/>
            <a:chExt cx="2449440" cy="718920"/>
          </a:xfrm>
        </p:grpSpPr>
        <p:pic>
          <p:nvPicPr>
            <p:cNvPr id="250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450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990720" y="41623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927000" y="5138640"/>
            <a:ext cx="2449440" cy="712800"/>
            <a:chOff x="927000" y="5138640"/>
            <a:chExt cx="2449440" cy="712800"/>
          </a:xfrm>
        </p:grpSpPr>
        <p:pic>
          <p:nvPicPr>
            <p:cNvPr id="253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5138640"/>
              <a:ext cx="24494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90720" y="515304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3670200" y="1249200"/>
            <a:ext cx="2449440" cy="1384560"/>
            <a:chOff x="3670200" y="1249200"/>
            <a:chExt cx="2449440" cy="1384560"/>
          </a:xfrm>
        </p:grpSpPr>
        <p:pic>
          <p:nvPicPr>
            <p:cNvPr id="256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670200" y="1249200"/>
              <a:ext cx="24494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733920" y="126684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، ويوافق على نماذج تحديد المشروعات المقدمة مع وثيقة إطار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8" name="Rounded Rectangle 4"/>
          <p:cNvGrpSpPr/>
          <p:nvPr/>
        </p:nvGrpSpPr>
        <p:grpSpPr>
          <a:xfrm>
            <a:off x="847800" y="944640"/>
            <a:ext cx="2565360" cy="1122120"/>
            <a:chOff x="847800" y="944640"/>
            <a:chExt cx="2565360" cy="1122120"/>
          </a:xfrm>
        </p:grpSpPr>
        <p:pic>
          <p:nvPicPr>
            <p:cNvPr id="259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847800" y="944640"/>
              <a:ext cx="25653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990720" y="961920"/>
              <a:ext cx="2319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" name="Group 58" descr=""/>
          <p:cNvPicPr/>
          <p:nvPr/>
        </p:nvPicPr>
        <p:blipFill>
          <a:blip r:embed="rId14"/>
          <a:stretch/>
        </p:blipFill>
        <p:spPr>
          <a:xfrm>
            <a:off x="1925640" y="47480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4"/>
          <p:cNvGrpSpPr/>
          <p:nvPr/>
        </p:nvGrpSpPr>
        <p:grpSpPr>
          <a:xfrm>
            <a:off x="6400800" y="1328760"/>
            <a:ext cx="2462040" cy="1274760"/>
            <a:chOff x="6400800" y="1328760"/>
            <a:chExt cx="2462040" cy="1274760"/>
          </a:xfrm>
        </p:grpSpPr>
        <p:pic>
          <p:nvPicPr>
            <p:cNvPr id="26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00800" y="1328760"/>
              <a:ext cx="24620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477120" y="134316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مجموعة تالية من نماذج تحديد المشروعات ضمن وثيقة إطار البرنامج من خلال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5" name="Group 48" descr=""/>
          <p:cNvPicPr/>
          <p:nvPr/>
        </p:nvPicPr>
        <p:blipFill>
          <a:blip r:embed="rId16"/>
          <a:stretch/>
        </p:blipFill>
        <p:spPr>
          <a:xfrm>
            <a:off x="5357880" y="2614680"/>
            <a:ext cx="439560" cy="40320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8" descr=""/>
          <p:cNvPicPr/>
          <p:nvPr/>
        </p:nvPicPr>
        <p:blipFill>
          <a:blip r:embed="rId17"/>
          <a:stretch/>
        </p:blipFill>
        <p:spPr>
          <a:xfrm>
            <a:off x="6040440" y="3681360"/>
            <a:ext cx="439560" cy="403200"/>
          </a:xfrm>
          <a:prstGeom prst="rect">
            <a:avLst/>
          </a:prstGeom>
          <a:ln w="0">
            <a:noFill/>
          </a:ln>
        </p:spPr>
      </p:pic>
      <p:grpSp>
        <p:nvGrpSpPr>
          <p:cNvPr id="267" name="Rounded Rectangle 4"/>
          <p:cNvGrpSpPr/>
          <p:nvPr/>
        </p:nvGrpSpPr>
        <p:grpSpPr>
          <a:xfrm>
            <a:off x="5041800" y="3151080"/>
            <a:ext cx="2449440" cy="719280"/>
            <a:chOff x="5041800" y="3151080"/>
            <a:chExt cx="2449440" cy="719280"/>
          </a:xfrm>
        </p:grpSpPr>
        <p:pic>
          <p:nvPicPr>
            <p:cNvPr id="268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041800" y="31510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05520" y="31719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041800" y="4065480"/>
            <a:ext cx="2449440" cy="719280"/>
            <a:chOff x="5041800" y="4065480"/>
            <a:chExt cx="2449440" cy="719280"/>
          </a:xfrm>
        </p:grpSpPr>
        <p:pic>
          <p:nvPicPr>
            <p:cNvPr id="271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654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05520" y="40863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Rounded Rectangle 4"/>
          <p:cNvGrpSpPr/>
          <p:nvPr/>
        </p:nvGrpSpPr>
        <p:grpSpPr>
          <a:xfrm>
            <a:off x="5041800" y="5059440"/>
            <a:ext cx="2449440" cy="755640"/>
            <a:chOff x="5041800" y="5059440"/>
            <a:chExt cx="2449440" cy="755640"/>
          </a:xfrm>
        </p:grpSpPr>
        <p:pic>
          <p:nvPicPr>
            <p:cNvPr id="274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5059440"/>
              <a:ext cx="2449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05520" y="5076720"/>
              <a:ext cx="231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6" name="Group 58" descr=""/>
          <p:cNvPicPr/>
          <p:nvPr/>
        </p:nvPicPr>
        <p:blipFill>
          <a:blip r:embed="rId21"/>
          <a:stretch/>
        </p:blipFill>
        <p:spPr>
          <a:xfrm>
            <a:off x="6040440" y="4668840"/>
            <a:ext cx="439560" cy="409680"/>
          </a:xfrm>
          <a:prstGeom prst="rect">
            <a:avLst/>
          </a:prstGeom>
          <a:ln w="0">
            <a:noFill/>
          </a:ln>
        </p:spPr>
      </p:pic>
      <p:pic>
        <p:nvPicPr>
          <p:cNvPr id="277" name="Group 48" descr=""/>
          <p:cNvPicPr/>
          <p:nvPr/>
        </p:nvPicPr>
        <p:blipFill>
          <a:blip r:embed="rId22"/>
          <a:stretch/>
        </p:blipFill>
        <p:spPr>
          <a:xfrm>
            <a:off x="6802560" y="2614680"/>
            <a:ext cx="4395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Tahoma"/>
              </a:rPr>
              <a:t>www.thegef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ة مشروعات صندوق البيئة العالمية هي عملية تتضمن العديد من الشركاء في الخط الأمامي:  بلدان، وهيئات تابعة لصندوق البيئة العالمية، وسكرتارية الصندوق، ومجلس الصندوق، وشركاء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شركاء مهمين آخرين يعملون في الخطوط الخلفية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نب الأموال من أجل المشروعات، كما يلتزم بتقديم وتحويل الأموال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يئة الاستشارية العلمية والفنية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وم بتصفية المشروعات في المراحل الأولى، وتقدم الإرشادات العلمية للمشروع أو البرنامج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 التقي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ُقيم المشروعات المنجزة والموضوعات المختارة، ويقوم بعمل مراجعة سنوية للأداء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كرتارية الاتفاقيات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دم أيضاً إرشادات وملاحظات بشأن المشروعا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ن فكرة المشروع إلى طلب التصديق/الموافق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كرة المشروع ــ بلدان ــ التدريبات الوطنية لصياغة المشروعات (اختياري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صوّر المشروع ــ هيئات ــ نموذج تحديد المشروع ومنحة إعداد المشروع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ومراجع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نموذج تحديد المشروعات ومنحة إعداد المشروعات، وإدراج برنامج العمل، وموافق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المشروع ــ ه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ثيقة المشروع ــ هيئات ــ مشروع كامل الحجم أو مشروع متوسط الحجم  (الهيئة المنفذة)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مراجعة واستعراض و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ات وتصديق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مدير الصندوق، وإحاط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58ed5"/>
                </a:solidFill>
                <a:latin typeface="Calibri"/>
                <a:cs typeface="Arial"/>
              </a:rPr>
              <a:t>سمات دورة المشروعات في إطار العملية الخامسة لتجديد موارد الصند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ُقدم نموذج تحديد المشروع على أساس متجد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شهراً للإعداد بالنسبة للمشروع كامل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تبدأ من تاريخ موافقة المجلس على برنامج العمل حتى تصديق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شهراً للإعداد بالنسبة 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تنطبق فقط على المشروعات متوسطة الحجم التي طلبت منحة إعداد؛ وتبدأ من تاريخ الموافقة على نموذج تحديد المشروع من جانب رئيس الصندوق حتى موافقته على الوثيقة النهائية للمشروع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عرض وثيقة إطار البرنامج للنُهج البرامجية فقط في اجتماعات المجلس المقرر عقدها مرتين في السنة (مايو/أيار ونوفمبر/تشرين الثاني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أولى في دورة مشروعات صندوق البيئة العالمية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1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كامل الحج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جلس/السكرتار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المجلس على برنامج العمل،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و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ضمن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لك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نماذج تحديد المشروعات التي اعتمدها رئيس الصندوق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رئيس الصندوق على وثيقة المشروع النهائ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ئة صندوق البيئة العالم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قيام هيئة صندوق البيئة العالمية بالموافقة على المشروع وبدء التنفيذ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جاز التنفيذ، والتقييم النهائي، والإقفال المال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نية في دورة مشروعات صندوق البيئة العال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0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ة واحد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تي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حالة طلب منحة إعداد المشروع، يتم عرض نموذج تحديد المشروع على رئيس الصندوق للموافقة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le 1"/>
          <p:cNvSpPr/>
          <p:nvPr/>
        </p:nvSpPr>
        <p:spPr>
          <a:xfrm>
            <a:off x="220968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Times New Roman"/>
              </a:rPr>
              <a:t>المشروعات متوسطة الحج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1371600" y="804960"/>
            <a:ext cx="2822400" cy="4522680"/>
          </a:xfrm>
          <a:prstGeom prst="rect">
            <a:avLst/>
          </a:prstGeom>
          <a:ln w="0">
            <a:noFill/>
          </a:ln>
        </p:spPr>
      </p:pic>
      <p:pic>
        <p:nvPicPr>
          <p:cNvPr id="194" name="Diagram 4" descr=""/>
          <p:cNvPicPr/>
          <p:nvPr/>
        </p:nvPicPr>
        <p:blipFill>
          <a:blip r:embed="rId2"/>
          <a:stretch/>
        </p:blipFill>
        <p:spPr>
          <a:xfrm>
            <a:off x="4572000" y="792000"/>
            <a:ext cx="2438280" cy="4535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152280" y="54864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ق هيئة صندوق البيئة العالمية على المشروع متوسط الحجم بعد موافقة رئيس الصندوق على المشروع، ويبدأ التنفي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لثة في 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النسبة للأنشطة الداعمة (مساري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صول المباش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تباع سياسة الوصول المباشر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قدم البلد المعني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وقع رئيس الصندوق والبلد المعني على اتفاقية منحة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تباع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الإجراءات القائم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أن تطبيق منحة الهيئة المنفذة من خلال الهيئ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دم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ة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هيئة إجراءات الموافقة الداخلية الخاصة بها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1371600" y="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Times New Roman"/>
              </a:rPr>
              <a:t>تسريع وتيرة الأنشطة الداع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Group 3" descr=""/>
          <p:cNvPicPr/>
          <p:nvPr/>
        </p:nvPicPr>
        <p:blipFill>
          <a:blip r:embed="rId1"/>
          <a:stretch/>
        </p:blipFill>
        <p:spPr>
          <a:xfrm>
            <a:off x="1695600" y="652320"/>
            <a:ext cx="2400120" cy="871560"/>
          </a:xfrm>
          <a:prstGeom prst="rect">
            <a:avLst/>
          </a:prstGeom>
          <a:ln w="0">
            <a:noFill/>
          </a:ln>
        </p:spPr>
      </p:pic>
      <p:grpSp>
        <p:nvGrpSpPr>
          <p:cNvPr id="200" name="Rounded Rectangle 4"/>
          <p:cNvGrpSpPr/>
          <p:nvPr/>
        </p:nvGrpSpPr>
        <p:grpSpPr>
          <a:xfrm>
            <a:off x="1749600" y="3413160"/>
            <a:ext cx="2388960" cy="744480"/>
            <a:chOff x="1749600" y="3413160"/>
            <a:chExt cx="2388960" cy="744480"/>
          </a:xfrm>
        </p:grpSpPr>
        <p:pic>
          <p:nvPicPr>
            <p:cNvPr id="201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749600" y="3413160"/>
              <a:ext cx="23889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828800" y="342900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Rounded Rectangle 4"/>
          <p:cNvGrpSpPr/>
          <p:nvPr/>
        </p:nvGrpSpPr>
        <p:grpSpPr>
          <a:xfrm>
            <a:off x="1689120" y="4552920"/>
            <a:ext cx="2376360" cy="854280"/>
            <a:chOff x="1689120" y="4552920"/>
            <a:chExt cx="2376360" cy="854280"/>
          </a:xfrm>
        </p:grpSpPr>
        <p:pic>
          <p:nvPicPr>
            <p:cNvPr id="204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89120" y="4552920"/>
              <a:ext cx="23763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752480" y="4572000"/>
              <a:ext cx="22431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الهيئة الوطنية أعمال التنفيذ التي تقوم بها الهيئة المنفذة وترفع تقريراً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Rounded Rectangle 4"/>
          <p:cNvGrpSpPr/>
          <p:nvPr/>
        </p:nvGrpSpPr>
        <p:grpSpPr>
          <a:xfrm>
            <a:off x="4462560" y="4552920"/>
            <a:ext cx="2498760" cy="897120"/>
            <a:chOff x="4462560" y="4552920"/>
            <a:chExt cx="2498760" cy="897120"/>
          </a:xfrm>
        </p:grpSpPr>
        <p:pic>
          <p:nvPicPr>
            <p:cNvPr id="207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462560" y="4552920"/>
              <a:ext cx="24987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572000" y="45720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هيئة الصندوق أعمال التنفيذ التي تقوم بها الهيئة المنفذة، ويرفع البلد المعني تقارير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Rounded Rectangle 4"/>
          <p:cNvGrpSpPr/>
          <p:nvPr/>
        </p:nvGrpSpPr>
        <p:grpSpPr>
          <a:xfrm>
            <a:off x="4505400" y="3333600"/>
            <a:ext cx="2455920" cy="854280"/>
            <a:chOff x="4505400" y="3333600"/>
            <a:chExt cx="2455920" cy="854280"/>
          </a:xfrm>
        </p:grpSpPr>
        <p:pic>
          <p:nvPicPr>
            <p:cNvPr id="210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333600"/>
              <a:ext cx="2455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0" y="33526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Rounded Rectangle 4"/>
          <p:cNvGrpSpPr/>
          <p:nvPr/>
        </p:nvGrpSpPr>
        <p:grpSpPr>
          <a:xfrm>
            <a:off x="4505400" y="2419200"/>
            <a:ext cx="2455920" cy="635040"/>
            <a:chOff x="4505400" y="2419200"/>
            <a:chExt cx="2455920" cy="635040"/>
          </a:xfrm>
        </p:grpSpPr>
        <p:pic>
          <p:nvPicPr>
            <p:cNvPr id="213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419200"/>
              <a:ext cx="24559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72000" y="24382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هيئة الصندوق المقترح  للحصول على موافقة رئيس الصندوق عليه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Rounded Rectangle 4"/>
          <p:cNvGrpSpPr/>
          <p:nvPr/>
        </p:nvGrpSpPr>
        <p:grpSpPr>
          <a:xfrm>
            <a:off x="4505400" y="1432080"/>
            <a:ext cx="2455920" cy="634680"/>
            <a:chOff x="4505400" y="1432080"/>
            <a:chExt cx="2455920" cy="634680"/>
          </a:xfrm>
        </p:grpSpPr>
        <p:pic>
          <p:nvPicPr>
            <p:cNvPr id="216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432080"/>
              <a:ext cx="245592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14479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عرض الهيئة الوطنية مقترح الهيئة المنفذة على هيئة الصندو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8" name="Group 28" descr=""/>
          <p:cNvPicPr/>
          <p:nvPr/>
        </p:nvPicPr>
        <p:blipFill>
          <a:blip r:embed="rId8"/>
          <a:stretch/>
        </p:blipFill>
        <p:spPr>
          <a:xfrm>
            <a:off x="4516560" y="652320"/>
            <a:ext cx="2396880" cy="792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48" descr=""/>
          <p:cNvPicPr/>
          <p:nvPr/>
        </p:nvPicPr>
        <p:blipFill>
          <a:blip r:embed="rId9"/>
          <a:stretch/>
        </p:blipFill>
        <p:spPr>
          <a:xfrm>
            <a:off x="2687760" y="4170240"/>
            <a:ext cx="415800" cy="4320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51" descr=""/>
          <p:cNvPicPr/>
          <p:nvPr/>
        </p:nvPicPr>
        <p:blipFill>
          <a:blip r:embed="rId10"/>
          <a:stretch/>
        </p:blipFill>
        <p:spPr>
          <a:xfrm>
            <a:off x="2687760" y="2567160"/>
            <a:ext cx="493560" cy="5839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4"/>
          <p:cNvSpPr/>
          <p:nvPr/>
        </p:nvSpPr>
        <p:spPr>
          <a:xfrm>
            <a:off x="533520" y="5410080"/>
            <a:ext cx="62006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سكرتارية الصندوق إجراءات البنك الدولي عند الموافقة على المقترح مع تحقيق الهدف النهائ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المتمثل في إرسال اتفاقية المنحة للبلد المستفيد والتوقيع عليها من جانب رئيس الصندوق وهذا البلد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Group 58" descr=""/>
          <p:cNvPicPr/>
          <p:nvPr/>
        </p:nvPicPr>
        <p:blipFill>
          <a:blip r:embed="rId11"/>
          <a:stretch/>
        </p:blipFill>
        <p:spPr>
          <a:xfrm>
            <a:off x="5510160" y="4170240"/>
            <a:ext cx="439920" cy="4017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61" descr=""/>
          <p:cNvPicPr/>
          <p:nvPr/>
        </p:nvPicPr>
        <p:blipFill>
          <a:blip r:embed="rId12"/>
          <a:stretch/>
        </p:blipFill>
        <p:spPr>
          <a:xfrm>
            <a:off x="5430960" y="2951280"/>
            <a:ext cx="493560" cy="431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64" descr=""/>
          <p:cNvPicPr/>
          <p:nvPr/>
        </p:nvPicPr>
        <p:blipFill>
          <a:blip r:embed="rId13"/>
          <a:stretch/>
        </p:blipFill>
        <p:spPr>
          <a:xfrm>
            <a:off x="5430960" y="1957320"/>
            <a:ext cx="493560" cy="511200"/>
          </a:xfrm>
          <a:prstGeom prst="rect">
            <a:avLst/>
          </a:prstGeom>
          <a:ln w="0">
            <a:noFill/>
          </a:ln>
        </p:spPr>
      </p:pic>
      <p:grpSp>
        <p:nvGrpSpPr>
          <p:cNvPr id="225" name="Rounded Rectangle 4"/>
          <p:cNvGrpSpPr/>
          <p:nvPr/>
        </p:nvGrpSpPr>
        <p:grpSpPr>
          <a:xfrm>
            <a:off x="1689120" y="1584360"/>
            <a:ext cx="2449440" cy="817560"/>
            <a:chOff x="1689120" y="1584360"/>
            <a:chExt cx="2449440" cy="817560"/>
          </a:xfrm>
        </p:grpSpPr>
        <p:pic>
          <p:nvPicPr>
            <p:cNvPr id="226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584360"/>
              <a:ext cx="24494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52480" y="16002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الهيئة الوطنية مقترح الهيئة المنفذة للحصول على موافقة رئيس الصندوق عليه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Lisa</cp:lastModifiedBy>
  <cp:lastPrinted>2011-02-14T18:22:27Z</cp:lastPrinted>
  <dcterms:modified xsi:type="dcterms:W3CDTF">2012-04-22T23:42:05Z</dcterms:modified>
  <cp:revision>257</cp:revision>
  <dc:subject/>
  <dc:title>Slide 1</dc:title>
</cp:coreProperties>
</file>