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6D6-8B14-4A38-A549-D07745E1760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F827-8B3E-4033-9722-416D59E2FA5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F6BA8-82C1-430C-9AF5-70833BFD9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E76E8-A2DC-42F1-81E9-477F3699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3AB6C-26A4-4A82-9921-0A13FF29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5041-CCA2-4687-AEB9-09EC6DD4F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90BD3-8702-4012-B0B3-F3EC6950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5A95C-AEDC-4D30-B640-D491584E5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2837-6292-4F9F-9311-A6DB59DDA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98B3-F7DA-44CA-A48B-6FC87179C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015D5-4872-4656-A245-6EF2F9D0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6674-807E-4C6B-949C-B6B235A73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0D81-71BE-48FF-9355-15CB8749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5DBA-DE7F-4EC7-A9FE-FE92CA305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4224-05CE-42DD-926B-F9EB338751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1 to 3 November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Cape Town, South Africa</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17T17:55:04Z</dcterms:modified>
  <cp:revision>87</cp:revision>
  <dc:subject/>
  <dc:title>GEF and the conventions</dc:title>
</cp:coreProperties>
</file>