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77B0-D53A-46C3-A92B-6DB6728AFAE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FC3B-BF11-4D02-8FA1-48B4C781A13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4F86E-36B0-4DD2-887D-F9C6E0879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7D5C-662A-4A6B-B4B8-24C931A9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AFFD4-95F9-447F-B8A0-3F0D541A2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9A6FF-4751-4A12-88A9-E05B64B98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1E88D-22EE-4AF9-96E7-86406A84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4D05-05FA-4A0C-8EED-E937A8CA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C8C20-2659-4665-912C-FC10E5F65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0FC5-750B-4693-9569-D3E6548B2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05CB-E27B-4119-9110-403D6746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49CC-645C-4118-A8D2-E752CF68A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4EF7-CD9D-4449-B23A-579494AF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CFA6-28E9-4FD4-86B7-235EA297F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8EEB-DBB3-43FB-BC31-41EA4DE36C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 to 3 November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Cape Town, South Africa</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17T17:55:04Z</dcterms:modified>
  <cp:revision>87</cp:revision>
  <dc:subject/>
  <dc:title>GEF and the conventions</dc:title>
</cp:coreProperties>
</file>