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257120" y="7171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0" y="9116640"/>
            <a:ext cx="317016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4142880" y="9116640"/>
            <a:ext cx="317052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521EF152-2904-4F96-8810-085791EFDF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257480" y="7174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4143240" y="9117000"/>
            <a:ext cx="317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FA54AD4D-85B3-400D-BD7A-42F577587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Footer Placeholder 5"/>
          <p:cNvSpPr/>
          <p:nvPr/>
        </p:nvSpPr>
        <p:spPr>
          <a:xfrm>
            <a:off x="0" y="9117000"/>
            <a:ext cx="317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F76F-F580-4169-A592-EB2B39898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4820-882A-4330-99FE-F4B26E95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8D23CC-75CE-4664-8E06-0B32655E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DF49B-C421-43B6-B1D5-01DC0A1F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A6A67-4703-42AF-B638-F903F44E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1A45D-0266-41EB-8988-DED215B4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F3A9ED-5514-4D5D-A427-5EF934D9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6ABB2-DEF7-44B1-8B52-EB88727D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3D287-9951-401B-82EB-0371D565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C6981-60A7-403F-A4E3-6A79955E1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793CB-2CE1-44BB-AA23-556D38002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C134F5-BEA9-4329-A7B2-5D9376118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D153-69D0-46E1-9902-D8E7A8F61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18C37E-0BE1-4932-9D62-ACED075C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72125B-DC89-4127-87F4-98B055B9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8A5035-E264-4775-BA75-8B648375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0E643-25D1-4F8F-9CAD-5901C53A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30168-5AF0-4DEE-B87B-2B39A580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F5CD5-63F3-4D38-A68C-C20E7F83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52068-7CB6-4791-AE13-8BF8EA52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03C090-1A75-4040-82D0-1D62CA29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05D9EB-54F5-4D47-9FBD-DAACB5B0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E18E2-201E-461C-A78C-946797D17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977F-D7FF-47D7-A808-CA03F65D7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863B6-4587-4BBF-AAE9-3D93C7FF4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A1DDB-F835-4CAD-A064-50041E175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6FAA6-F1D6-46DA-863E-2965CE95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1BFE4-89FD-42BB-A68A-1D3486AD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BC8F0-19F0-45E4-826E-1C3085C1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CF925-50E6-4B4B-B816-931C872F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C7A54-0F74-402D-BA72-2F92389F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BCB08-CB70-478D-BC93-30BE496A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8B0A5-449E-4C45-A68E-94734A4D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D77FA-4B7F-44E6-BBE4-6F6853E3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2DB7-1AD6-458B-8FFA-1E9EAC248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538CE-3118-45AD-BE38-5FC75CAC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71139-C17A-4BF3-8993-5A9449CE5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F92C0-40D9-4AD0-B79C-8A2A83D6E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D3DC2C-D0CB-49D2-9F7D-8C8B5766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E8AE53-E905-4285-9F74-705232A9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5C4196-20DA-4669-A8FF-3F091183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DCA71D-1535-49C7-B9E4-3B030803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5ACB89-0A2A-43E1-A0DD-D7A7468B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AC14A2-18F0-468A-B39C-9B7720FC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ACADBE-4459-4019-A43A-C581B12D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F7FD-6C59-4626-8993-2CE98B42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E371BC-A94B-4846-B4A6-8FA3AB3F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D644D6-1C1C-4CC4-AA2F-34535081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74E6DB-3466-4423-A9B6-05511A45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A366AC-18DA-41D9-87DF-2AF05C8A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4F0F95-0DED-444D-BC7C-52E72397B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0EA382-EA0F-42D5-BA94-81703B326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17E852-24E3-41BC-BAED-2B69E6C4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733CB7-917F-4BDE-B18E-37D04F96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E4F639-55FB-44D5-BAB4-36DE91E4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DB85F4-8D30-4AA8-80F3-78887D6F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E5B6-97B5-48FC-B9D1-E68D5395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55384C-3757-454C-A6E5-26E857EC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BBED5D-DEEC-4324-927D-57C6AE7D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7A40F3-D094-4912-BAAD-61AD56A1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EFFFC7-CC56-4C29-9644-D0A47F30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87F822-AC04-4D7D-92F4-C9F0000A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D8DD4D-B437-4011-BF25-DE5B85D3F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DF0178-8F4C-47FE-9114-1BE5D63B0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1A82-AF96-4E30-A879-59059DE8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66C3-366B-4E64-A43B-4502B3A6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0F30-96A6-49C9-A6EE-AA1335EB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5ACC-90F1-474B-9169-46DAF4B3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4C6C-2789-43B6-AE39-A15A6537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1470-A42B-4D68-A651-99350CAF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9999-4660-459A-B2ED-AD00600D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3180-C271-46E0-A7F6-D478011F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13D2-7772-4A7D-9134-B50C0446C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07C4-D6EA-483B-8A8C-AE9A46E55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5A679-9711-47DD-9569-74DB68B54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4CB4D-A934-4783-9DDA-DDF2F61D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E9588-C82C-482D-8EDD-B9722563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2A743-0188-4A30-95DB-3109243E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582DF-3E84-4E09-9AB4-8D5ADCCD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D8E1-C3F1-489B-BFA6-FB4EBDC0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78B5E-2BA3-4602-BCFA-502E384B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C066E-B1EA-407F-ABC3-46BFE8A4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A4259-82D2-4271-90A1-DD7CAD85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2CE27-D747-4886-974F-5D22FB36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1F1FF-6822-4A1D-98A3-DD4308B6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D1DB0-374F-49E3-A455-BF977ED17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E80D8-7044-4D2A-AC0C-DDFE211B3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5D4D1-79F9-4E2B-A9C7-CBB8BC0BD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CC8F2-551C-4447-B11B-9028BD7D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DDE01-C277-426E-8D26-396D1F32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258E-2D0A-4594-A4C6-860E8101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8A934-2E1E-4112-9467-1BFAD347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3E524-AF9E-4DAA-A28F-A5120A9A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C121B-8F98-4FD9-B867-C7F7668E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520AF-8125-4FF5-A10C-B15FD5DF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D9A2F-65BD-4403-B8E4-518D2945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C3D94-60B1-44FD-A865-CD2E151F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8208D-79B1-49F9-A440-76F15326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02241-B5DE-4E68-97E4-546BD5F6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DC0E7-2277-4D26-BD19-25E09A27F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FE374-634D-44BC-9BD3-5A2685DD4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3ED9-8087-4A66-B11B-9FB1A3BD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712E8-7E37-4BD3-97E2-8A83851A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43809-3958-4A98-9456-049C78D0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A411F-B99E-43D2-A915-2E6BB567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86AA4-787A-4E2A-9972-CEEE8B07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D2DA4-3794-4DF4-B726-D6ADEAD7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E0AF4-EDF5-4E36-A584-4255395A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6CE98-8D25-4F37-A634-C642BA76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9C2BE-0AD2-44FA-85FF-06DEDF7C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461BB-9670-4608-BE3A-AD13C837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57BF4-2A60-496F-93E3-0D81231D7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045B-3C8C-41DA-8F74-6F2636EE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12370-A71B-438E-94BD-EFC894777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DA327-0341-4327-B23F-7357DB1B5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DAF66-6A7D-4E42-B1FB-1B67DBC5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4A3A6-3DA6-4993-98F8-715B07D8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10517-10B1-4B7B-BC03-4001B021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1A7C3-13CB-469D-B300-710990C1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3B213-CFB9-4E8A-9248-18042F44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3B862-712D-42D3-B083-A0CAB2E3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9EE27-5B79-4677-B329-7039F0B6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D9B98-A3FD-418F-9F81-302B93FE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BF36-8B04-42EB-9A48-BA0D082E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D3C57-7662-4421-B4EC-A92DF35E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2A243-388A-44F9-9CE9-3C4E5970E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67EEE-71F9-45F3-ACB7-731F66526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050E4-F14D-4543-B7BF-104D298A2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53711-36BA-47A4-B1C1-82E759C3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625EB-427F-44BD-B6A0-20160270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75FDC-3DE6-448D-BD9A-082ECD75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BDB3C-CD06-4EBE-9D6E-3F005836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C1D80-32D2-4353-A2FB-59EAB50B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C7E1E-12E7-4C5D-BB7E-50F18D84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6E2A-5B53-4E29-AE7A-EC99BF4F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5040F-4FE2-4A69-8C78-94C9FC07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4B2C2-7FA2-4BBF-8DA0-5949B5BD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EEB2E-E41C-4170-8075-D1EA8351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03A0A-7CC5-446A-801E-E3FFD84B1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7302F-5601-48EE-AF41-2BD1424F9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189B2-5C5A-4DD4-9531-2E5DB9E93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D5A27-85FD-4022-9449-18D74E42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04A5C-0CF1-47DD-8BBB-A7DC095C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BDBEB-7587-4591-90FA-BE3F9D3F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F0377-7A0E-4F52-BF02-8CD2CC7A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31EC-8662-4915-8010-0BDF4192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85AC8-C612-4775-BA09-0E1DC9B7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029AB-0D83-4914-906C-EB27C055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E549A-29E5-4D9E-BABF-783F0F77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0C3E8-011E-4E76-8D72-FF1B9714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AB62E-4BEC-417A-BDFF-B23A92D3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0B241-E2EA-4DBF-A737-967BD3F29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4BF80-1021-466F-B67C-483A62E99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C04779-0B41-40BB-9EEB-BC43027FE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EBB1C-FAFA-467E-B298-55A1207B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36F2F-10FD-4FCF-9D83-D6E49526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60E3-B51C-4587-AB82-8632699FFF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8AB9-50A9-4F5F-AA50-A53A688D86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63FD-A479-41C0-955B-BB05B001AF6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6C93-3880-480B-85B8-4596EDECDE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8769-FDBC-4D81-B451-5F8201664B2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7B0D-2AC6-4C0F-BF66-09B0DC872C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9800-47E5-4865-9539-E04070C7A15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666D-5AFD-4BEB-8833-16C2EE7188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FBDD-ED47-4FAF-BE5E-AEB328EE7BB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E3BA-2828-4778-BA24-0676ECF504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B879-6213-4FD8-83FA-1A323D73B43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8C79-4A37-474F-BF77-6AE3696AA1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39C1-7E10-4D43-B022-A62B15A7AD3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C0F5-F463-4D01-AAF1-7D1E9FC011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E3C7-1961-4660-97D6-52D8998FD24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27CD-3F79-4D9F-986E-997E67E9FA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F35F-95CB-47E5-994A-AEA08A51E5A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20BB-F68E-49C4-9026-7002D5E5E3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55C3-1C1C-4F53-90A2-50944947D8E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CC93-F29C-4689-9717-829A828764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43BF-24C6-458A-BA53-A1AD694A220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8E9E-1570-4DB7-A6EF-4A56DDE2F9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180E-EFA1-498C-B87B-30C5681C040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A081-C88F-40D7-A0CB-77D3DC3C23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B859-B0A2-4203-A00E-7C8121CFB7B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A329-674C-43D6-84DD-280E0D211F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4.png"/><Relationship Id="rId10" Type="http://schemas.openxmlformats.org/officeDocument/2006/relationships/image" Target="../media/image22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25.png"/><Relationship Id="rId16" Type="http://schemas.openxmlformats.org/officeDocument/2006/relationships/image" Target="../media/image31.png"/><Relationship Id="rId17" Type="http://schemas.openxmlformats.org/officeDocument/2006/relationships/image" Target="../media/image32.png"/><Relationship Id="rId18" Type="http://schemas.openxmlformats.org/officeDocument/2006/relationships/image" Target="../media/image26.png"/><Relationship Id="rId19" Type="http://schemas.openxmlformats.org/officeDocument/2006/relationships/image" Target="../media/image33.pn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png"/><Relationship Id="rId23" Type="http://schemas.openxmlformats.org/officeDocument/2006/relationships/image" Target="../media/image37.png"/><Relationship Id="rId2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42d"/>
                </a:solidFill>
                <a:latin typeface="Calibri"/>
              </a:rPr>
              <a:t>GEF Project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ubtitle 4"/>
          <p:cNvSpPr/>
          <p:nvPr/>
        </p:nvSpPr>
        <p:spPr>
          <a:xfrm>
            <a:off x="1295280" y="3809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11 – 13 October 20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Tashkent, Uzbekist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595" name="TextBox 6"/>
          <p:cNvSpPr/>
          <p:nvPr/>
        </p:nvSpPr>
        <p:spPr>
          <a:xfrm>
            <a:off x="1371600" y="76212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</a:rPr>
              <a:t>Expedited Enabling Activit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6" name="Group 3" descr=""/>
          <p:cNvPicPr/>
          <p:nvPr/>
        </p:nvPicPr>
        <p:blipFill>
          <a:blip r:embed="rId2"/>
          <a:stretch/>
        </p:blipFill>
        <p:spPr>
          <a:xfrm>
            <a:off x="1695600" y="1407960"/>
            <a:ext cx="2395440" cy="871560"/>
          </a:xfrm>
          <a:prstGeom prst="rect">
            <a:avLst/>
          </a:prstGeom>
          <a:ln w="0">
            <a:noFill/>
          </a:ln>
        </p:spPr>
      </p:pic>
      <p:grpSp>
        <p:nvGrpSpPr>
          <p:cNvPr id="597" name="Rounded Rectangle 4"/>
          <p:cNvGrpSpPr/>
          <p:nvPr/>
        </p:nvGrpSpPr>
        <p:grpSpPr>
          <a:xfrm>
            <a:off x="1762200" y="4170240"/>
            <a:ext cx="2401920" cy="749520"/>
            <a:chOff x="1762200" y="4170240"/>
            <a:chExt cx="2401920" cy="749520"/>
          </a:xfrm>
        </p:grpSpPr>
        <p:pic>
          <p:nvPicPr>
            <p:cNvPr id="598" name="Rounded Rectangle 4" descr=""/>
            <p:cNvPicPr/>
            <p:nvPr/>
          </p:nvPicPr>
          <p:blipFill>
            <a:blip r:embed="rId3"/>
            <a:stretch/>
          </p:blipFill>
          <p:spPr>
            <a:xfrm>
              <a:off x="1762200" y="4170240"/>
              <a:ext cx="240192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1828800" y="4191120"/>
              <a:ext cx="2243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rant Agreement signed between Government and GEF CEO**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00" name="Rounded Rectangle 4"/>
          <p:cNvGrpSpPr/>
          <p:nvPr/>
        </p:nvGrpSpPr>
        <p:grpSpPr>
          <a:xfrm>
            <a:off x="1689120" y="5315040"/>
            <a:ext cx="2370240" cy="853920"/>
            <a:chOff x="1689120" y="5315040"/>
            <a:chExt cx="2370240" cy="853920"/>
          </a:xfrm>
        </p:grpSpPr>
        <p:pic>
          <p:nvPicPr>
            <p:cNvPr id="601" name="Rounded Rectangle 4" descr=""/>
            <p:cNvPicPr/>
            <p:nvPr/>
          </p:nvPicPr>
          <p:blipFill>
            <a:blip r:embed="rId4"/>
            <a:stretch/>
          </p:blipFill>
          <p:spPr>
            <a:xfrm>
              <a:off x="1689120" y="5315040"/>
              <a:ext cx="237024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1752480" y="5334120"/>
              <a:ext cx="224316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tional Agency completes implementation of EA and submits Report to Conventi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03" name="Rounded Rectangle 4"/>
          <p:cNvGrpSpPr/>
          <p:nvPr/>
        </p:nvGrpSpPr>
        <p:grpSpPr>
          <a:xfrm>
            <a:off x="4505400" y="5315040"/>
            <a:ext cx="2475000" cy="896760"/>
            <a:chOff x="4505400" y="5315040"/>
            <a:chExt cx="2475000" cy="896760"/>
          </a:xfrm>
        </p:grpSpPr>
        <p:pic>
          <p:nvPicPr>
            <p:cNvPr id="604" name="Rounded Rectangle 4" descr=""/>
            <p:cNvPicPr/>
            <p:nvPr/>
          </p:nvPicPr>
          <p:blipFill>
            <a:blip r:embed="rId5"/>
            <a:stretch/>
          </p:blipFill>
          <p:spPr>
            <a:xfrm>
              <a:off x="4505400" y="5315040"/>
              <a:ext cx="247500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4572000" y="5334120"/>
              <a:ext cx="23194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F Agency completes implementation of EA and country submits Reports to Conventi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06" name="Rounded Rectangle 4"/>
          <p:cNvGrpSpPr/>
          <p:nvPr/>
        </p:nvGrpSpPr>
        <p:grpSpPr>
          <a:xfrm>
            <a:off x="4505400" y="4095720"/>
            <a:ext cx="2449440" cy="854280"/>
            <a:chOff x="4505400" y="4095720"/>
            <a:chExt cx="2449440" cy="854280"/>
          </a:xfrm>
        </p:grpSpPr>
        <p:pic>
          <p:nvPicPr>
            <p:cNvPr id="607" name="Rounded Rectangle 4" descr=""/>
            <p:cNvPicPr/>
            <p:nvPr/>
          </p:nvPicPr>
          <p:blipFill>
            <a:blip r:embed="rId6"/>
            <a:stretch/>
          </p:blipFill>
          <p:spPr>
            <a:xfrm>
              <a:off x="4505400" y="4095720"/>
              <a:ext cx="244944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>
              <a:off x="4572000" y="4114800"/>
              <a:ext cx="23194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F Agency approves EA following CEO approval***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09" name="Rounded Rectangle 4"/>
          <p:cNvGrpSpPr/>
          <p:nvPr/>
        </p:nvGrpSpPr>
        <p:grpSpPr>
          <a:xfrm>
            <a:off x="4505400" y="3181320"/>
            <a:ext cx="2455920" cy="622440"/>
            <a:chOff x="4505400" y="3181320"/>
            <a:chExt cx="2455920" cy="622440"/>
          </a:xfrm>
        </p:grpSpPr>
        <p:pic>
          <p:nvPicPr>
            <p:cNvPr id="610" name="Rounded Rectangle 4" descr=""/>
            <p:cNvPicPr/>
            <p:nvPr/>
          </p:nvPicPr>
          <p:blipFill>
            <a:blip r:embed="rId7"/>
            <a:stretch/>
          </p:blipFill>
          <p:spPr>
            <a:xfrm>
              <a:off x="4505400" y="3181320"/>
              <a:ext cx="245592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4572000" y="3200400"/>
              <a:ext cx="231948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F Agency submits proposal for CEO approval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2" name="Rounded Rectangle 4"/>
          <p:cNvGrpSpPr/>
          <p:nvPr/>
        </p:nvGrpSpPr>
        <p:grpSpPr>
          <a:xfrm>
            <a:off x="4505400" y="2193840"/>
            <a:ext cx="2449440" cy="622440"/>
            <a:chOff x="4505400" y="2193840"/>
            <a:chExt cx="2449440" cy="622440"/>
          </a:xfrm>
        </p:grpSpPr>
        <p:pic>
          <p:nvPicPr>
            <p:cNvPr id="613" name="Rounded Rectangle 4" descr=""/>
            <p:cNvPicPr/>
            <p:nvPr/>
          </p:nvPicPr>
          <p:blipFill>
            <a:blip r:embed="rId8"/>
            <a:stretch/>
          </p:blipFill>
          <p:spPr>
            <a:xfrm>
              <a:off x="4505400" y="2193840"/>
              <a:ext cx="244944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>
              <a:off x="4572000" y="2209680"/>
              <a:ext cx="231948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tional Agency submits EA proposal to GEF Agency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15" name="Group 28" descr=""/>
          <p:cNvPicPr/>
          <p:nvPr/>
        </p:nvPicPr>
        <p:blipFill>
          <a:blip r:embed="rId9"/>
          <a:stretch/>
        </p:blipFill>
        <p:spPr>
          <a:xfrm>
            <a:off x="4511520" y="1407960"/>
            <a:ext cx="2401920" cy="798840"/>
          </a:xfrm>
          <a:prstGeom prst="rect">
            <a:avLst/>
          </a:prstGeom>
          <a:ln w="0">
            <a:noFill/>
          </a:ln>
        </p:spPr>
      </p:pic>
      <p:pic>
        <p:nvPicPr>
          <p:cNvPr id="616" name="Group 48" descr=""/>
          <p:cNvPicPr/>
          <p:nvPr/>
        </p:nvPicPr>
        <p:blipFill>
          <a:blip r:embed="rId10"/>
          <a:stretch/>
        </p:blipFill>
        <p:spPr>
          <a:xfrm>
            <a:off x="2682720" y="4925880"/>
            <a:ext cx="425520" cy="444600"/>
          </a:xfrm>
          <a:prstGeom prst="rect">
            <a:avLst/>
          </a:prstGeom>
          <a:ln w="0">
            <a:noFill/>
          </a:ln>
        </p:spPr>
      </p:pic>
      <p:pic>
        <p:nvPicPr>
          <p:cNvPr id="617" name="Group 51" descr=""/>
          <p:cNvPicPr/>
          <p:nvPr/>
        </p:nvPicPr>
        <p:blipFill>
          <a:blip r:embed="rId11"/>
          <a:stretch/>
        </p:blipFill>
        <p:spPr>
          <a:xfrm>
            <a:off x="2682720" y="3322800"/>
            <a:ext cx="505080" cy="596880"/>
          </a:xfrm>
          <a:prstGeom prst="rect">
            <a:avLst/>
          </a:prstGeom>
          <a:ln w="0">
            <a:noFill/>
          </a:ln>
        </p:spPr>
      </p:pic>
      <p:sp>
        <p:nvSpPr>
          <p:cNvPr id="618" name="TextBox 54"/>
          <p:cNvSpPr/>
          <p:nvPr/>
        </p:nvSpPr>
        <p:spPr>
          <a:xfrm>
            <a:off x="1219320" y="6172200"/>
            <a:ext cx="620064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F Secretariat will follow the World Bank procedures in approving the  proposal with final target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sending a Grant Agreement to the recipient country and to be signed between CEO and the country.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9" name="Group 58" descr=""/>
          <p:cNvPicPr/>
          <p:nvPr/>
        </p:nvPicPr>
        <p:blipFill>
          <a:blip r:embed="rId12"/>
          <a:stretch/>
        </p:blipFill>
        <p:spPr>
          <a:xfrm>
            <a:off x="5505480" y="4925880"/>
            <a:ext cx="450720" cy="414360"/>
          </a:xfrm>
          <a:prstGeom prst="rect">
            <a:avLst/>
          </a:prstGeom>
          <a:ln w="0">
            <a:noFill/>
          </a:ln>
        </p:spPr>
      </p:pic>
      <p:pic>
        <p:nvPicPr>
          <p:cNvPr id="620" name="Group 61" descr=""/>
          <p:cNvPicPr/>
          <p:nvPr/>
        </p:nvPicPr>
        <p:blipFill>
          <a:blip r:embed="rId13"/>
          <a:stretch/>
        </p:blipFill>
        <p:spPr>
          <a:xfrm>
            <a:off x="5425920" y="3706920"/>
            <a:ext cx="505080" cy="444240"/>
          </a:xfrm>
          <a:prstGeom prst="rect">
            <a:avLst/>
          </a:prstGeom>
          <a:ln w="0">
            <a:noFill/>
          </a:ln>
        </p:spPr>
      </p:pic>
      <p:pic>
        <p:nvPicPr>
          <p:cNvPr id="621" name="Group 64" descr=""/>
          <p:cNvPicPr/>
          <p:nvPr/>
        </p:nvPicPr>
        <p:blipFill>
          <a:blip r:embed="rId14"/>
          <a:stretch/>
        </p:blipFill>
        <p:spPr>
          <a:xfrm>
            <a:off x="5425920" y="2712960"/>
            <a:ext cx="505080" cy="523800"/>
          </a:xfrm>
          <a:prstGeom prst="rect">
            <a:avLst/>
          </a:prstGeom>
          <a:ln w="0">
            <a:noFill/>
          </a:ln>
        </p:spPr>
      </p:pic>
      <p:grpSp>
        <p:nvGrpSpPr>
          <p:cNvPr id="622" name="Rounded Rectangle 4"/>
          <p:cNvGrpSpPr/>
          <p:nvPr/>
        </p:nvGrpSpPr>
        <p:grpSpPr>
          <a:xfrm>
            <a:off x="1689120" y="2346480"/>
            <a:ext cx="2444760" cy="817560"/>
            <a:chOff x="1689120" y="2346480"/>
            <a:chExt cx="2444760" cy="817560"/>
          </a:xfrm>
        </p:grpSpPr>
        <p:pic>
          <p:nvPicPr>
            <p:cNvPr id="623" name="Rounded Rectangle 4" descr=""/>
            <p:cNvPicPr/>
            <p:nvPr/>
          </p:nvPicPr>
          <p:blipFill>
            <a:blip r:embed="rId15"/>
            <a:stretch/>
          </p:blipFill>
          <p:spPr>
            <a:xfrm>
              <a:off x="1689120" y="2346480"/>
              <a:ext cx="24447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1752480" y="2362320"/>
              <a:ext cx="2319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tional Agency submits EA proposal for CEO approval*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Review Criteria for FSP/MS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914040" y="2057400"/>
            <a:ext cx="7010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untry eligibility and ownershi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lobal Environment Benefi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EF Focal area strateg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gency’s Comparative advant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source availa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ject consisten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ject desig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ject financing and co-financing (baselin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nitoring and evaluation;  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gency’s responses to comments and review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Country Endorsement</a:t>
            </a:r>
            <a:br>
              <a:rPr sz="3600"/>
            </a:br>
            <a:r>
              <a:rPr b="0" lang="en-US" sz="3200" spc="-1" strike="noStrike">
                <a:solidFill>
                  <a:srgbClr val="558ed5"/>
                </a:solidFill>
                <a:latin typeface="Calibri"/>
                <a:ea typeface="Arial"/>
              </a:rPr>
              <a:t>(by Country National Operational Focal  Poi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57200" y="2468160"/>
            <a:ext cx="8229600" cy="30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 PIFs should have OFP endorsement when submitting to GEF for clearance (in case of FSPs) or approval (in case of MSPs requesting a PP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jects in biodiversity, climate change, and land degradation focal areas follow STAR ru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914040" y="20570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stand-alone projects, a 10% fee based on the GEF amount for the project (project grant + PPG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gency fees for Programmatic Approaches vary depending on the type of Agency submitting the P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102384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encies with Board approving projects:  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2384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encies without Board approving projects:  9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case of project cancellation, all unused fees or a specific percentage should be returned to GEF Trust Fund.*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*  Reference to Council paper, “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Proposal for Revising the Fee Syste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” (GEF/C.23/8/Rev.1)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for fee return guidelin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14400" y="11430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7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Agency Fe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Programmatic Approach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533160" y="2133720"/>
            <a:ext cx="792468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Two Types of programmatic approaches, depending on the type of GEF Agency submitting the program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ies with Board approving projects - those GEF Agencies meeting the criteria for delegated approval authority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ies without Board approving projects - those GEF Agencies not meeting the criteria, such programs can be submitted by a Program Coordination Agency (PC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638" name="Group 3" descr=""/>
          <p:cNvPicPr/>
          <p:nvPr/>
        </p:nvPicPr>
        <p:blipFill>
          <a:blip r:embed="rId2"/>
          <a:stretch/>
        </p:blipFill>
        <p:spPr>
          <a:xfrm>
            <a:off x="853920" y="950760"/>
            <a:ext cx="2475000" cy="646200"/>
          </a:xfrm>
          <a:prstGeom prst="rect">
            <a:avLst/>
          </a:prstGeom>
          <a:ln w="0">
            <a:noFill/>
          </a:ln>
        </p:spPr>
      </p:pic>
      <p:grpSp>
        <p:nvGrpSpPr>
          <p:cNvPr id="639" name="Rounded Rectangle 4"/>
          <p:cNvGrpSpPr/>
          <p:nvPr/>
        </p:nvGrpSpPr>
        <p:grpSpPr>
          <a:xfrm>
            <a:off x="927000" y="3255840"/>
            <a:ext cx="2444760" cy="669960"/>
            <a:chOff x="927000" y="3255840"/>
            <a:chExt cx="2444760" cy="669960"/>
          </a:xfrm>
        </p:grpSpPr>
        <p:pic>
          <p:nvPicPr>
            <p:cNvPr id="640" name="Rounded Rectangle 4" descr=""/>
            <p:cNvPicPr/>
            <p:nvPr/>
          </p:nvPicPr>
          <p:blipFill>
            <a:blip r:embed="rId3"/>
            <a:stretch/>
          </p:blipFill>
          <p:spPr>
            <a:xfrm>
              <a:off x="927000" y="3255840"/>
              <a:ext cx="24447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/>
            <p:nvPr/>
          </p:nvSpPr>
          <p:spPr>
            <a:xfrm>
              <a:off x="990720" y="3276720"/>
              <a:ext cx="2319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approves individual PIFs under the program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42" name="Group 28" descr=""/>
          <p:cNvPicPr/>
          <p:nvPr/>
        </p:nvPicPr>
        <p:blipFill>
          <a:blip r:embed="rId4"/>
          <a:stretch/>
        </p:blipFill>
        <p:spPr>
          <a:xfrm>
            <a:off x="5048280" y="950760"/>
            <a:ext cx="2475000" cy="646200"/>
          </a:xfrm>
          <a:prstGeom prst="rect">
            <a:avLst/>
          </a:prstGeom>
          <a:ln w="0">
            <a:noFill/>
          </a:ln>
        </p:spPr>
      </p:pic>
      <p:pic>
        <p:nvPicPr>
          <p:cNvPr id="643" name="Group 48" descr=""/>
          <p:cNvPicPr/>
          <p:nvPr/>
        </p:nvPicPr>
        <p:blipFill>
          <a:blip r:embed="rId5"/>
          <a:stretch/>
        </p:blipFill>
        <p:spPr>
          <a:xfrm>
            <a:off x="1920960" y="3852720"/>
            <a:ext cx="450720" cy="420840"/>
          </a:xfrm>
          <a:prstGeom prst="rect">
            <a:avLst/>
          </a:prstGeom>
          <a:ln w="0">
            <a:noFill/>
          </a:ln>
        </p:spPr>
      </p:pic>
      <p:pic>
        <p:nvPicPr>
          <p:cNvPr id="644" name="Group 51" descr=""/>
          <p:cNvPicPr/>
          <p:nvPr/>
        </p:nvPicPr>
        <p:blipFill>
          <a:blip r:embed="rId6"/>
          <a:stretch/>
        </p:blipFill>
        <p:spPr>
          <a:xfrm>
            <a:off x="1920960" y="1566720"/>
            <a:ext cx="450720" cy="420840"/>
          </a:xfrm>
          <a:prstGeom prst="rect">
            <a:avLst/>
          </a:prstGeom>
          <a:ln w="0">
            <a:noFill/>
          </a:ln>
        </p:spPr>
      </p:pic>
      <p:pic>
        <p:nvPicPr>
          <p:cNvPr id="645" name="Group 58" descr=""/>
          <p:cNvPicPr/>
          <p:nvPr/>
        </p:nvPicPr>
        <p:blipFill>
          <a:blip r:embed="rId7"/>
          <a:stretch/>
        </p:blipFill>
        <p:spPr>
          <a:xfrm>
            <a:off x="1920960" y="4767120"/>
            <a:ext cx="450720" cy="420840"/>
          </a:xfrm>
          <a:prstGeom prst="rect">
            <a:avLst/>
          </a:prstGeom>
          <a:ln w="0">
            <a:noFill/>
          </a:ln>
        </p:spPr>
      </p:pic>
      <p:pic>
        <p:nvPicPr>
          <p:cNvPr id="646" name="Group 64" descr=""/>
          <p:cNvPicPr/>
          <p:nvPr/>
        </p:nvPicPr>
        <p:blipFill>
          <a:blip r:embed="rId8"/>
          <a:stretch/>
        </p:blipFill>
        <p:spPr>
          <a:xfrm>
            <a:off x="6035760" y="1573200"/>
            <a:ext cx="450720" cy="414360"/>
          </a:xfrm>
          <a:prstGeom prst="rect">
            <a:avLst/>
          </a:prstGeom>
          <a:ln w="0">
            <a:noFill/>
          </a:ln>
        </p:spPr>
      </p:pic>
      <p:pic>
        <p:nvPicPr>
          <p:cNvPr id="647" name="Group 48" descr=""/>
          <p:cNvPicPr/>
          <p:nvPr/>
        </p:nvPicPr>
        <p:blipFill>
          <a:blip r:embed="rId9"/>
          <a:stretch/>
        </p:blipFill>
        <p:spPr>
          <a:xfrm>
            <a:off x="1920960" y="2938320"/>
            <a:ext cx="450720" cy="420840"/>
          </a:xfrm>
          <a:prstGeom prst="rect">
            <a:avLst/>
          </a:prstGeom>
          <a:ln w="0">
            <a:noFill/>
          </a:ln>
        </p:spPr>
      </p:pic>
      <p:grpSp>
        <p:nvGrpSpPr>
          <p:cNvPr id="648" name="Rounded Rectangle 4"/>
          <p:cNvGrpSpPr/>
          <p:nvPr/>
        </p:nvGrpSpPr>
        <p:grpSpPr>
          <a:xfrm>
            <a:off x="927000" y="4170240"/>
            <a:ext cx="2444760" cy="669960"/>
            <a:chOff x="927000" y="4170240"/>
            <a:chExt cx="2444760" cy="669960"/>
          </a:xfrm>
        </p:grpSpPr>
        <p:pic>
          <p:nvPicPr>
            <p:cNvPr id="649" name="Rounded Rectangle 4" descr=""/>
            <p:cNvPicPr/>
            <p:nvPr/>
          </p:nvPicPr>
          <p:blipFill>
            <a:blip r:embed="rId10"/>
            <a:stretch/>
          </p:blipFill>
          <p:spPr>
            <a:xfrm>
              <a:off x="927000" y="4170240"/>
              <a:ext cx="24447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"/>
            <p:cNvSpPr/>
            <p:nvPr/>
          </p:nvSpPr>
          <p:spPr>
            <a:xfrm>
              <a:off x="990720" y="4191120"/>
              <a:ext cx="2319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EO endorses final projec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ocumen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51" name="Rounded Rectangle 4"/>
          <p:cNvGrpSpPr/>
          <p:nvPr/>
        </p:nvGrpSpPr>
        <p:grpSpPr>
          <a:xfrm>
            <a:off x="914400" y="4998960"/>
            <a:ext cx="2517840" cy="779400"/>
            <a:chOff x="914400" y="4998960"/>
            <a:chExt cx="2517840" cy="779400"/>
          </a:xfrm>
        </p:grpSpPr>
        <p:pic>
          <p:nvPicPr>
            <p:cNvPr id="652" name="Rounded Rectangle 4" descr=""/>
            <p:cNvPicPr/>
            <p:nvPr/>
          </p:nvPicPr>
          <p:blipFill>
            <a:blip r:embed="rId11"/>
            <a:stretch/>
          </p:blipFill>
          <p:spPr>
            <a:xfrm>
              <a:off x="914400" y="4998960"/>
              <a:ext cx="251784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"/>
            <p:cNvSpPr/>
            <p:nvPr/>
          </p:nvSpPr>
          <p:spPr>
            <a:xfrm>
              <a:off x="990720" y="5105520"/>
              <a:ext cx="2319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approves final project according to Agency internal rul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54" name="Rounded Rectangle 4"/>
          <p:cNvGrpSpPr/>
          <p:nvPr/>
        </p:nvGrpSpPr>
        <p:grpSpPr>
          <a:xfrm>
            <a:off x="927000" y="5986440"/>
            <a:ext cx="2444760" cy="779400"/>
            <a:chOff x="927000" y="5986440"/>
            <a:chExt cx="2444760" cy="779400"/>
          </a:xfrm>
        </p:grpSpPr>
        <p:pic>
          <p:nvPicPr>
            <p:cNvPr id="655" name="Rounded Rectangle 4" descr=""/>
            <p:cNvPicPr/>
            <p:nvPr/>
          </p:nvPicPr>
          <p:blipFill>
            <a:blip r:embed="rId12"/>
            <a:stretch/>
          </p:blipFill>
          <p:spPr>
            <a:xfrm>
              <a:off x="927000" y="5986440"/>
              <a:ext cx="244476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/>
            <p:cNvSpPr/>
            <p:nvPr/>
          </p:nvSpPr>
          <p:spPr>
            <a:xfrm>
              <a:off x="990720" y="6095880"/>
              <a:ext cx="2319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starts project implementation through comple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57" name="Rounded Rectangle 4"/>
          <p:cNvGrpSpPr/>
          <p:nvPr/>
        </p:nvGrpSpPr>
        <p:grpSpPr>
          <a:xfrm>
            <a:off x="3657600" y="2189160"/>
            <a:ext cx="2505240" cy="1352520"/>
            <a:chOff x="3657600" y="2189160"/>
            <a:chExt cx="2505240" cy="1352520"/>
          </a:xfrm>
        </p:grpSpPr>
        <p:pic>
          <p:nvPicPr>
            <p:cNvPr id="658" name="Rounded Rectangle 4" descr=""/>
            <p:cNvPicPr/>
            <p:nvPr/>
          </p:nvPicPr>
          <p:blipFill>
            <a:blip r:embed="rId13"/>
            <a:stretch/>
          </p:blipFill>
          <p:spPr>
            <a:xfrm>
              <a:off x="3657600" y="2189160"/>
              <a:ext cx="250524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3733920" y="2209680"/>
              <a:ext cx="23191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ouncil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endorse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Program Framework Document (PFD) through WP submission and approves PIFs submitted with PFD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60" name="Rounded Rectangle 4"/>
          <p:cNvGrpSpPr/>
          <p:nvPr/>
        </p:nvGrpSpPr>
        <p:grpSpPr>
          <a:xfrm>
            <a:off x="927000" y="1884240"/>
            <a:ext cx="2449440" cy="1127160"/>
            <a:chOff x="927000" y="1884240"/>
            <a:chExt cx="2449440" cy="1127160"/>
          </a:xfrm>
        </p:grpSpPr>
        <p:pic>
          <p:nvPicPr>
            <p:cNvPr id="661" name="Rounded Rectangle 4" descr=""/>
            <p:cNvPicPr/>
            <p:nvPr/>
          </p:nvPicPr>
          <p:blipFill>
            <a:blip r:embed="rId14"/>
            <a:stretch/>
          </p:blipFill>
          <p:spPr>
            <a:xfrm>
              <a:off x="927000" y="1884240"/>
              <a:ext cx="244944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"/>
            <p:cNvSpPr/>
            <p:nvPr/>
          </p:nvSpPr>
          <p:spPr>
            <a:xfrm>
              <a:off x="990720" y="1905120"/>
              <a:ext cx="231912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ouncil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approve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Program Framework Document (PFD) through WP Submiss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63" name="Group 58" descr=""/>
          <p:cNvPicPr/>
          <p:nvPr/>
        </p:nvPicPr>
        <p:blipFill>
          <a:blip r:embed="rId15"/>
          <a:stretch/>
        </p:blipFill>
        <p:spPr>
          <a:xfrm>
            <a:off x="1920960" y="5681520"/>
            <a:ext cx="450720" cy="420840"/>
          </a:xfrm>
          <a:prstGeom prst="rect">
            <a:avLst/>
          </a:prstGeom>
          <a:ln w="0">
            <a:noFill/>
          </a:ln>
        </p:spPr>
      </p:pic>
      <p:grpSp>
        <p:nvGrpSpPr>
          <p:cNvPr id="664" name="Rounded Rectangle 4"/>
          <p:cNvGrpSpPr/>
          <p:nvPr/>
        </p:nvGrpSpPr>
        <p:grpSpPr>
          <a:xfrm>
            <a:off x="6413400" y="2266920"/>
            <a:ext cx="2498760" cy="1281240"/>
            <a:chOff x="6413400" y="2266920"/>
            <a:chExt cx="2498760" cy="1281240"/>
          </a:xfrm>
        </p:grpSpPr>
        <p:pic>
          <p:nvPicPr>
            <p:cNvPr id="665" name="Rounded Rectangle 4" descr=""/>
            <p:cNvPicPr/>
            <p:nvPr/>
          </p:nvPicPr>
          <p:blipFill>
            <a:blip r:embed="rId16"/>
            <a:stretch/>
          </p:blipFill>
          <p:spPr>
            <a:xfrm>
              <a:off x="6413400" y="2266920"/>
              <a:ext cx="249876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"/>
            <p:cNvSpPr/>
            <p:nvPr/>
          </p:nvSpPr>
          <p:spPr>
            <a:xfrm>
              <a:off x="6477120" y="2286000"/>
              <a:ext cx="2319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ouncil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approve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subsequent set of PIFs under the PFD submitted through WP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67" name="Group 48" descr=""/>
          <p:cNvPicPr/>
          <p:nvPr/>
        </p:nvPicPr>
        <p:blipFill>
          <a:blip r:embed="rId17"/>
          <a:stretch/>
        </p:blipFill>
        <p:spPr>
          <a:xfrm>
            <a:off x="5353200" y="3554280"/>
            <a:ext cx="450720" cy="414360"/>
          </a:xfrm>
          <a:prstGeom prst="rect">
            <a:avLst/>
          </a:prstGeom>
          <a:ln w="0">
            <a:noFill/>
          </a:ln>
        </p:spPr>
      </p:pic>
      <p:pic>
        <p:nvPicPr>
          <p:cNvPr id="668" name="Group 58" descr=""/>
          <p:cNvPicPr/>
          <p:nvPr/>
        </p:nvPicPr>
        <p:blipFill>
          <a:blip r:embed="rId18"/>
          <a:stretch/>
        </p:blipFill>
        <p:spPr>
          <a:xfrm>
            <a:off x="6035760" y="4621320"/>
            <a:ext cx="450720" cy="414360"/>
          </a:xfrm>
          <a:prstGeom prst="rect">
            <a:avLst/>
          </a:prstGeom>
          <a:ln w="0">
            <a:noFill/>
          </a:ln>
        </p:spPr>
      </p:pic>
      <p:grpSp>
        <p:nvGrpSpPr>
          <p:cNvPr id="669" name="Rounded Rectangle 4"/>
          <p:cNvGrpSpPr/>
          <p:nvPr/>
        </p:nvGrpSpPr>
        <p:grpSpPr>
          <a:xfrm>
            <a:off x="5041800" y="4095720"/>
            <a:ext cx="2444760" cy="665280"/>
            <a:chOff x="5041800" y="4095720"/>
            <a:chExt cx="2444760" cy="665280"/>
          </a:xfrm>
        </p:grpSpPr>
        <p:pic>
          <p:nvPicPr>
            <p:cNvPr id="670" name="Rounded Rectangle 4" descr=""/>
            <p:cNvPicPr/>
            <p:nvPr/>
          </p:nvPicPr>
          <p:blipFill>
            <a:blip r:embed="rId19"/>
            <a:stretch/>
          </p:blipFill>
          <p:spPr>
            <a:xfrm>
              <a:off x="5041800" y="4095720"/>
              <a:ext cx="244476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"/>
            <p:cNvSpPr/>
            <p:nvPr/>
          </p:nvSpPr>
          <p:spPr>
            <a:xfrm>
              <a:off x="5105520" y="4114800"/>
              <a:ext cx="2319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EO endorses final project documen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2" name="Rounded Rectangle 4"/>
          <p:cNvGrpSpPr/>
          <p:nvPr/>
        </p:nvGrpSpPr>
        <p:grpSpPr>
          <a:xfrm>
            <a:off x="5029200" y="4919760"/>
            <a:ext cx="2517840" cy="779400"/>
            <a:chOff x="5029200" y="4919760"/>
            <a:chExt cx="2517840" cy="779400"/>
          </a:xfrm>
        </p:grpSpPr>
        <p:pic>
          <p:nvPicPr>
            <p:cNvPr id="673" name="Rounded Rectangle 4" descr=""/>
            <p:cNvPicPr/>
            <p:nvPr/>
          </p:nvPicPr>
          <p:blipFill>
            <a:blip r:embed="rId20"/>
            <a:stretch/>
          </p:blipFill>
          <p:spPr>
            <a:xfrm>
              <a:off x="5029200" y="4919760"/>
              <a:ext cx="251784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"/>
            <p:cNvSpPr/>
            <p:nvPr/>
          </p:nvSpPr>
          <p:spPr>
            <a:xfrm>
              <a:off x="5105520" y="5029200"/>
              <a:ext cx="2319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approves final project according to  Agency internal rul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5" name="Rounded Rectangle 4"/>
          <p:cNvGrpSpPr/>
          <p:nvPr/>
        </p:nvGrpSpPr>
        <p:grpSpPr>
          <a:xfrm>
            <a:off x="5041800" y="5950080"/>
            <a:ext cx="2444760" cy="798480"/>
            <a:chOff x="5041800" y="5950080"/>
            <a:chExt cx="2444760" cy="798480"/>
          </a:xfrm>
        </p:grpSpPr>
        <p:pic>
          <p:nvPicPr>
            <p:cNvPr id="676" name="Rounded Rectangle 4" descr=""/>
            <p:cNvPicPr/>
            <p:nvPr/>
          </p:nvPicPr>
          <p:blipFill>
            <a:blip r:embed="rId21"/>
            <a:stretch/>
          </p:blipFill>
          <p:spPr>
            <a:xfrm>
              <a:off x="5041800" y="5950080"/>
              <a:ext cx="24447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"/>
            <p:cNvSpPr/>
            <p:nvPr/>
          </p:nvSpPr>
          <p:spPr>
            <a:xfrm>
              <a:off x="5105520" y="6019920"/>
              <a:ext cx="2319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starts project implementation through comple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78" name="Group 58" descr=""/>
          <p:cNvPicPr/>
          <p:nvPr/>
        </p:nvPicPr>
        <p:blipFill>
          <a:blip r:embed="rId22"/>
          <a:stretch/>
        </p:blipFill>
        <p:spPr>
          <a:xfrm>
            <a:off x="6035760" y="5608800"/>
            <a:ext cx="450720" cy="414000"/>
          </a:xfrm>
          <a:prstGeom prst="rect">
            <a:avLst/>
          </a:prstGeom>
          <a:ln w="0">
            <a:noFill/>
          </a:ln>
        </p:spPr>
      </p:pic>
      <p:pic>
        <p:nvPicPr>
          <p:cNvPr id="679" name="Group 48" descr=""/>
          <p:cNvPicPr/>
          <p:nvPr/>
        </p:nvPicPr>
        <p:blipFill>
          <a:blip r:embed="rId23"/>
          <a:stretch/>
        </p:blipFill>
        <p:spPr>
          <a:xfrm>
            <a:off x="6797520" y="3554280"/>
            <a:ext cx="45108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Role of STAP - Stand-alone Proj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380520" y="19051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STAP provides strategic scientific and technical advice to the GEF on the follow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FSP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ively screens PIFs received from Agencies when submitted to GEF Secretariat;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eens all PIFs cleared by CEO for work program inclusion;  screening reports are posted on the GEF website together with PIFs in the work progr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MSP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ively screens MSP PIF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Role of STA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761760" y="1981080"/>
            <a:ext cx="784836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ogrammatic Approaches (similar to FSPs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ively screens PFDs received from Agencies when submitted to GEF Secretariat;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eens all PFDs cleared by CEO for work program inclusion;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eening reports are posted on the GEF website together with PFDs in the work progr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685800" y="1523520"/>
            <a:ext cx="78487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THANK YOU FOR YOUR ATTENTION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websit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Calibri"/>
              </a:rPr>
              <a:t>www.thegef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685440" y="20570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GEF project cycle is a process involving many partners on the frontline: countries, GEF Agencies, GEF Secretariat, GEF Council, and partner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ther important partners perform behind the scene function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Truste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who sets aside funds for projects, commits funds and transfer fund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STA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who screens projects upstream and provides scientific guidance for the project or program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Evaluation Offic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which evaluates completed projects and selected themes and undertakes annual performance review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nvention secretaria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, also provides guidance and comments on projec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Institutional Frame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Box 1"/>
          <p:cNvSpPr/>
          <p:nvPr/>
        </p:nvSpPr>
        <p:spPr>
          <a:xfrm>
            <a:off x="4114800" y="3097080"/>
            <a:ext cx="1295280" cy="10674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GE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ecretaria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TextBox 6"/>
          <p:cNvSpPr/>
          <p:nvPr/>
        </p:nvSpPr>
        <p:spPr>
          <a:xfrm>
            <a:off x="5715000" y="2133720"/>
            <a:ext cx="1447920" cy="32778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GEF Agenci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D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E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World Ba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AD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AFD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EBR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FA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AD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F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ID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TextBox 7"/>
          <p:cNvSpPr/>
          <p:nvPr/>
        </p:nvSpPr>
        <p:spPr>
          <a:xfrm>
            <a:off x="2438280" y="4800600"/>
            <a:ext cx="1143000" cy="5202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Evaluation Off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TextBox 8"/>
          <p:cNvSpPr/>
          <p:nvPr/>
        </p:nvSpPr>
        <p:spPr>
          <a:xfrm>
            <a:off x="2476440" y="2514600"/>
            <a:ext cx="1143000" cy="3070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TA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TextBox 9"/>
          <p:cNvSpPr/>
          <p:nvPr/>
        </p:nvSpPr>
        <p:spPr>
          <a:xfrm>
            <a:off x="2286000" y="3141720"/>
            <a:ext cx="1523880" cy="1396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GEF Counci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untri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uncil Members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nstituencies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nsultations with CS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TextBox 10"/>
          <p:cNvSpPr/>
          <p:nvPr/>
        </p:nvSpPr>
        <p:spPr>
          <a:xfrm>
            <a:off x="304920" y="3886200"/>
            <a:ext cx="1447560" cy="773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nvention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untri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nvention FP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TextBox 11"/>
          <p:cNvSpPr/>
          <p:nvPr/>
        </p:nvSpPr>
        <p:spPr>
          <a:xfrm>
            <a:off x="304920" y="2666880"/>
            <a:ext cx="1447560" cy="773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GEF Assembl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untri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Political FP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TextBox 12"/>
          <p:cNvSpPr/>
          <p:nvPr/>
        </p:nvSpPr>
        <p:spPr>
          <a:xfrm>
            <a:off x="7467480" y="2827440"/>
            <a:ext cx="1524240" cy="1396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Projec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untri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Operational FPs, Convention FPs, other gov’t agencies, civil socie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Straight Connector 3"/>
          <p:cNvSpPr/>
          <p:nvPr/>
        </p:nvSpPr>
        <p:spPr>
          <a:xfrm>
            <a:off x="1752480" y="3048120"/>
            <a:ext cx="2286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Straight Connector 13"/>
          <p:cNvSpPr/>
          <p:nvPr/>
        </p:nvSpPr>
        <p:spPr>
          <a:xfrm>
            <a:off x="1752480" y="4343400"/>
            <a:ext cx="2286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Straight Connector 15"/>
          <p:cNvSpPr/>
          <p:nvPr/>
        </p:nvSpPr>
        <p:spPr>
          <a:xfrm flipV="1">
            <a:off x="1981080" y="3048120"/>
            <a:ext cx="0" cy="12952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58" name="Straight Arrow Connector 17"/>
          <p:cNvCxnSpPr>
            <a:endCxn id="551" idx="1"/>
          </p:cNvCxnSpPr>
          <p:nvPr/>
        </p:nvCxnSpPr>
        <p:spPr>
          <a:xfrm>
            <a:off x="1980720" y="3634920"/>
            <a:ext cx="305640" cy="213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59" name="Straight Arrow Connector 19"/>
          <p:cNvCxnSpPr>
            <a:endCxn id="551" idx="0"/>
          </p:cNvCxnSpPr>
          <p:nvPr/>
        </p:nvCxnSpPr>
        <p:spPr>
          <a:xfrm flipH="1">
            <a:off x="3047760" y="2820600"/>
            <a:ext cx="2160" cy="321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60" name="Straight Arrow Connector 21"/>
          <p:cNvCxnSpPr>
            <a:stCxn id="549" idx="0"/>
            <a:endCxn id="551" idx="2"/>
          </p:cNvCxnSpPr>
          <p:nvPr/>
        </p:nvCxnSpPr>
        <p:spPr>
          <a:xfrm flipV="1">
            <a:off x="3009960" y="4552560"/>
            <a:ext cx="38880" cy="2484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61" name="Straight Arrow Connector 23"/>
          <p:cNvCxnSpPr>
            <a:stCxn id="551" idx="3"/>
            <a:endCxn id="547" idx="1"/>
          </p:cNvCxnSpPr>
          <p:nvPr/>
        </p:nvCxnSpPr>
        <p:spPr>
          <a:xfrm flipV="1">
            <a:off x="3809520" y="3634560"/>
            <a:ext cx="305640" cy="213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62" name="Straight Arrow Connector 26"/>
          <p:cNvCxnSpPr>
            <a:stCxn id="547" idx="3"/>
            <a:endCxn id="548" idx="1"/>
          </p:cNvCxnSpPr>
          <p:nvPr/>
        </p:nvCxnSpPr>
        <p:spPr>
          <a:xfrm>
            <a:off x="5409720" y="3635280"/>
            <a:ext cx="305640" cy="153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63" name="Straight Arrow Connector 28"/>
          <p:cNvCxnSpPr>
            <a:stCxn id="548" idx="3"/>
            <a:endCxn id="554" idx="1"/>
          </p:cNvCxnSpPr>
          <p:nvPr/>
        </p:nvCxnSpPr>
        <p:spPr>
          <a:xfrm flipV="1">
            <a:off x="7162920" y="3533400"/>
            <a:ext cx="305280" cy="2548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64" name="Right Arrow 29"/>
          <p:cNvSpPr/>
          <p:nvPr/>
        </p:nvSpPr>
        <p:spPr>
          <a:xfrm>
            <a:off x="5867280" y="1828800"/>
            <a:ext cx="9144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Right Arrow 41"/>
          <p:cNvSpPr/>
          <p:nvPr/>
        </p:nvSpPr>
        <p:spPr>
          <a:xfrm>
            <a:off x="2209680" y="1828800"/>
            <a:ext cx="9144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TextBox 43"/>
          <p:cNvSpPr/>
          <p:nvPr/>
        </p:nvSpPr>
        <p:spPr>
          <a:xfrm>
            <a:off x="380880" y="160020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trategic</a:t>
            </a: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Guidan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TextBox 44"/>
          <p:cNvSpPr/>
          <p:nvPr/>
        </p:nvSpPr>
        <p:spPr>
          <a:xfrm>
            <a:off x="3809880" y="17524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TextBox 45"/>
          <p:cNvSpPr/>
          <p:nvPr/>
        </p:nvSpPr>
        <p:spPr>
          <a:xfrm>
            <a:off x="7543800" y="1752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A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Rectangle 24"/>
          <p:cNvSpPr/>
          <p:nvPr/>
        </p:nvSpPr>
        <p:spPr>
          <a:xfrm>
            <a:off x="2361600" y="5715000"/>
            <a:ext cx="123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 Progra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4038480" y="57150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ject revie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5791320" y="5486400"/>
            <a:ext cx="160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ject Develop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7467480" y="5257800"/>
            <a:ext cx="1676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ject idea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ndorsement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ject implement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58ed5"/>
                </a:solidFill>
                <a:latin typeface="Calibri"/>
                <a:ea typeface="Arial"/>
              </a:rPr>
              <a:t>From the project idea to the endorsement/approval requ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685440" y="251460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idea – Countries – NPFE (option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Concept – Agencies – PIF &amp; PPG (templat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SEC PIF &amp; PPG review, work program inclusion and   Council appro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Preparation –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document – Agencies – FSP or MSP (EA) (templat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SEC  review, CEO endorsement/approval and Council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90360" y="1143000"/>
            <a:ext cx="779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Features of the GEF-5  project cyc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762120" y="19807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IF submitted on a rolling bas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18 months preparation for FS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begins from date of Council approval of the work program till CEO endorsement of the final project documen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12 months preparation for MS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applies only to those MSPs that requested PPG;  begins from date of PIF approval by CEO to approval of final project document by CE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ram Framework Document (PFD) for Programmatic Approaches (PA) can be submitted only for Council meetings, scheduled twice a year (May and Novemb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 Steps (1)</a:t>
            </a:r>
            <a:br>
              <a:rPr sz="3600"/>
            </a:br>
            <a:r>
              <a:rPr b="0" lang="en-US" sz="1100" spc="-1" strike="noStrike">
                <a:solidFill>
                  <a:srgbClr val="0066ff"/>
                </a:solidFill>
                <a:latin typeface="Calibri"/>
                <a:ea typeface="Arial"/>
              </a:rPr>
              <a:t>                       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 steps for </a:t>
            </a:r>
            <a:r>
              <a:rPr b="0" lang="en-US" sz="2400" spc="-1" strike="noStrike">
                <a:solidFill>
                  <a:srgbClr val="558ed5"/>
                </a:solidFill>
                <a:latin typeface="Calibri"/>
                <a:ea typeface="Arial"/>
              </a:rPr>
              <a:t>Full-sized Projects (FSP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uncil/Secretaria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cil approval of the work program, consisting of PIFs cleared by the CE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endorsement of the final project docu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GEF Agenc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al of the project by the GEF Agency and implementation star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tion of implementation, terminal evaluation and financial closu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 Steps (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 steps For </a:t>
            </a:r>
            <a:r>
              <a:rPr b="0" lang="en-US" sz="2400" spc="-1" strike="noStrike">
                <a:solidFill>
                  <a:srgbClr val="558ed5"/>
                </a:solidFill>
                <a:latin typeface="Calibri"/>
                <a:ea typeface="Arial"/>
              </a:rPr>
              <a:t>Medium-sized Projects (MSP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ingle-step approv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approval of final MSP documen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’s own internal approval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wo-step step approv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PPG requested, submit PIF for CEO approv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approval of final project documen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’s own internal approval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itle 1"/>
          <p:cNvSpPr/>
          <p:nvPr/>
        </p:nvSpPr>
        <p:spPr>
          <a:xfrm>
            <a:off x="2209680" y="83808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</a:rPr>
              <a:t>Medium-Sized Projec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7" name="Content Placeholder 3" descr=""/>
          <p:cNvPicPr/>
          <p:nvPr/>
        </p:nvPicPr>
        <p:blipFill>
          <a:blip r:embed="rId1"/>
          <a:stretch/>
        </p:blipFill>
        <p:spPr>
          <a:xfrm>
            <a:off x="1279440" y="1639800"/>
            <a:ext cx="2994120" cy="4529160"/>
          </a:xfrm>
          <a:prstGeom prst="rect">
            <a:avLst/>
          </a:prstGeom>
          <a:ln w="0">
            <a:noFill/>
          </a:ln>
        </p:spPr>
      </p:pic>
      <p:pic>
        <p:nvPicPr>
          <p:cNvPr id="588" name="Diagram 4" descr=""/>
          <p:cNvPicPr/>
          <p:nvPr/>
        </p:nvPicPr>
        <p:blipFill>
          <a:blip r:embed="rId2"/>
          <a:stretch/>
        </p:blipFill>
        <p:spPr>
          <a:xfrm>
            <a:off x="4511520" y="1646280"/>
            <a:ext cx="2584440" cy="4516560"/>
          </a:xfrm>
          <a:prstGeom prst="rect">
            <a:avLst/>
          </a:prstGeom>
          <a:ln w="0">
            <a:noFill/>
          </a:ln>
        </p:spPr>
      </p:pic>
      <p:sp>
        <p:nvSpPr>
          <p:cNvPr id="589" name="TextBox 5"/>
          <p:cNvSpPr/>
          <p:nvPr/>
        </p:nvSpPr>
        <p:spPr>
          <a:xfrm>
            <a:off x="1371600" y="617220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cy approves MSP after CEO approval of the project and starts implementa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0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 Steps (3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or Enabling Activities (two paths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irect Acces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follow direct access policy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ry submits EA proposal for CEO approv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and country sign Grant Agreement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llow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xisting procedur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applying EA grant through Agenc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 submits EA proposal for CEO approv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 follows its own internal approval procedure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5:24:26Z</dcterms:created>
  <dc:creator>wb155260</dc:creator>
  <dc:description/>
  <dc:language>en-US</dc:language>
  <cp:lastModifiedBy>wb350798</cp:lastModifiedBy>
  <cp:lastPrinted>2011-02-14T18:22:27Z</cp:lastPrinted>
  <dcterms:modified xsi:type="dcterms:W3CDTF">2011-11-01T20:35:32Z</dcterms:modified>
  <cp:revision>231</cp:revision>
  <dc:subject/>
  <dc:title>Slide 1</dc:title>
</cp:coreProperties>
</file>