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8388BC4-4044-447E-8B86-86FB5EFE3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B0758E9-8C11-4EEF-88F0-73CF6E5E4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BCD-EF8F-4EDA-A9BA-75CEE19A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C6D-A8D5-4088-9DC4-72CA77D9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1B5D-891A-441C-81D9-AF322B3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1F844-FED8-4AE9-8EAE-7E776CB0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9F17-BE0F-40E7-BF79-46539C86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B27C7-AD26-4EAD-9C80-4F9170D5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03D90-6340-4297-B00A-EBB1A75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B97E3-E3C9-4FDA-AD3B-0FDA62B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54E86-0B0F-451B-8B1E-A984ABD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EDD36-C689-4524-92BB-F30901E9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9EF61-F99B-44A4-AC38-313F2273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BF43B-654D-4B33-A89C-164E514B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1A0-B324-4562-9488-14FC48B4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A09C8-1F4C-4E02-9DC7-EE0ABF72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43944-28C8-4319-8884-7108A274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5DD02-DB85-4318-A055-42D46A4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D5941-8222-45CE-9C8B-179610B2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B5D27-568F-424D-A747-EBB0742B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1AC16-5200-451B-9D69-018AE4F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E972C-D1FB-47C4-A011-CB0640F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F224B-04D0-4C65-9B40-66F659F7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BD65A-41FE-43AA-9FC9-49E3221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B2ADB-8C1A-4604-A43D-97AFEC93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2F4-0C15-48D8-8B2C-F97897A4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E36CD-0B61-44FB-8C04-8141EB59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D0786-A7B0-43FC-A2D3-69DDF082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231EB-62F8-4E22-B7DC-194D7884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FA950-EC00-4C82-8437-52E84357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2565-1BC5-41C2-8B25-F219B932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1C625-C248-4A8C-8640-0F3B9579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CD25D-9167-4A4A-BD93-D75EA355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33093-EB9F-44EF-AA4B-F66AF883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756BA-1930-4D12-8777-7D87BC5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62D2F-1072-40F0-92E0-82F4FE5D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4CAC-FD15-44A3-A043-0410D517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3225B-4393-4AA0-B9C9-C6EAE42B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D13FA-E6C0-4DC1-AA9A-5DE16F85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DAEAF-5D12-403B-A3EC-898BEA22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685F9-FF70-47D6-AF0A-0F87D46D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2EED2-BFC5-452B-89F8-B4C1DF78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EBD52-A9F2-4421-8CF3-2EF0B4E4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4C08E-8A59-413A-B934-642F2F59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6CE71-7E0D-4FB6-8ADB-AE8D114C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C3D02-2A85-4A4E-8FB5-1F0D4B28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F8B4-F493-4DEB-B4A2-E1C01BBD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779B-7796-4E0F-B0C5-DFE3AA1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6E48A-5FBD-410D-91E1-A145B21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1CEB9-EF6D-4CF9-9F6B-831CF657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628F-1CC1-4218-82D3-67D01650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31EBA-3256-459D-BEBF-B449798B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49C2-7D9F-4D51-A6B6-BE999E21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80EB3-185F-4973-BE7B-EC4670E1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05A56-EE66-4F1D-8A9F-CE46BF71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63E32-C8AB-4903-A1D6-88E22E9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19466-243C-44C7-A876-D325D303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04F94-D253-4C03-9637-A078ADE5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A301-0FC2-45B7-9096-A6E7FC41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A2D90-48B3-47FD-8674-BA460DA9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6A641-AC8A-40EB-8B0E-3256CAD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F2F6F-F760-455F-9C2E-7FD15E99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5659A-8C0E-48AB-9CE6-9BCAB37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A60CC-F014-4044-AA19-1A729B8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2BA2A-130E-4B5D-A1A9-65DFFAAA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C3FA9-A981-4C5C-AA1A-E2F244F7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4C35-A35E-4D15-B304-6E07919D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3DAE-5302-4653-86C5-BDDA065E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F09-E08E-4408-AD5D-C2439DDB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B8A-E90A-4AEB-945D-1FB2D18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6BC-9F3C-4BC0-8C5B-9794E849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838D-87F0-4F56-A5D3-37697EB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A513-EE8A-444E-B9D6-22C7F87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A94-5B9D-410E-BE08-DCC23F55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6A1-38B3-40B6-A1D8-C6E6CB18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AAB-AC8B-47EF-A142-307C2D9F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80B2-4521-4A7B-BEFB-6E29A49C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304F-A6A7-4E91-B245-FD78248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534D-4D71-410F-82DD-1BDFD396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1C78-CDA9-45EE-B7C2-313362AB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E7AC-8487-40F1-BE70-A0FF8A75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C35-8F54-4119-8690-120E5D13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601B-6253-4DCF-8D0F-63F6CB5B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69C9-5EFA-462E-966F-15215A4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F54E-8969-4CE2-95A6-462A2120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0749-829A-4191-8A60-9785410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A9621-ECC6-41CD-B984-4FD60E7F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4846-F8C5-491A-A2AA-5EDC1BE8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4392-945F-45CD-A06B-CF0A93FB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8970-12FA-433B-A6D4-0BCD8241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224A-8E29-46E7-9F2B-1A8887F9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60B5-D3E5-48CC-B556-A9BE8E90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4CD-931E-4698-BB91-D7691298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6E67-08A5-4931-8D70-4DA090C8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57FE-B7BE-4416-8F88-06E375D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2005-B912-4470-ABC9-D473744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6132-A4A3-466B-A3B6-768BF58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A26A-D1AC-4224-87B2-2F70B32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631A-4A58-4A64-8B40-D5CE485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0BE6-F821-4E0C-8124-9C878AFF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417A-3C5C-4123-B922-BE169381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D8ED-6FDC-41EA-95FF-2C3F8322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B9444-ADAE-4D00-AF88-6364D828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BED-274E-4FF3-98CF-5828AE80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D6F8-5294-41DB-B004-084A57B1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1ACE-503C-4049-BADD-D6EC8A4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08F7-B81E-423E-938D-42F3CB90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A2977-A450-4B53-A7A0-F4C2CC8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0626E-6671-4743-9828-DE22698F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B88E-E890-4CE4-9452-EFBA9CC2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1C87-6F18-425D-8EE6-D0D89C7E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BD99-B85A-4700-8834-B9C2AB01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9125F-CC4F-400B-AC06-CDE36FED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CECF-90F8-4099-B6AA-C06A9316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E40-A6AF-456E-BE1C-CDDACE23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5686-06EF-48E8-86EE-2A31F3C7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698EF-9198-4B8C-B470-4B50CEF6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1340-591B-4F41-8B1C-97819DA2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3CF9F-5922-4879-B7AC-A259430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1BB8-EF95-4DA6-B182-4C593306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CFC03-AE3E-43F7-AC5A-5F4455EA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14255-B8D9-43AA-88E0-87AAF74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4031-A6FB-4203-A59D-F82C134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65FE8-9D44-4704-BDE6-A5C63BB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46572-5433-4C4B-8BC4-C2B3FD01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1C7-B0CE-460D-8297-17FA8F9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79B6-46B3-4001-AC5D-C02964DB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C9E02-C98E-40FF-A754-2EA24120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E3A3B-0743-4367-B7D0-BBABDBF8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10898-31F2-46CC-8A12-8B8641DB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B4776-6CFF-447D-B9D6-2F71F5DE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320F-1FC7-4E05-B884-6DBC219D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93C69-B2B7-4DAD-8A1A-206CDB2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05392-124C-4550-BD4D-A00B9173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56DAF-2AA0-464F-AF36-D97A1E8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071F8-FD30-4FB7-A6BD-7FF5EB3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3D2-BAFC-4761-B8E1-473CAE2A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C774-7329-4D37-9214-B2C450C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33CBB-B0B2-4C8E-899F-B6DD44C4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4228C-E645-4A7F-B888-9F4181B2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29DA-2FAD-44FF-B92B-3F985794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1ADC-119C-4E66-B919-05B233A2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C319E-A799-416C-8068-769E3135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27FF-D88A-479D-978F-CAB82323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CCE70-A3B7-486B-B348-F8BD82E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59577-17EA-499D-BBED-F8725986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DC305-9EBD-4D30-B3E4-D01BD184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E6A-7528-46A7-B73F-3419B4E1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B17A4-674E-489A-91F8-909F8AC4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9642A-5D64-4DD7-AAE5-A3AD88A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713B-5755-4976-A506-56C5E9C3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D006D-0B81-43BB-8789-8FA34BC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99CE-95E6-4A84-A1CE-FA6E316A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B2CF8-D5B4-4948-86B1-22FFA522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624BC-BD45-4719-A781-AB675A54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17985-544E-4557-8ED1-CB5C7F95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90F2E-B5DB-4D28-9916-77F6CE7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962A-1D92-406A-902F-DF325F53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9CB-7896-491A-8F59-54E0BACB7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DC1-B785-4348-9196-05A5B5BA8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A32-8432-40CF-9AD4-077F7D8106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8A1F-FDB6-4671-A493-99C9383B3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2B4E-7E7E-4B4B-92A9-6F415B9666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EE89-A63D-4AD9-9072-05364A4E8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0097-BBCA-4E8F-891E-047AF8A50C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D61C-C581-4424-93AE-1D3595F54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E432-9600-4D3B-B544-7DF77706C4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8F8C-FE4C-46DA-800D-A45C8F03C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7FA-B442-497C-8A11-EB00FCABDE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F492-E860-4F33-8076-295B1D6E7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DC9-59FB-4648-9698-2979F1CF17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C431-E6F7-43DD-878D-3ED1BBDEB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D9F6-B1DB-4B10-BECE-76F7451C99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BECF-5242-4BC5-9ADB-04F10F58B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28C4-8EE9-4C1A-9AA8-530DD2EBCF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2270-9732-4C4F-A6CA-094D22941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BEC-FAF1-4704-8BFF-3A3F85B98A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96D2-2EDD-4FF0-8B85-8D10A9EB7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98A-ECDF-4DCD-BCC3-A277FA3388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73E-C704-440F-8B2E-4B7ACEE4A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BA24-855F-48B6-9BA8-AA9D764F590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243-F9C6-4CED-9B10-E143C703CA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603D-31DC-4BBD-865E-70FA23EABF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85C8-B6CE-48C6-B508-E11FC42AC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5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2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597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598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0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0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3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604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6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07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9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610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2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613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15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17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20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21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622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2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91404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Group 3" descr=""/>
          <p:cNvPicPr/>
          <p:nvPr/>
        </p:nvPicPr>
        <p:blipFill>
          <a:blip r:embed="rId2"/>
          <a:stretch/>
        </p:blipFill>
        <p:spPr>
          <a:xfrm>
            <a:off x="853920" y="95076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639" name="Rounded Rectangle 4"/>
          <p:cNvGrpSpPr/>
          <p:nvPr/>
        </p:nvGrpSpPr>
        <p:grpSpPr>
          <a:xfrm>
            <a:off x="927000" y="3255840"/>
            <a:ext cx="2444760" cy="669960"/>
            <a:chOff x="927000" y="3255840"/>
            <a:chExt cx="2444760" cy="669960"/>
          </a:xfrm>
        </p:grpSpPr>
        <p:pic>
          <p:nvPicPr>
            <p:cNvPr id="64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2558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4"/>
          <a:stretch/>
        </p:blipFill>
        <p:spPr>
          <a:xfrm>
            <a:off x="5048280" y="95076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5" name="Group 58" descr=""/>
          <p:cNvPicPr/>
          <p:nvPr/>
        </p:nvPicPr>
        <p:blipFill>
          <a:blip r:embed="rId7"/>
          <a:stretch/>
        </p:blipFill>
        <p:spPr>
          <a:xfrm>
            <a:off x="1920960" y="47671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6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48" name="Rounded Rectangle 4"/>
          <p:cNvGrpSpPr/>
          <p:nvPr/>
        </p:nvGrpSpPr>
        <p:grpSpPr>
          <a:xfrm>
            <a:off x="927000" y="4170240"/>
            <a:ext cx="2444760" cy="669960"/>
            <a:chOff x="927000" y="4170240"/>
            <a:chExt cx="2444760" cy="669960"/>
          </a:xfrm>
        </p:grpSpPr>
        <p:pic>
          <p:nvPicPr>
            <p:cNvPr id="649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702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1" name="Rounded Rectangle 4"/>
          <p:cNvGrpSpPr/>
          <p:nvPr/>
        </p:nvGrpSpPr>
        <p:grpSpPr>
          <a:xfrm>
            <a:off x="914400" y="4998960"/>
            <a:ext cx="2517840" cy="779400"/>
            <a:chOff x="914400" y="4998960"/>
            <a:chExt cx="2517840" cy="779400"/>
          </a:xfrm>
        </p:grpSpPr>
        <p:pic>
          <p:nvPicPr>
            <p:cNvPr id="652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14400" y="49989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990720" y="51055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4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55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7" name="Rounded Rectangle 4"/>
          <p:cNvGrpSpPr/>
          <p:nvPr/>
        </p:nvGrpSpPr>
        <p:grpSpPr>
          <a:xfrm>
            <a:off x="3657600" y="2189160"/>
            <a:ext cx="2505240" cy="1352520"/>
            <a:chOff x="3657600" y="2189160"/>
            <a:chExt cx="2505240" cy="1352520"/>
          </a:xfrm>
        </p:grpSpPr>
        <p:pic>
          <p:nvPicPr>
            <p:cNvPr id="658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57600" y="2189160"/>
              <a:ext cx="2505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3733920" y="220968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0" name="Rounded Rectangle 4"/>
          <p:cNvGrpSpPr/>
          <p:nvPr/>
        </p:nvGrpSpPr>
        <p:grpSpPr>
          <a:xfrm>
            <a:off x="927000" y="1884240"/>
            <a:ext cx="2449440" cy="1127160"/>
            <a:chOff x="927000" y="1884240"/>
            <a:chExt cx="2449440" cy="1127160"/>
          </a:xfrm>
        </p:grpSpPr>
        <p:pic>
          <p:nvPicPr>
            <p:cNvPr id="661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9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3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4"/>
          <p:cNvGrpSpPr/>
          <p:nvPr/>
        </p:nvGrpSpPr>
        <p:grpSpPr>
          <a:xfrm>
            <a:off x="6413400" y="2266920"/>
            <a:ext cx="2498760" cy="1281240"/>
            <a:chOff x="6413400" y="2266920"/>
            <a:chExt cx="2498760" cy="1281240"/>
          </a:xfrm>
        </p:grpSpPr>
        <p:pic>
          <p:nvPicPr>
            <p:cNvPr id="665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413400" y="2266920"/>
              <a:ext cx="24987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7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68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669" name="Rounded Rectangle 4"/>
          <p:cNvGrpSpPr/>
          <p:nvPr/>
        </p:nvGrpSpPr>
        <p:grpSpPr>
          <a:xfrm>
            <a:off x="5041800" y="4095720"/>
            <a:ext cx="2444760" cy="665280"/>
            <a:chOff x="5041800" y="4095720"/>
            <a:chExt cx="2444760" cy="665280"/>
          </a:xfrm>
        </p:grpSpPr>
        <p:pic>
          <p:nvPicPr>
            <p:cNvPr id="670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95720"/>
              <a:ext cx="24447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Rounded Rectangle 4"/>
          <p:cNvGrpSpPr/>
          <p:nvPr/>
        </p:nvGrpSpPr>
        <p:grpSpPr>
          <a:xfrm>
            <a:off x="5029200" y="4919760"/>
            <a:ext cx="2517840" cy="779400"/>
            <a:chOff x="5029200" y="4919760"/>
            <a:chExt cx="2517840" cy="779400"/>
          </a:xfrm>
        </p:grpSpPr>
        <p:pic>
          <p:nvPicPr>
            <p:cNvPr id="673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29200" y="49197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05520" y="50292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5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676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78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679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 - Stand-alone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P provides strategic scientific and technical advice to the GEF on the follow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IF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IFs cleared by CEO for work program inclusion;  screening reports are posted on the GEF website together with PIF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MSP PIF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atic Approaches (similar to FSP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FD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FDs cleared by CEO for work program inclusion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reports are posted on the GEF website together with PFD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Institutional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5715000" y="2133720"/>
            <a:ext cx="1447920" cy="3277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 Agenc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D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orld Ba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F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B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A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F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valuation Off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Counc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cil Members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tituencies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ultations with CS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304920" y="388620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304920" y="266688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litical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7467480" y="2827440"/>
            <a:ext cx="152424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perational FPs, Convention FPs, other gov’t agencies, civil socie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8" name="Straight Arrow Connector 17"/>
          <p:cNvCxnSpPr>
            <a:endCxn id="551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59" name="Straight Arrow Connector 19"/>
          <p:cNvCxnSpPr>
            <a:endCxn id="551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0" name="Straight Arrow Connector 21"/>
          <p:cNvCxnSpPr>
            <a:stCxn id="549" idx="0"/>
            <a:endCxn id="551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1" name="Straight Arrow Connector 23"/>
          <p:cNvCxnSpPr>
            <a:stCxn id="551" idx="3"/>
            <a:endCxn id="547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2" name="Straight Arrow Connector 26"/>
          <p:cNvCxnSpPr>
            <a:stCxn id="547" idx="3"/>
            <a:endCxn id="548" idx="1"/>
          </p:cNvCxnSpPr>
          <p:nvPr/>
        </p:nvCxnSpPr>
        <p:spPr>
          <a:xfrm>
            <a:off x="5409720" y="3635280"/>
            <a:ext cx="30564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3" name="Straight Arrow Connector 28"/>
          <p:cNvCxnSpPr>
            <a:stCxn id="548" idx="3"/>
            <a:endCxn id="554" idx="1"/>
          </p:cNvCxnSpPr>
          <p:nvPr/>
        </p:nvCxnSpPr>
        <p:spPr>
          <a:xfrm flipV="1">
            <a:off x="7162920" y="3533400"/>
            <a:ext cx="305280" cy="254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64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Box 43"/>
          <p:cNvSpPr/>
          <p:nvPr/>
        </p:nvSpPr>
        <p:spPr>
          <a:xfrm>
            <a:off x="380880" y="1600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44"/>
          <p:cNvSpPr/>
          <p:nvPr/>
        </p:nvSpPr>
        <p:spPr>
          <a:xfrm>
            <a:off x="3809880" y="1752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Box 45"/>
          <p:cNvSpPr/>
          <p:nvPr/>
        </p:nvSpPr>
        <p:spPr>
          <a:xfrm>
            <a:off x="754380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2361600" y="571500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 Prog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038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revie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579132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Develo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467480" y="52578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dea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orsement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7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588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11-01T20:35:32Z</dcterms:modified>
  <cp:revision>231</cp:revision>
  <dc:subject/>
  <dc:title>Slide 1</dc:title>
</cp:coreProperties>
</file>