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82EA4A1-1192-4669-BC3A-A4023D99C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4A43F1C-6C6A-4E30-AF4F-0F9B3CEA5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A086C89-CC4A-48E1-A1CF-386570477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E45-EBD0-4819-9605-4ECFF55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3F9-B5C4-425C-B1DE-18C983A9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AF4-0706-4C08-A049-E5426400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6ED-357A-44AB-935F-607213E7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BD3E-8BFB-4064-AC98-3535FBA7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327F-C91E-43E9-B5F5-A0F651E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B6DB-EF28-4ED9-A1AF-3A751123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E72-AF67-4F42-8177-CBD2B26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21B-BAD6-444A-A9D1-AA5C785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192-A788-44B6-AAE0-8244C74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276B-5E16-4787-8704-549CF80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80D-04A0-4EF6-89CC-03606188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56E-AA4E-470B-BDE1-19AE4C43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9F62-2136-43D5-BEF4-9574725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CC0A-3C5E-46BE-929A-089DB90E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449-A87F-4FAF-91AF-29AEC00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7352-9A98-41F6-A7C3-5B261A67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8A21-5584-4360-AD0F-EAE2A15B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615C-D269-4680-8389-E47CC3B4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F3AF-FC88-4867-B269-6817D41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3322-8766-4E22-91AA-4AFCF1A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F92E-7E50-41B9-BD29-14B7380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174-2126-49AE-961D-DC94579B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BFD0-DD3F-452D-8C34-3C8385BD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CC02-6F62-4210-B1A2-885DC59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D453-22F6-4D30-89FB-6858354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0CF0-F652-4226-921C-AD45828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E68E-616B-40DD-A05B-BFEEB7B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030A-3FEB-45C4-8DB7-EA5CA497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AC09-303E-417B-9E75-7B253AC8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D5C9-0AEB-4441-87F7-BE60B9F4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7EDD-3829-4E6F-87B0-00ABAF03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66ECD-454D-4A8B-AA73-F4AA1D54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CCB-CC7B-407D-823F-FE10587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C99C-2F17-4DE4-9E68-C2B8E135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1268-0540-4CA7-96D8-96CA6E31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EE90-E5A0-4FE1-B307-7B36BE9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D3CF-4136-4135-BA21-6670551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178D-69EB-427B-96D5-29B3C25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3994-0D41-4FEA-8A01-B276CB19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C458-7DC2-4520-8816-6D43C94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5F12-FC67-42C6-A1FE-678C4C1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D4AD-7607-46DD-9A4F-C68F6749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62F-3965-48B1-A40D-35E11A45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CD6-4287-4E84-8ACD-883675A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49D-2DF3-4DCE-A67C-BE0810A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658-F3F4-44F7-B8B9-30E17E6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F7C-02B3-4CA9-B979-F7A37DE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696C-874C-46A0-8BF8-DE56A0035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35E-3E1D-44D4-B769-936DEC72A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-2448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230-8050-46EE-83B8-EE6CA4356D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B486-A4C1-4E6D-93BE-7BBE65C1C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8000" y="5613840"/>
              <a:ext cx="9107640" cy="6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12E0-E8EC-4AB6-9E0C-EDAFAE35FEB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E1D-C54C-4FD3-B158-96E8F85EE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AFAB-8155-4FA5-80E7-1FB07DDC04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5D44-F3E3-4610-954E-320B44480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23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15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88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Group 3" descr=""/>
          <p:cNvPicPr/>
          <p:nvPr/>
        </p:nvPicPr>
        <p:blipFill>
          <a:blip r:embed="rId1"/>
          <a:stretch/>
        </p:blipFill>
        <p:spPr>
          <a:xfrm>
            <a:off x="933480" y="18900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34" name="Rounded Rectangle 4"/>
          <p:cNvGrpSpPr/>
          <p:nvPr/>
        </p:nvGrpSpPr>
        <p:grpSpPr>
          <a:xfrm>
            <a:off x="1000080" y="2498760"/>
            <a:ext cx="2449440" cy="665280"/>
            <a:chOff x="1000080" y="2498760"/>
            <a:chExt cx="2449440" cy="665280"/>
          </a:xfrm>
        </p:grpSpPr>
        <p:pic>
          <p:nvPicPr>
            <p:cNvPr id="235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000080" y="24987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66680" y="25146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7" name="Group 28" descr=""/>
          <p:cNvPicPr/>
          <p:nvPr/>
        </p:nvPicPr>
        <p:blipFill>
          <a:blip r:embed="rId3"/>
          <a:stretch/>
        </p:blipFill>
        <p:spPr>
          <a:xfrm>
            <a:off x="5121360" y="18900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238" name="Group 48" descr=""/>
          <p:cNvPicPr/>
          <p:nvPr/>
        </p:nvPicPr>
        <p:blipFill>
          <a:blip r:embed="rId4"/>
          <a:stretch/>
        </p:blipFill>
        <p:spPr>
          <a:xfrm>
            <a:off x="2000160" y="3097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1" descr=""/>
          <p:cNvPicPr/>
          <p:nvPr/>
        </p:nvPicPr>
        <p:blipFill>
          <a:blip r:embed="rId5"/>
          <a:stretch/>
        </p:blipFill>
        <p:spPr>
          <a:xfrm>
            <a:off x="20001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0" name="Group 58" descr=""/>
          <p:cNvPicPr/>
          <p:nvPr/>
        </p:nvPicPr>
        <p:blipFill>
          <a:blip r:embed="rId6"/>
          <a:stretch/>
        </p:blipFill>
        <p:spPr>
          <a:xfrm>
            <a:off x="2000160" y="40114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1" name="Group 64" descr=""/>
          <p:cNvPicPr/>
          <p:nvPr/>
        </p:nvPicPr>
        <p:blipFill>
          <a:blip r:embed="rId7"/>
          <a:stretch/>
        </p:blipFill>
        <p:spPr>
          <a:xfrm>
            <a:off x="6114960" y="8110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42" name="Group 48" descr=""/>
          <p:cNvPicPr/>
          <p:nvPr/>
        </p:nvPicPr>
        <p:blipFill>
          <a:blip r:embed="rId8"/>
          <a:stretch/>
        </p:blipFill>
        <p:spPr>
          <a:xfrm>
            <a:off x="2000160" y="21826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43" name="Rounded Rectangle 4"/>
          <p:cNvGrpSpPr/>
          <p:nvPr/>
        </p:nvGrpSpPr>
        <p:grpSpPr>
          <a:xfrm>
            <a:off x="1000080" y="3413160"/>
            <a:ext cx="2449440" cy="665280"/>
            <a:chOff x="1000080" y="3413160"/>
            <a:chExt cx="2449440" cy="665280"/>
          </a:xfrm>
        </p:grpSpPr>
        <p:pic>
          <p:nvPicPr>
            <p:cNvPr id="244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000080" y="3413160"/>
              <a:ext cx="24494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66680" y="34290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Rounded Rectangle 4"/>
          <p:cNvGrpSpPr/>
          <p:nvPr/>
        </p:nvGrpSpPr>
        <p:grpSpPr>
          <a:xfrm>
            <a:off x="993600" y="4237200"/>
            <a:ext cx="2517840" cy="779400"/>
            <a:chOff x="993600" y="4237200"/>
            <a:chExt cx="2517840" cy="779400"/>
          </a:xfrm>
        </p:grpSpPr>
        <p:pic>
          <p:nvPicPr>
            <p:cNvPr id="247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93600" y="423720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66680" y="434340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Rounded Rectangle 4"/>
          <p:cNvGrpSpPr/>
          <p:nvPr/>
        </p:nvGrpSpPr>
        <p:grpSpPr>
          <a:xfrm>
            <a:off x="1000080" y="5224320"/>
            <a:ext cx="2449440" cy="779760"/>
            <a:chOff x="1000080" y="5224320"/>
            <a:chExt cx="2449440" cy="779760"/>
          </a:xfrm>
        </p:grpSpPr>
        <p:pic>
          <p:nvPicPr>
            <p:cNvPr id="250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1000080" y="5224320"/>
              <a:ext cx="24494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066680" y="5334120"/>
              <a:ext cx="231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Rounded Rectangle 4"/>
          <p:cNvGrpSpPr/>
          <p:nvPr/>
        </p:nvGrpSpPr>
        <p:grpSpPr>
          <a:xfrm>
            <a:off x="3736800" y="1432080"/>
            <a:ext cx="2505240" cy="1353960"/>
            <a:chOff x="3736800" y="1432080"/>
            <a:chExt cx="2505240" cy="1353960"/>
          </a:xfrm>
        </p:grpSpPr>
        <p:pic>
          <p:nvPicPr>
            <p:cNvPr id="253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3736800" y="1432080"/>
              <a:ext cx="25052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809880" y="1447920"/>
              <a:ext cx="2319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Rounded Rectangle 4"/>
          <p:cNvGrpSpPr/>
          <p:nvPr/>
        </p:nvGrpSpPr>
        <p:grpSpPr>
          <a:xfrm>
            <a:off x="1000080" y="1127160"/>
            <a:ext cx="2455920" cy="1122480"/>
            <a:chOff x="1000080" y="1127160"/>
            <a:chExt cx="2455920" cy="1122480"/>
          </a:xfrm>
        </p:grpSpPr>
        <p:pic>
          <p:nvPicPr>
            <p:cNvPr id="256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1000080" y="1127160"/>
              <a:ext cx="2455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66680" y="1143000"/>
              <a:ext cx="2319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8" name="Group 58" descr=""/>
          <p:cNvPicPr/>
          <p:nvPr/>
        </p:nvPicPr>
        <p:blipFill>
          <a:blip r:embed="rId14"/>
          <a:stretch/>
        </p:blipFill>
        <p:spPr>
          <a:xfrm>
            <a:off x="2000160" y="492588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59" name="Rounded Rectangle 4"/>
          <p:cNvGrpSpPr/>
          <p:nvPr/>
        </p:nvGrpSpPr>
        <p:grpSpPr>
          <a:xfrm>
            <a:off x="6486480" y="1504800"/>
            <a:ext cx="2505240" cy="1281240"/>
            <a:chOff x="6486480" y="1504800"/>
            <a:chExt cx="2505240" cy="1281240"/>
          </a:xfrm>
        </p:grpSpPr>
        <p:pic>
          <p:nvPicPr>
            <p:cNvPr id="26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6486480" y="1504800"/>
              <a:ext cx="25052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53080" y="1523880"/>
              <a:ext cx="2319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Group 48" descr=""/>
          <p:cNvPicPr/>
          <p:nvPr/>
        </p:nvPicPr>
        <p:blipFill>
          <a:blip r:embed="rId16"/>
          <a:stretch/>
        </p:blipFill>
        <p:spPr>
          <a:xfrm>
            <a:off x="5425920" y="279252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63" name="Group 58" descr=""/>
          <p:cNvPicPr/>
          <p:nvPr/>
        </p:nvPicPr>
        <p:blipFill>
          <a:blip r:embed="rId17"/>
          <a:stretch/>
        </p:blipFill>
        <p:spPr>
          <a:xfrm>
            <a:off x="6114960" y="3859200"/>
            <a:ext cx="451080" cy="414360"/>
          </a:xfrm>
          <a:prstGeom prst="rect">
            <a:avLst/>
          </a:prstGeom>
          <a:ln w="0">
            <a:noFill/>
          </a:ln>
        </p:spPr>
      </p:pic>
      <p:grpSp>
        <p:nvGrpSpPr>
          <p:cNvPr id="264" name="Rounded Rectangle 4"/>
          <p:cNvGrpSpPr/>
          <p:nvPr/>
        </p:nvGrpSpPr>
        <p:grpSpPr>
          <a:xfrm>
            <a:off x="5114880" y="3333600"/>
            <a:ext cx="2449440" cy="671760"/>
            <a:chOff x="5114880" y="3333600"/>
            <a:chExt cx="2449440" cy="671760"/>
          </a:xfrm>
        </p:grpSpPr>
        <p:pic>
          <p:nvPicPr>
            <p:cNvPr id="265" name="Rounded Rectangle 4" descr=""/>
            <p:cNvPicPr/>
            <p:nvPr/>
          </p:nvPicPr>
          <p:blipFill>
            <a:blip r:embed="rId18"/>
            <a:stretch/>
          </p:blipFill>
          <p:spPr>
            <a:xfrm>
              <a:off x="5114880" y="3333600"/>
              <a:ext cx="2449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81480" y="33526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Rounded Rectangle 4"/>
          <p:cNvGrpSpPr/>
          <p:nvPr/>
        </p:nvGrpSpPr>
        <p:grpSpPr>
          <a:xfrm>
            <a:off x="5108400" y="4164120"/>
            <a:ext cx="2517840" cy="772920"/>
            <a:chOff x="5108400" y="4164120"/>
            <a:chExt cx="2517840" cy="772920"/>
          </a:xfrm>
        </p:grpSpPr>
        <p:pic>
          <p:nvPicPr>
            <p:cNvPr id="268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108400" y="4164120"/>
              <a:ext cx="25178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1480" y="4267080"/>
              <a:ext cx="231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Rounded Rectangle 4"/>
          <p:cNvGrpSpPr/>
          <p:nvPr/>
        </p:nvGrpSpPr>
        <p:grpSpPr>
          <a:xfrm>
            <a:off x="5114880" y="5187960"/>
            <a:ext cx="2449440" cy="798480"/>
            <a:chOff x="5114880" y="5187960"/>
            <a:chExt cx="2449440" cy="798480"/>
          </a:xfrm>
        </p:grpSpPr>
        <p:pic>
          <p:nvPicPr>
            <p:cNvPr id="271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114880" y="5187960"/>
              <a:ext cx="2449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81480" y="52578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3" name="Group 58" descr=""/>
          <p:cNvPicPr/>
          <p:nvPr/>
        </p:nvPicPr>
        <p:blipFill>
          <a:blip r:embed="rId21"/>
          <a:stretch/>
        </p:blipFill>
        <p:spPr>
          <a:xfrm>
            <a:off x="6114960" y="4846680"/>
            <a:ext cx="451080" cy="4143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48" descr=""/>
          <p:cNvPicPr/>
          <p:nvPr/>
        </p:nvPicPr>
        <p:blipFill>
          <a:blip r:embed="rId22"/>
          <a:stretch/>
        </p:blipFill>
        <p:spPr>
          <a:xfrm>
            <a:off x="6877080" y="2792520"/>
            <a:ext cx="45072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200240" y="878040"/>
            <a:ext cx="2993760" cy="452916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4" descr=""/>
          <p:cNvPicPr/>
          <p:nvPr/>
        </p:nvPicPr>
        <p:blipFill>
          <a:blip r:embed="rId2"/>
          <a:stretch/>
        </p:blipFill>
        <p:spPr>
          <a:xfrm>
            <a:off x="4584600" y="884160"/>
            <a:ext cx="2590920" cy="4516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447920" y="54100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Group 3" descr=""/>
          <p:cNvPicPr/>
          <p:nvPr/>
        </p:nvPicPr>
        <p:blipFill>
          <a:blip r:embed="rId1"/>
          <a:stretch/>
        </p:blipFill>
        <p:spPr>
          <a:xfrm>
            <a:off x="1695600" y="87804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Rounded Rectangle 4"/>
          <p:cNvGrpSpPr/>
          <p:nvPr/>
        </p:nvGrpSpPr>
        <p:grpSpPr>
          <a:xfrm>
            <a:off x="1689120" y="3638520"/>
            <a:ext cx="2444760" cy="744480"/>
            <a:chOff x="1689120" y="3638520"/>
            <a:chExt cx="2444760" cy="744480"/>
          </a:xfrm>
        </p:grpSpPr>
        <p:pic>
          <p:nvPicPr>
            <p:cNvPr id="197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689120" y="3638520"/>
              <a:ext cx="2444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752480" y="3657600"/>
              <a:ext cx="231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Rounded Rectangle 4"/>
          <p:cNvGrpSpPr/>
          <p:nvPr/>
        </p:nvGrpSpPr>
        <p:grpSpPr>
          <a:xfrm>
            <a:off x="1663560" y="4784760"/>
            <a:ext cx="2481480" cy="847800"/>
            <a:chOff x="1663560" y="4784760"/>
            <a:chExt cx="2481480" cy="847800"/>
          </a:xfrm>
        </p:grpSpPr>
        <p:pic>
          <p:nvPicPr>
            <p:cNvPr id="20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663560" y="4784760"/>
              <a:ext cx="24814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52480" y="4800600"/>
              <a:ext cx="2286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2" name="Rounded Rectangle 4"/>
          <p:cNvGrpSpPr/>
          <p:nvPr/>
        </p:nvGrpSpPr>
        <p:grpSpPr>
          <a:xfrm>
            <a:off x="4505400" y="4784760"/>
            <a:ext cx="2475000" cy="896760"/>
            <a:chOff x="4505400" y="4784760"/>
            <a:chExt cx="2475000" cy="896760"/>
          </a:xfrm>
        </p:grpSpPr>
        <p:pic>
          <p:nvPicPr>
            <p:cNvPr id="20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4505400" y="478476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0" y="4800600"/>
              <a:ext cx="231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" name="Rounded Rectangle 4"/>
          <p:cNvGrpSpPr/>
          <p:nvPr/>
        </p:nvGrpSpPr>
        <p:grpSpPr>
          <a:xfrm>
            <a:off x="4505400" y="3565440"/>
            <a:ext cx="2449440" cy="847800"/>
            <a:chOff x="4505400" y="3565440"/>
            <a:chExt cx="2449440" cy="847800"/>
          </a:xfrm>
        </p:grpSpPr>
        <p:pic>
          <p:nvPicPr>
            <p:cNvPr id="20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3565440"/>
              <a:ext cx="2449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72000" y="358128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8" name="Rounded Rectangle 4"/>
          <p:cNvGrpSpPr/>
          <p:nvPr/>
        </p:nvGrpSpPr>
        <p:grpSpPr>
          <a:xfrm>
            <a:off x="4505400" y="2651040"/>
            <a:ext cx="2455920" cy="622440"/>
            <a:chOff x="4505400" y="2651040"/>
            <a:chExt cx="2455920" cy="622440"/>
          </a:xfrm>
        </p:grpSpPr>
        <p:pic>
          <p:nvPicPr>
            <p:cNvPr id="20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265104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0" y="26668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" name="Rounded Rectangle 4"/>
          <p:cNvGrpSpPr/>
          <p:nvPr/>
        </p:nvGrpSpPr>
        <p:grpSpPr>
          <a:xfrm>
            <a:off x="4505400" y="1657440"/>
            <a:ext cx="2449440" cy="622080"/>
            <a:chOff x="4505400" y="1657440"/>
            <a:chExt cx="2449440" cy="622080"/>
          </a:xfrm>
        </p:grpSpPr>
        <p:pic>
          <p:nvPicPr>
            <p:cNvPr id="21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1657440"/>
              <a:ext cx="24494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572000" y="1676520"/>
              <a:ext cx="2319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4" name="Group 28" descr=""/>
          <p:cNvPicPr/>
          <p:nvPr/>
        </p:nvPicPr>
        <p:blipFill>
          <a:blip r:embed="rId8"/>
          <a:stretch/>
        </p:blipFill>
        <p:spPr>
          <a:xfrm>
            <a:off x="4511520" y="878040"/>
            <a:ext cx="2401920" cy="792000"/>
          </a:xfrm>
          <a:prstGeom prst="rect">
            <a:avLst/>
          </a:prstGeom>
          <a:ln w="0">
            <a:noFill/>
          </a:ln>
        </p:spPr>
      </p:pic>
      <p:pic>
        <p:nvPicPr>
          <p:cNvPr id="215" name="Group 48" descr=""/>
          <p:cNvPicPr/>
          <p:nvPr/>
        </p:nvPicPr>
        <p:blipFill>
          <a:blip r:embed="rId9"/>
          <a:stretch/>
        </p:blipFill>
        <p:spPr>
          <a:xfrm>
            <a:off x="2682720" y="43894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51" descr=""/>
          <p:cNvPicPr/>
          <p:nvPr/>
        </p:nvPicPr>
        <p:blipFill>
          <a:blip r:embed="rId10"/>
          <a:stretch/>
        </p:blipFill>
        <p:spPr>
          <a:xfrm>
            <a:off x="2682720" y="279252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4"/>
          <p:cNvSpPr/>
          <p:nvPr/>
        </p:nvSpPr>
        <p:spPr>
          <a:xfrm>
            <a:off x="7238880" y="2590920"/>
            <a:ext cx="152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GEF Secretariat will follow the World Bank procedures in approving the  proposal with final target of sending a Grant Agreement to the recipient country and to be signed between CEO and the country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Group 58" descr=""/>
          <p:cNvPicPr/>
          <p:nvPr/>
        </p:nvPicPr>
        <p:blipFill>
          <a:blip r:embed="rId11"/>
          <a:stretch/>
        </p:blipFill>
        <p:spPr>
          <a:xfrm>
            <a:off x="5505480" y="43894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219" name="Group 61" descr=""/>
          <p:cNvPicPr/>
          <p:nvPr/>
        </p:nvPicPr>
        <p:blipFill>
          <a:blip r:embed="rId12"/>
          <a:stretch/>
        </p:blipFill>
        <p:spPr>
          <a:xfrm>
            <a:off x="5425920" y="3170160"/>
            <a:ext cx="50508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Group 64" descr=""/>
          <p:cNvPicPr/>
          <p:nvPr/>
        </p:nvPicPr>
        <p:blipFill>
          <a:blip r:embed="rId13"/>
          <a:stretch/>
        </p:blipFill>
        <p:spPr>
          <a:xfrm>
            <a:off x="5425920" y="2182680"/>
            <a:ext cx="505080" cy="517680"/>
          </a:xfrm>
          <a:prstGeom prst="rect">
            <a:avLst/>
          </a:prstGeom>
          <a:ln w="0">
            <a:noFill/>
          </a:ln>
        </p:spPr>
      </p:pic>
      <p:grpSp>
        <p:nvGrpSpPr>
          <p:cNvPr id="221" name="Rounded Rectangle 4"/>
          <p:cNvGrpSpPr/>
          <p:nvPr/>
        </p:nvGrpSpPr>
        <p:grpSpPr>
          <a:xfrm>
            <a:off x="1689120" y="1809720"/>
            <a:ext cx="2444760" cy="824040"/>
            <a:chOff x="1689120" y="1809720"/>
            <a:chExt cx="2444760" cy="824040"/>
          </a:xfrm>
        </p:grpSpPr>
        <p:pic>
          <p:nvPicPr>
            <p:cNvPr id="222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1689120" y="1809720"/>
              <a:ext cx="2444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52480" y="182880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  <a:ea typeface="Arial"/>
              </a:rPr>
              <a:t>Expedited Enabl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2-04-10T16:55:51Z</dcterms:modified>
  <cp:revision>249</cp:revision>
  <dc:subject/>
  <dc:title>Slide 1</dc:title>
</cp:coreProperties>
</file>