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5FD80F2-BAE7-4F53-ACF6-FAC285333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36EEC4C-39F0-4064-8B19-153956852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CBDB085-2A9D-44B7-8874-69FAFB2FB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868-C5B4-46D1-8358-CABC6EC6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867-F488-4DD1-B253-B444496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7F5-ADD8-40A2-9449-D937DEF7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74C-F566-4D68-883D-4978D552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8B07-2A6D-49D1-B3B6-50E3B7D7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7F0C-7CE9-4EDA-8D53-85DD596A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B8D-694A-467F-A090-D3F8BAC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6F8-E8BC-464B-8D4E-49540B5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DDF-1F96-438A-90F8-90B9B67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636-CD9F-4DE9-94B6-97A6B5D8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D1B-8B76-4745-A970-B033ABB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E7C-078E-4BEC-9225-6F82140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A50D-664F-40F0-924F-BFF2AAF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E470-0D11-4F2B-82D8-CDD09753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3E5-0EE3-49A5-92F6-E84901A0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C2A3-6B26-4D07-A20B-B48A9FC8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55D-6F6B-469D-ACEF-EB40B2A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1878-3ABB-4E71-BC3B-06A72B47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1DEB-785E-4707-97A0-236C0F01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E1C3-089C-41E0-B235-219F499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8B22-1F58-422E-9A27-A162F43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726D-1881-4F38-88D4-BEC86F0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A3B-425F-48FE-9109-F7D08CD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A575-AF37-482B-83BD-DCD83B0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154D-E907-45F1-A400-07F9DB8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574B-D261-4BBF-A376-181433E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8ED2-ED45-4B8E-A693-CB978ED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6C9D-D89D-4112-8BB8-56C27167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B978-5E7F-40B9-9C67-A1315CC6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CCFE-0E34-4906-A8D6-8983E4C9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E300-ED36-48BE-803F-00399568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0627-950F-4D22-8DA3-EBBE3434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37A5-FCC5-42E4-B433-C659DEF6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C92-18A0-467E-8508-5C6EF9D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C2B4-B818-45AB-9F22-64B3BDE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A94F-AB11-47AE-81F3-E06A3230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E785-2124-4B97-814A-22B7AA8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6BC6-2776-4392-95A0-6FD7337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89F07-DF2A-4693-957F-7DD691F9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0576-C94A-4CBE-BF01-75E4393C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8F05-A5D7-4E55-A0BF-A17905B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CC2E-5044-4282-8CF6-DB5FAB8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8CB7-9074-4B50-9BEC-38582A74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5CF-D4E9-4EDC-815F-491DAFC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2CD-58F7-4936-963C-4747479D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493-3B3E-4427-A196-B7A8BD1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3CE-5D1A-47B7-953E-02DC24D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30D-22B7-486A-8B5F-189E8B3F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CD8C-3D7F-4671-A1A5-0BD78E140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4E9C-564E-4353-A295-674772204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DD9-6D46-4AE7-9CD3-19082D08DB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48BF-25F8-46DF-AA29-6BCFDE29C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D377-CB06-4696-9F6D-B382ADFDCC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697C-6E60-4C7E-9A9B-82B9C5BCF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379B-85BC-46A1-9AB9-D2D3E793A0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B0E-ACBE-4999-B512-097EDF3C6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3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Group 3" descr=""/>
          <p:cNvPicPr/>
          <p:nvPr/>
        </p:nvPicPr>
        <p:blipFill>
          <a:blip r:embed="rId1"/>
          <a:stretch/>
        </p:blipFill>
        <p:spPr>
          <a:xfrm>
            <a:off x="933480" y="18900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34" name="Rounded Rectangle 4"/>
          <p:cNvGrpSpPr/>
          <p:nvPr/>
        </p:nvGrpSpPr>
        <p:grpSpPr>
          <a:xfrm>
            <a:off x="1000080" y="2498760"/>
            <a:ext cx="2449440" cy="665280"/>
            <a:chOff x="1000080" y="2498760"/>
            <a:chExt cx="2449440" cy="665280"/>
          </a:xfrm>
        </p:grpSpPr>
        <p:pic>
          <p:nvPicPr>
            <p:cNvPr id="235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000080" y="24987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66680" y="25146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7" name="Group 28" descr=""/>
          <p:cNvPicPr/>
          <p:nvPr/>
        </p:nvPicPr>
        <p:blipFill>
          <a:blip r:embed="rId3"/>
          <a:stretch/>
        </p:blipFill>
        <p:spPr>
          <a:xfrm>
            <a:off x="5121360" y="18900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Group 48" descr=""/>
          <p:cNvPicPr/>
          <p:nvPr/>
        </p:nvPicPr>
        <p:blipFill>
          <a:blip r:embed="rId4"/>
          <a:stretch/>
        </p:blipFill>
        <p:spPr>
          <a:xfrm>
            <a:off x="2000160" y="3097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1" descr=""/>
          <p:cNvPicPr/>
          <p:nvPr/>
        </p:nvPicPr>
        <p:blipFill>
          <a:blip r:embed="rId5"/>
          <a:stretch/>
        </p:blipFill>
        <p:spPr>
          <a:xfrm>
            <a:off x="20001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0" name="Group 58" descr=""/>
          <p:cNvPicPr/>
          <p:nvPr/>
        </p:nvPicPr>
        <p:blipFill>
          <a:blip r:embed="rId6"/>
          <a:stretch/>
        </p:blipFill>
        <p:spPr>
          <a:xfrm>
            <a:off x="2000160" y="4011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1" name="Group 64" descr=""/>
          <p:cNvPicPr/>
          <p:nvPr/>
        </p:nvPicPr>
        <p:blipFill>
          <a:blip r:embed="rId7"/>
          <a:stretch/>
        </p:blipFill>
        <p:spPr>
          <a:xfrm>
            <a:off x="61149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48" descr=""/>
          <p:cNvPicPr/>
          <p:nvPr/>
        </p:nvPicPr>
        <p:blipFill>
          <a:blip r:embed="rId8"/>
          <a:stretch/>
        </p:blipFill>
        <p:spPr>
          <a:xfrm>
            <a:off x="2000160" y="21826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Rounded Rectangle 4"/>
          <p:cNvGrpSpPr/>
          <p:nvPr/>
        </p:nvGrpSpPr>
        <p:grpSpPr>
          <a:xfrm>
            <a:off x="1000080" y="3413160"/>
            <a:ext cx="2449440" cy="665280"/>
            <a:chOff x="1000080" y="3413160"/>
            <a:chExt cx="2449440" cy="665280"/>
          </a:xfrm>
        </p:grpSpPr>
        <p:pic>
          <p:nvPicPr>
            <p:cNvPr id="244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000080" y="34131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66680" y="34290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Rounded Rectangle 4"/>
          <p:cNvGrpSpPr/>
          <p:nvPr/>
        </p:nvGrpSpPr>
        <p:grpSpPr>
          <a:xfrm>
            <a:off x="993600" y="4237200"/>
            <a:ext cx="2517840" cy="779400"/>
            <a:chOff x="993600" y="4237200"/>
            <a:chExt cx="2517840" cy="779400"/>
          </a:xfrm>
        </p:grpSpPr>
        <p:pic>
          <p:nvPicPr>
            <p:cNvPr id="247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93600" y="423720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66680" y="43434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1000080" y="5224320"/>
            <a:ext cx="2449440" cy="779760"/>
            <a:chOff x="1000080" y="5224320"/>
            <a:chExt cx="2449440" cy="779760"/>
          </a:xfrm>
        </p:grpSpPr>
        <p:pic>
          <p:nvPicPr>
            <p:cNvPr id="250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1000080" y="5224320"/>
              <a:ext cx="24494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66680" y="5334120"/>
              <a:ext cx="231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3736800" y="1432080"/>
            <a:ext cx="2505240" cy="1353960"/>
            <a:chOff x="3736800" y="1432080"/>
            <a:chExt cx="2505240" cy="1353960"/>
          </a:xfrm>
        </p:grpSpPr>
        <p:pic>
          <p:nvPicPr>
            <p:cNvPr id="253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736800" y="1432080"/>
              <a:ext cx="25052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809880" y="1447920"/>
              <a:ext cx="2319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1000080" y="1127160"/>
            <a:ext cx="2455920" cy="1122480"/>
            <a:chOff x="1000080" y="1127160"/>
            <a:chExt cx="2455920" cy="1122480"/>
          </a:xfrm>
        </p:grpSpPr>
        <p:pic>
          <p:nvPicPr>
            <p:cNvPr id="256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1000080" y="1127160"/>
              <a:ext cx="2455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66680" y="1143000"/>
              <a:ext cx="2319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8" name="Group 58" descr=""/>
          <p:cNvPicPr/>
          <p:nvPr/>
        </p:nvPicPr>
        <p:blipFill>
          <a:blip r:embed="rId14"/>
          <a:stretch/>
        </p:blipFill>
        <p:spPr>
          <a:xfrm>
            <a:off x="2000160" y="49258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59" name="Rounded Rectangle 4"/>
          <p:cNvGrpSpPr/>
          <p:nvPr/>
        </p:nvGrpSpPr>
        <p:grpSpPr>
          <a:xfrm>
            <a:off x="6486480" y="1504800"/>
            <a:ext cx="2505240" cy="1281240"/>
            <a:chOff x="6486480" y="1504800"/>
            <a:chExt cx="2505240" cy="1281240"/>
          </a:xfrm>
        </p:grpSpPr>
        <p:pic>
          <p:nvPicPr>
            <p:cNvPr id="26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86480" y="1504800"/>
              <a:ext cx="2505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080" y="1523880"/>
              <a:ext cx="231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Group 48" descr=""/>
          <p:cNvPicPr/>
          <p:nvPr/>
        </p:nvPicPr>
        <p:blipFill>
          <a:blip r:embed="rId16"/>
          <a:stretch/>
        </p:blipFill>
        <p:spPr>
          <a:xfrm>
            <a:off x="5425920" y="27925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63" name="Group 58" descr=""/>
          <p:cNvPicPr/>
          <p:nvPr/>
        </p:nvPicPr>
        <p:blipFill>
          <a:blip r:embed="rId17"/>
          <a:stretch/>
        </p:blipFill>
        <p:spPr>
          <a:xfrm>
            <a:off x="6114960" y="385920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64" name="Rounded Rectangle 4"/>
          <p:cNvGrpSpPr/>
          <p:nvPr/>
        </p:nvGrpSpPr>
        <p:grpSpPr>
          <a:xfrm>
            <a:off x="5114880" y="3333600"/>
            <a:ext cx="2449440" cy="671760"/>
            <a:chOff x="5114880" y="3333600"/>
            <a:chExt cx="2449440" cy="671760"/>
          </a:xfrm>
        </p:grpSpPr>
        <p:pic>
          <p:nvPicPr>
            <p:cNvPr id="265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114880" y="3333600"/>
              <a:ext cx="2449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81480" y="33526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Rounded Rectangle 4"/>
          <p:cNvGrpSpPr/>
          <p:nvPr/>
        </p:nvGrpSpPr>
        <p:grpSpPr>
          <a:xfrm>
            <a:off x="5108400" y="4164120"/>
            <a:ext cx="2517840" cy="772920"/>
            <a:chOff x="5108400" y="4164120"/>
            <a:chExt cx="2517840" cy="772920"/>
          </a:xfrm>
        </p:grpSpPr>
        <p:pic>
          <p:nvPicPr>
            <p:cNvPr id="268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108400" y="4164120"/>
              <a:ext cx="25178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1480" y="42670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114880" y="5187960"/>
            <a:ext cx="2449440" cy="798480"/>
            <a:chOff x="5114880" y="5187960"/>
            <a:chExt cx="2449440" cy="798480"/>
          </a:xfrm>
        </p:grpSpPr>
        <p:pic>
          <p:nvPicPr>
            <p:cNvPr id="271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114880" y="5187960"/>
              <a:ext cx="2449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81480" y="52578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3" name="Group 58" descr=""/>
          <p:cNvPicPr/>
          <p:nvPr/>
        </p:nvPicPr>
        <p:blipFill>
          <a:blip r:embed="rId21"/>
          <a:stretch/>
        </p:blipFill>
        <p:spPr>
          <a:xfrm>
            <a:off x="6114960" y="48466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48" descr=""/>
          <p:cNvPicPr/>
          <p:nvPr/>
        </p:nvPicPr>
        <p:blipFill>
          <a:blip r:embed="rId22"/>
          <a:stretch/>
        </p:blipFill>
        <p:spPr>
          <a:xfrm>
            <a:off x="6877080" y="2792520"/>
            <a:ext cx="450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200240" y="878040"/>
            <a:ext cx="2993760" cy="452916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4" descr=""/>
          <p:cNvPicPr/>
          <p:nvPr/>
        </p:nvPicPr>
        <p:blipFill>
          <a:blip r:embed="rId2"/>
          <a:stretch/>
        </p:blipFill>
        <p:spPr>
          <a:xfrm>
            <a:off x="4584600" y="884160"/>
            <a:ext cx="2590920" cy="4516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447920" y="54100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Group 3" descr=""/>
          <p:cNvPicPr/>
          <p:nvPr/>
        </p:nvPicPr>
        <p:blipFill>
          <a:blip r:embed="rId1"/>
          <a:stretch/>
        </p:blipFill>
        <p:spPr>
          <a:xfrm>
            <a:off x="1695600" y="87804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Rounded Rectangle 4"/>
          <p:cNvGrpSpPr/>
          <p:nvPr/>
        </p:nvGrpSpPr>
        <p:grpSpPr>
          <a:xfrm>
            <a:off x="1689120" y="3638520"/>
            <a:ext cx="2444760" cy="744480"/>
            <a:chOff x="1689120" y="3638520"/>
            <a:chExt cx="2444760" cy="744480"/>
          </a:xfrm>
        </p:grpSpPr>
        <p:pic>
          <p:nvPicPr>
            <p:cNvPr id="197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689120" y="3638520"/>
              <a:ext cx="2444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752480" y="36576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Rounded Rectangle 4"/>
          <p:cNvGrpSpPr/>
          <p:nvPr/>
        </p:nvGrpSpPr>
        <p:grpSpPr>
          <a:xfrm>
            <a:off x="1663560" y="4784760"/>
            <a:ext cx="2481480" cy="847800"/>
            <a:chOff x="1663560" y="4784760"/>
            <a:chExt cx="2481480" cy="847800"/>
          </a:xfrm>
        </p:grpSpPr>
        <p:pic>
          <p:nvPicPr>
            <p:cNvPr id="20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63560" y="4784760"/>
              <a:ext cx="2481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52480" y="4800600"/>
              <a:ext cx="2286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Rounded Rectangle 4"/>
          <p:cNvGrpSpPr/>
          <p:nvPr/>
        </p:nvGrpSpPr>
        <p:grpSpPr>
          <a:xfrm>
            <a:off x="4505400" y="4784760"/>
            <a:ext cx="2475000" cy="896760"/>
            <a:chOff x="4505400" y="4784760"/>
            <a:chExt cx="2475000" cy="896760"/>
          </a:xfrm>
        </p:grpSpPr>
        <p:pic>
          <p:nvPicPr>
            <p:cNvPr id="20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505400" y="478476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0" y="48006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" name="Rounded Rectangle 4"/>
          <p:cNvGrpSpPr/>
          <p:nvPr/>
        </p:nvGrpSpPr>
        <p:grpSpPr>
          <a:xfrm>
            <a:off x="4505400" y="3565440"/>
            <a:ext cx="2449440" cy="847800"/>
            <a:chOff x="4505400" y="3565440"/>
            <a:chExt cx="2449440" cy="847800"/>
          </a:xfrm>
        </p:grpSpPr>
        <p:pic>
          <p:nvPicPr>
            <p:cNvPr id="20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565440"/>
              <a:ext cx="2449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0" y="35812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Rounded Rectangle 4"/>
          <p:cNvGrpSpPr/>
          <p:nvPr/>
        </p:nvGrpSpPr>
        <p:grpSpPr>
          <a:xfrm>
            <a:off x="4505400" y="2651040"/>
            <a:ext cx="2455920" cy="622440"/>
            <a:chOff x="4505400" y="2651040"/>
            <a:chExt cx="2455920" cy="622440"/>
          </a:xfrm>
        </p:grpSpPr>
        <p:pic>
          <p:nvPicPr>
            <p:cNvPr id="20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65104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26668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" name="Rounded Rectangle 4"/>
          <p:cNvGrpSpPr/>
          <p:nvPr/>
        </p:nvGrpSpPr>
        <p:grpSpPr>
          <a:xfrm>
            <a:off x="4505400" y="1657440"/>
            <a:ext cx="2449440" cy="622080"/>
            <a:chOff x="4505400" y="1657440"/>
            <a:chExt cx="2449440" cy="622080"/>
          </a:xfrm>
        </p:grpSpPr>
        <p:pic>
          <p:nvPicPr>
            <p:cNvPr id="21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657440"/>
              <a:ext cx="2449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72000" y="16765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4" name="Group 28" descr=""/>
          <p:cNvPicPr/>
          <p:nvPr/>
        </p:nvPicPr>
        <p:blipFill>
          <a:blip r:embed="rId8"/>
          <a:stretch/>
        </p:blipFill>
        <p:spPr>
          <a:xfrm>
            <a:off x="4511520" y="878040"/>
            <a:ext cx="2401920" cy="792000"/>
          </a:xfrm>
          <a:prstGeom prst="rect">
            <a:avLst/>
          </a:prstGeom>
          <a:ln w="0">
            <a:noFill/>
          </a:ln>
        </p:spPr>
      </p:pic>
      <p:pic>
        <p:nvPicPr>
          <p:cNvPr id="215" name="Group 48" descr=""/>
          <p:cNvPicPr/>
          <p:nvPr/>
        </p:nvPicPr>
        <p:blipFill>
          <a:blip r:embed="rId9"/>
          <a:stretch/>
        </p:blipFill>
        <p:spPr>
          <a:xfrm>
            <a:off x="2682720" y="43894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51" descr=""/>
          <p:cNvPicPr/>
          <p:nvPr/>
        </p:nvPicPr>
        <p:blipFill>
          <a:blip r:embed="rId10"/>
          <a:stretch/>
        </p:blipFill>
        <p:spPr>
          <a:xfrm>
            <a:off x="2682720" y="279252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4"/>
          <p:cNvSpPr/>
          <p:nvPr/>
        </p:nvSpPr>
        <p:spPr>
          <a:xfrm>
            <a:off x="7238880" y="2590920"/>
            <a:ext cx="152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GEF Secretariat will follow the World Bank procedures in approving the  proposal with final target of sending a Grant Agreement to the recipient country and to be signed between CEO and the count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Group 58" descr=""/>
          <p:cNvPicPr/>
          <p:nvPr/>
        </p:nvPicPr>
        <p:blipFill>
          <a:blip r:embed="rId11"/>
          <a:stretch/>
        </p:blipFill>
        <p:spPr>
          <a:xfrm>
            <a:off x="5505480" y="43894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61" descr=""/>
          <p:cNvPicPr/>
          <p:nvPr/>
        </p:nvPicPr>
        <p:blipFill>
          <a:blip r:embed="rId12"/>
          <a:stretch/>
        </p:blipFill>
        <p:spPr>
          <a:xfrm>
            <a:off x="5425920" y="317016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64" descr=""/>
          <p:cNvPicPr/>
          <p:nvPr/>
        </p:nvPicPr>
        <p:blipFill>
          <a:blip r:embed="rId13"/>
          <a:stretch/>
        </p:blipFill>
        <p:spPr>
          <a:xfrm>
            <a:off x="5425920" y="2182680"/>
            <a:ext cx="505080" cy="517680"/>
          </a:xfrm>
          <a:prstGeom prst="rect">
            <a:avLst/>
          </a:prstGeom>
          <a:ln w="0">
            <a:noFill/>
          </a:ln>
        </p:spPr>
      </p:pic>
      <p:grpSp>
        <p:nvGrpSpPr>
          <p:cNvPr id="221" name="Rounded Rectangle 4"/>
          <p:cNvGrpSpPr/>
          <p:nvPr/>
        </p:nvGrpSpPr>
        <p:grpSpPr>
          <a:xfrm>
            <a:off x="1689120" y="1809720"/>
            <a:ext cx="2444760" cy="824040"/>
            <a:chOff x="1689120" y="1809720"/>
            <a:chExt cx="2444760" cy="824040"/>
          </a:xfrm>
        </p:grpSpPr>
        <p:pic>
          <p:nvPicPr>
            <p:cNvPr id="222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809720"/>
              <a:ext cx="2444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52480" y="18288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Expedited Enabl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2-04-10T16:55:51Z</dcterms:modified>
  <cp:revision>249</cp:revision>
  <dc:subject/>
  <dc:title>Slide 1</dc:title>
</cp:coreProperties>
</file>