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8680141-4BE7-4291-B73C-515A350EC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3211AEE-F9A3-404F-945A-43F8115D4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Верхний колонтитул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Дата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Нижний колонтитул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Номер слайда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E30E2BB-FF18-433B-9B59-56DB196A2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3EE-0292-43E8-805D-13BA3638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AAF-907B-4E92-8CAD-27671F6B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2C5E-B809-4F3B-AE1B-A4AF02B5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6B518-853C-49C9-97CD-5C3C3099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118A5-779C-4FE9-BEAB-6B8289A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91E98-81FC-4E2B-8AE3-7DA87CC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AD583-2247-44F4-8157-355EDDC9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FA99D-621F-4E9A-84CE-F584E53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C43ED-C0D8-431E-8BF2-719A8655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1D93F-977B-4981-B7DA-2C2A8E0D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CC23C-5545-400F-B12A-43E14CD8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CDAF9-A2B3-4A75-899F-688FD191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7D5-6F82-4947-B2BD-85BAC353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0792B-75C6-4A7F-B700-0963B33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4DD82-B2F9-49D8-ACBB-2327812D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7D126-6F68-4701-AE50-39E4D58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8BBE0-FEC7-4800-BD4D-1A7D33E8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82087-507A-4284-AC6C-52CFA855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D5CEE-3F62-4B83-B279-7C93325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D5669-2EC9-4CF6-8BB9-E87A03F7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110B1-3EA8-456D-8088-7DA70F9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99D13-9AE8-42E7-B202-CEB904CE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EC27C-CC43-48B0-9F5B-C4D46F44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C3B-30A8-47FE-9427-2A0E274E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834A6-B1A0-4B53-9411-89AA18FA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4A894-A11B-425C-9299-5260198D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7CB0C-7307-4755-BE51-1A68F73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9A362-C3B0-4D51-BC61-EA0FE921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1CE50-C678-4BB0-A8B5-2CA65CE3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494B1-09D8-4FA2-AD2D-5C3F1E91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1C36E-2EF8-401A-B2A7-FBBF1903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13072-1226-4A21-A14F-5183122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9C41-5E62-45D1-B30E-68D11C0A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4A4D8-A69E-4CE5-AC82-E2FFD09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F55-9AAC-49BB-8A39-03845189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3EA85-3044-4C60-A1E2-0CD249C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B9BE1-2F3F-49C3-8DF4-2B665D69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74FF7-BD2C-402C-B091-C6773764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7BDE1-37F9-4C81-8808-3509C46E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E2B87-4F3A-4D68-82F2-E6792454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7DF70-291D-4EB8-A41D-D82FBC60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83D58-3DBE-4FD8-9A67-BD8E27D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78DD8-70D1-4699-8ACE-678F75FD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220B0-083C-4216-82D9-685BDD79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FD0BE-07B6-490F-AF00-5310F4EF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8FE3-AC62-404B-B4E6-BD0C9F87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354BF-770A-4756-A649-E44FA6AD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D4FD2-AAA3-47AB-A8E7-730DB74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DBC1F-C3B6-4CE8-8747-3DCB6A84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100EF-CCFD-421D-B378-6D6B2261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7A87B-09E5-4FB0-BC6F-C02F1263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14D80-C6C2-4099-8455-B2926E0E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A9B01-56A1-4282-A93F-085007AB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48112-FA44-4483-8DF6-3268F1A2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AE1BF-ACB6-42A6-AB72-AA5A37EC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DF590-CF98-41F5-A5AB-223C41C6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459E-0CC0-4DE9-BB75-0A61D67E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F0FD0-32BA-4642-B3C5-7A7B397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CF79B-0BED-4E99-A5F5-4C03B236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FDF8E-921A-4557-8080-B91FF89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22E83-78F9-43D6-BB60-205781F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F55B2-9088-44FF-8F3B-987B3870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69B79-FEB1-4F55-B328-2AA54D29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53D9B-B904-4D3C-9795-E98B447C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C3A9-B6B2-40FB-A2F9-98DC18BF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0C0D-0264-4AAB-BFCB-2C31C2F3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34C-F097-4D65-8A93-A423B985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FFE8-8F33-49BB-B51B-FB8D91AE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741-14C3-44CA-9034-A1DE9EFB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AE05-6A0F-4886-9BD0-4ED9D206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DB73-5EDF-4A50-8E36-CD40D44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96B9-C2C7-442B-9569-D420F776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2494-133B-43BB-A6CD-5C156D45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88FC-3C1B-486A-A426-269F8393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4417-C268-4266-A915-46CB6F20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21BA-65C8-40FB-9BFC-F0FD5626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71CA-5C5C-443C-AB36-2682F09A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A979-BB85-4AC7-9314-6F64C301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DCEC-0CA4-4662-9C75-C45DD25B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549-F27C-4929-883F-7AE1AC54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FEF4-77AD-4B97-B57E-B3E8BA24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C17D-E626-420B-AC51-6E8218B1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26CA-AB02-4042-BD6C-55532DB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92AA-8B65-427F-A39F-3423F32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6F88-9F68-4C0D-B927-EC9EDCF8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6E79-45EB-4BDC-A128-B953B657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CC0F-765E-48FB-9A2E-B94063D6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91F5-34F9-4221-AE75-AEEB8916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FB728-5071-417C-A026-D6A0ABBC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089A-B07F-4F32-8196-38C787D1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A50-D991-4D0C-8A35-81EA1A4F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5D614-83FD-495A-A369-081F26FA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8ED7-1B80-42CA-9E43-8605BEEF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93B6-4B2B-41A9-BCFF-5660E457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1DB3-42F2-4975-9C47-D4D7BB2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11CE-EF5A-4541-9E8D-9A504D7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C5E91-C0E6-4297-9504-1EC9FF6F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1C83-7CF1-4BB8-AD53-B612968A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7E17-B94D-49D8-8501-07E83CCA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5E09-5A27-4399-8B0A-89DE7938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D52E-DCB1-49F1-8F12-19806A59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65B-0F42-4E92-B084-133CE111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63A5-7732-4EF1-8193-ED40A249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EE5C-AAB0-4AB4-AE3D-3450317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010B-E5F9-4DB5-9C27-9DFB2010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F8450-EE3D-4E0E-A92B-D32BAF17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77454-C04D-454A-9802-423D9490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001C-3267-4706-844C-B171708E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61344-519D-4CAB-8B5E-847BFEC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FDE3D-70D7-4049-A1D4-0A108EB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F769-43EA-4068-9BAB-D372661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B3A9-768E-4F82-8251-D6D594F8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CF0-B879-4869-9FCB-26A6646B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69AC2-5353-4D97-BF49-2CB7CE09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968DB-D01A-4BAA-89D1-C1628892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4360B-6A6E-457C-8C22-491F2617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D0B4-2CC8-45C0-A3DD-252FC3D4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CF17-24CE-49A6-B351-F050DAD9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F313F-44E3-4F91-A7A1-C8D0C458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D0C1-0EDA-4DC3-9688-2DAA684F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6277E-CDC1-4E57-A4C0-7BB2398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2F26B-FD1D-4A02-8710-024D880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89046-343D-4CE2-9422-38D9456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CD0-CC6E-4FD0-AF46-E33F6FC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4E735-FFE2-4DBC-B84F-4D08C41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1DAE5-6733-4E68-95E5-7643C75B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858CD-571A-45A0-A503-6A3DA037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3285E-B626-47F5-8127-78873966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9B8D2-25F8-4CF1-AA34-734DBB1E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CB83-3931-475C-BA2C-E71F784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73E5B-8099-435E-BB4B-E53389B7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3035-35FC-4B28-ABB6-014FF72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6491C-2257-4E22-94E9-7686B4C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F8A3C-307A-4869-9F8C-A3A70629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CD4-D6E1-4772-8A79-176551FB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CC10C-88CE-4547-B0DE-84EA1326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7ED57-9C6A-4D7D-92CD-C32AC12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3D133-5E88-41F5-838A-A9B3AFC4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47EC5-E150-4232-9E82-597CF445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1DFB6-DA0D-4E8F-933F-3254C8EB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D0DE4-16C0-4152-B542-72A03641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C9C1D-BC1D-409B-9E6D-90B0F47E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D286A-5356-43F2-A57A-D7C192A8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BA5B6-FAFA-400A-BEB1-F88242FD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024A3-15AA-408A-98EE-1818064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332-CC38-48BA-861D-E6F80F13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2962-A886-4E8D-8EE8-A9565336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328A9-16C4-4219-AD9C-6DAAF65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80905-8DBA-468C-BD62-A567B1B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63EC2-6F52-42B4-B2BE-DDDFBBDC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64F1D-7DAF-4C1E-B267-8D8D6141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75A67-698C-4663-962B-83570573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34306-8293-40FF-8AC6-6A012B89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C90F7-3805-4C19-9743-0E0BFDBE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576F5-3440-4CB7-B91F-8EEAC3EB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17AF0-22A9-4426-BF8F-C036D93C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F30E-5B01-43E6-9568-FAF2045F6B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8C83-E7E5-4A9C-AA3F-89FC38BA4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B87B-8CCB-400D-9DB9-2AF339575F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DB0-DA82-405B-BED3-59595BA0E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5440-FF28-44A1-852A-3715046F80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44F2-729C-4A9B-9913-9A09EA27D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747E-6325-4465-BCF6-A6B495D5074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8D56-787B-4C89-8BA9-7F3B89F88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EDDC-EEE1-49DA-88BC-EA664519FA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4756-C6A9-42FA-9BF6-9AB328CE2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CE73-8761-4338-9D02-407042FC69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6D93-17F4-4820-A881-BBC480FEB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3467-CAF6-490C-AECA-C1AB23AD1CD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131D-9053-4BF8-AF7C-C6ED6CFDE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93F2-DFAC-4AA4-94FE-CA88F46CD1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F5D-BD27-49FE-8D67-CB8F5EA1A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2A10-610F-49D5-9577-83D55A4B3FB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0400-2C74-47C8-AAF7-D55BAED28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548E-7D66-418A-9356-9326E8ECDE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1092-1C79-45B7-A630-E1DFF96C5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8B83-DCED-4B88-B6DB-656FC04E5D6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17B4-EC9D-455B-A856-31B4D541E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F20B-8F0B-42E3-B481-8DFB94C331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80AC-AB06-4AE2-AC6A-60C7B87E2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4C2E-D51E-4E10-898F-7FEF59A7CDD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32C7-A179-4DAF-B7E8-DE5AAA8F8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3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25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42d"/>
                </a:solidFill>
                <a:latin typeface="Calibri"/>
              </a:rPr>
              <a:t>Проектный цикл ГЭ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333440" y="3809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расширенном состав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6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Ускоренная процедура утверждения стимулирующих мероприят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624" name="Rounded Rectangle 4"/>
          <p:cNvGrpSpPr/>
          <p:nvPr/>
        </p:nvGrpSpPr>
        <p:grpSpPr>
          <a:xfrm>
            <a:off x="1762200" y="4170240"/>
            <a:ext cx="2371680" cy="749520"/>
            <a:chOff x="1762200" y="4170240"/>
            <a:chExt cx="2371680" cy="749520"/>
          </a:xfrm>
        </p:grpSpPr>
        <p:pic>
          <p:nvPicPr>
            <p:cNvPr id="625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371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тельство страны и ИД ГЭФ заключают соглашение о гранте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28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Rounded Rectangle 4"/>
          <p:cNvGrpSpPr/>
          <p:nvPr/>
        </p:nvGrpSpPr>
        <p:grpSpPr>
          <a:xfrm>
            <a:off x="4505400" y="5315040"/>
            <a:ext cx="2449440" cy="896760"/>
            <a:chOff x="4505400" y="5315040"/>
            <a:chExt cx="2449440" cy="896760"/>
          </a:xfrm>
        </p:grpSpPr>
        <p:pic>
          <p:nvPicPr>
            <p:cNvPr id="631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494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34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тверждает ВМ после его утверждения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6" name="Rounded Rectangle 4"/>
          <p:cNvGrpSpPr/>
          <p:nvPr/>
        </p:nvGrpSpPr>
        <p:grpSpPr>
          <a:xfrm>
            <a:off x="4492800" y="3181320"/>
            <a:ext cx="2474640" cy="622440"/>
            <a:chOff x="4492800" y="3181320"/>
            <a:chExt cx="2474640" cy="622440"/>
          </a:xfrm>
        </p:grpSpPr>
        <p:pic>
          <p:nvPicPr>
            <p:cNvPr id="637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492800" y="3181320"/>
              <a:ext cx="24746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едставляет предложение на утверждение И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9" name="Rounded Rectangle 4"/>
          <p:cNvGrpSpPr/>
          <p:nvPr/>
        </p:nvGrpSpPr>
        <p:grpSpPr>
          <a:xfrm>
            <a:off x="4505400" y="2189160"/>
            <a:ext cx="2449440" cy="749160"/>
            <a:chOff x="4505400" y="2189160"/>
            <a:chExt cx="2449440" cy="749160"/>
          </a:xfrm>
        </p:grpSpPr>
        <p:pic>
          <p:nvPicPr>
            <p:cNvPr id="640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89160"/>
              <a:ext cx="24494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4572000" y="2209680"/>
              <a:ext cx="231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4"/>
          <p:cNvSpPr/>
          <p:nvPr/>
        </p:nvSpPr>
        <p:spPr>
          <a:xfrm>
            <a:off x="1219320" y="6172200"/>
            <a:ext cx="62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тверждении предложения Секретариат ГЭФ руководствуется процедурами Всемирного банка с учетом конечной цели  – направления соглашения о гранте стране, получающей помощь, и его подписания ИД и страной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6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48" name="Group 64" descr=""/>
          <p:cNvPicPr/>
          <p:nvPr/>
        </p:nvPicPr>
        <p:blipFill>
          <a:blip r:embed="rId14"/>
          <a:stretch/>
        </p:blipFill>
        <p:spPr>
          <a:xfrm>
            <a:off x="5425920" y="2792520"/>
            <a:ext cx="505080" cy="517320"/>
          </a:xfrm>
          <a:prstGeom prst="rect">
            <a:avLst/>
          </a:prstGeom>
          <a:ln w="0">
            <a:noFill/>
          </a:ln>
        </p:spPr>
      </p:pic>
      <p:grpSp>
        <p:nvGrpSpPr>
          <p:cNvPr id="649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5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утверждение 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2" name="Подзаголовок 2"/>
          <p:cNvSpPr/>
          <p:nvPr/>
        </p:nvSpPr>
        <p:spPr>
          <a:xfrm>
            <a:off x="50472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Подзаголовок 2"/>
          <p:cNvSpPr/>
          <p:nvPr/>
        </p:nvSpPr>
        <p:spPr>
          <a:xfrm>
            <a:off x="1247760" y="3920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Критерии оценки 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ветствие страны установленным критериям и ее заинтересованное участие в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 в сфере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я деятельности ГЭФ в данной тематиче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ительные пре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организаци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ь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и совместное финансирование проекта (б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и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гирование организации ГЭФ на замечания и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Утверждение страной</a:t>
            </a:r>
            <a:br>
              <a:rPr sz="3600"/>
            </a:br>
            <a:r>
              <a:rPr b="0" lang="en-US" sz="3000" spc="-1" strike="noStrike">
                <a:solidFill>
                  <a:srgbClr val="558ed5"/>
                </a:solidFill>
                <a:latin typeface="Calibri"/>
                <a:ea typeface="Arial"/>
              </a:rPr>
              <a:t>(</a:t>
            </a:r>
            <a:r>
              <a:rPr b="0" lang="ru-RU" sz="3000" spc="-1" strike="noStrike">
                <a:solidFill>
                  <a:srgbClr val="558ed5"/>
                </a:solidFill>
                <a:latin typeface="Calibri"/>
                <a:ea typeface="Arial"/>
              </a:rPr>
              <a:t>национальным координатором ГЭФ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ФОП должны быть утверждены ОКЦ ГЭФ при подаче на одобр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SP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утвержд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для которого требуется ГПП)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ительно к проектам, связанным с биоразнообразием, изменением климата и деградацией земельных ресурсов, должны применяться правила СТ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664" name="Подзаголовок 2"/>
          <p:cNvSpPr/>
          <p:nvPr/>
        </p:nvSpPr>
        <p:spPr>
          <a:xfrm>
            <a:off x="485640" y="541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Подзаголовок 2"/>
          <p:cNvSpPr/>
          <p:nvPr/>
        </p:nvSpPr>
        <p:spPr>
          <a:xfrm>
            <a:off x="1247760" y="46656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914040" y="20574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самостоятельным проектам: комиссионные в размер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уммы, выделенной ГЭФ на проек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 на проек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ещение агенству за разработку Программного подхода (ПП) зависит от вида организации ГЭФ, представляющей 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с Советом директоров, утверждающим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без Совета директоров, утверждающего проект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учае отмены проекта, все неиспользованные агентские комиссионные или определенные процентные доли подлежат возврату в Целевой фонд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ядок возврата комиссионных см. в документе Совет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"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GEF/C.23/8/Rev.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alibri"/>
                <a:ea typeface="Arial"/>
              </a:rPr>
              <a:t>Возмещение затрат ГЭФ Агенств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Подзаголовок 2"/>
          <p:cNvSpPr/>
          <p:nvPr/>
        </p:nvSpPr>
        <p:spPr>
          <a:xfrm>
            <a:off x="124776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граммные подх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33160" y="21733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а вида программных подходов, в зависимости от вида ГЭФ Агенства, представляющей програм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Советом директоров, утверждающим проекты – 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а, соответствующие критериям, дающим им право принимать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ез Совета директоров, утверждаю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екты – это ГЭФ Агенства не соответствующие таким критериям. Такие программы должны представляться учреждением по координации програм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7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80" name="Group 3" descr=""/>
          <p:cNvPicPr/>
          <p:nvPr/>
        </p:nvPicPr>
        <p:blipFill>
          <a:blip r:embed="rId2"/>
          <a:stretch/>
        </p:blipFill>
        <p:spPr>
          <a:xfrm>
            <a:off x="396720" y="890640"/>
            <a:ext cx="2932200" cy="706320"/>
          </a:xfrm>
          <a:prstGeom prst="rect">
            <a:avLst/>
          </a:prstGeom>
          <a:ln w="0">
            <a:noFill/>
          </a:ln>
        </p:spPr>
      </p:pic>
      <p:grpSp>
        <p:nvGrpSpPr>
          <p:cNvPr id="681" name="Rounded Rectangle 4"/>
          <p:cNvGrpSpPr/>
          <p:nvPr/>
        </p:nvGrpSpPr>
        <p:grpSpPr>
          <a:xfrm>
            <a:off x="927000" y="3170160"/>
            <a:ext cx="2444760" cy="779400"/>
            <a:chOff x="927000" y="3170160"/>
            <a:chExt cx="2444760" cy="779400"/>
          </a:xfrm>
        </p:grpSpPr>
        <p:pic>
          <p:nvPicPr>
            <p:cNvPr id="682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17016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тдельные ФОП в рамках программ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84" name="Group 28" descr=""/>
          <p:cNvPicPr/>
          <p:nvPr/>
        </p:nvPicPr>
        <p:blipFill>
          <a:blip r:embed="rId4"/>
          <a:stretch/>
        </p:blipFill>
        <p:spPr>
          <a:xfrm>
            <a:off x="5048280" y="914400"/>
            <a:ext cx="2475000" cy="682560"/>
          </a:xfrm>
          <a:prstGeom prst="rect">
            <a:avLst/>
          </a:prstGeom>
          <a:ln w="0">
            <a:noFill/>
          </a:ln>
        </p:spPr>
      </p:pic>
      <p:pic>
        <p:nvPicPr>
          <p:cNvPr id="685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6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7" name="Group 58" descr=""/>
          <p:cNvPicPr/>
          <p:nvPr/>
        </p:nvPicPr>
        <p:blipFill>
          <a:blip r:embed="rId7"/>
          <a:stretch/>
        </p:blipFill>
        <p:spPr>
          <a:xfrm>
            <a:off x="1920960" y="4621320"/>
            <a:ext cx="450720" cy="566640"/>
          </a:xfrm>
          <a:prstGeom prst="rect">
            <a:avLst/>
          </a:prstGeom>
          <a:ln w="0">
            <a:noFill/>
          </a:ln>
        </p:spPr>
      </p:pic>
      <p:pic>
        <p:nvPicPr>
          <p:cNvPr id="688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89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90" name="Rounded Rectangle 4"/>
          <p:cNvGrpSpPr/>
          <p:nvPr/>
        </p:nvGrpSpPr>
        <p:grpSpPr>
          <a:xfrm>
            <a:off x="927000" y="4084560"/>
            <a:ext cx="2462400" cy="779400"/>
            <a:chOff x="927000" y="4084560"/>
            <a:chExt cx="2462400" cy="779400"/>
          </a:xfrm>
        </p:grpSpPr>
        <p:pic>
          <p:nvPicPr>
            <p:cNvPr id="691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0845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3" name="Rounded Rectangle 4"/>
          <p:cNvGrpSpPr/>
          <p:nvPr/>
        </p:nvGrpSpPr>
        <p:grpSpPr>
          <a:xfrm>
            <a:off x="927000" y="4889520"/>
            <a:ext cx="2444760" cy="865080"/>
            <a:chOff x="927000" y="4889520"/>
            <a:chExt cx="2444760" cy="865080"/>
          </a:xfrm>
        </p:grpSpPr>
        <p:pic>
          <p:nvPicPr>
            <p:cNvPr id="694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4889520"/>
              <a:ext cx="24447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990720" y="495288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6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97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9" name="Rounded Rectangle 4"/>
          <p:cNvGrpSpPr/>
          <p:nvPr/>
        </p:nvGrpSpPr>
        <p:grpSpPr>
          <a:xfrm>
            <a:off x="3670200" y="2139840"/>
            <a:ext cx="2475000" cy="1560600"/>
            <a:chOff x="3670200" y="2139840"/>
            <a:chExt cx="2475000" cy="1560600"/>
          </a:xfrm>
        </p:grpSpPr>
        <p:pic>
          <p:nvPicPr>
            <p:cNvPr id="700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70200" y="2139840"/>
              <a:ext cx="24750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733920" y="2209680"/>
              <a:ext cx="2319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представляемый в виде ПР, и утверждает ФОП, представленные в составе ПРД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2" name="Rounded Rectangle 4"/>
          <p:cNvGrpSpPr/>
          <p:nvPr/>
        </p:nvGrpSpPr>
        <p:grpSpPr>
          <a:xfrm>
            <a:off x="927000" y="1884240"/>
            <a:ext cx="2444760" cy="1127160"/>
            <a:chOff x="927000" y="1884240"/>
            <a:chExt cx="2444760" cy="1127160"/>
          </a:xfrm>
        </p:grpSpPr>
        <p:pic>
          <p:nvPicPr>
            <p:cNvPr id="703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47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утем представления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5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706" name="Rounded Rectangle 4"/>
          <p:cNvGrpSpPr/>
          <p:nvPr/>
        </p:nvGrpSpPr>
        <p:grpSpPr>
          <a:xfrm>
            <a:off x="6381720" y="2266920"/>
            <a:ext cx="2549520" cy="1281240"/>
            <a:chOff x="6381720" y="2266920"/>
            <a:chExt cx="2549520" cy="1281240"/>
          </a:xfrm>
        </p:grpSpPr>
        <p:pic>
          <p:nvPicPr>
            <p:cNvPr id="707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381720" y="2266920"/>
              <a:ext cx="25495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оследующие ФОП в рамках ПРД, представленные в виде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9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711" name="Rounded Rectangle 4"/>
          <p:cNvGrpSpPr/>
          <p:nvPr/>
        </p:nvGrpSpPr>
        <p:grpSpPr>
          <a:xfrm>
            <a:off x="5041800" y="4005360"/>
            <a:ext cx="2462400" cy="779400"/>
            <a:chOff x="5041800" y="4005360"/>
            <a:chExt cx="2462400" cy="779400"/>
          </a:xfrm>
        </p:grpSpPr>
        <p:pic>
          <p:nvPicPr>
            <p:cNvPr id="712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053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4" name="Rounded Rectangle 4"/>
          <p:cNvGrpSpPr/>
          <p:nvPr/>
        </p:nvGrpSpPr>
        <p:grpSpPr>
          <a:xfrm>
            <a:off x="5041800" y="4809960"/>
            <a:ext cx="2444760" cy="865440"/>
            <a:chOff x="5041800" y="4809960"/>
            <a:chExt cx="2444760" cy="865440"/>
          </a:xfrm>
        </p:grpSpPr>
        <p:pic>
          <p:nvPicPr>
            <p:cNvPr id="715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4809960"/>
              <a:ext cx="24447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5105520" y="487692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7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718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20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721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  <p:sp>
        <p:nvSpPr>
          <p:cNvPr id="722" name="Подзаголовок 2"/>
          <p:cNvSpPr/>
          <p:nvPr/>
        </p:nvSpPr>
        <p:spPr>
          <a:xfrm>
            <a:off x="48564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 – </a:t>
            </a: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амостоятельные прое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П выдает ГЭФ научные и технические рекомендации по следующим вопроса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ом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ФОП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7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граммные подход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огич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SP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а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ПРД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е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3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ПАСИБО ЗА ВНИМАНИЕ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б-сайт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8" name="Подзаголовок 2"/>
          <p:cNvSpPr/>
          <p:nvPr/>
        </p:nvSpPr>
        <p:spPr>
          <a:xfrm>
            <a:off x="49536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ектный цикл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ый цикл ГЭФ – это процесс, в котором участвует целый ряд основных сторон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ны, агенства ГЭФ, Секретариат ГЭФ, Совет ГЭФ и партнер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ие важные партнеры выполняют вспомогательные функци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Доверительный управляющ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резервирует средства для конкретных проектов, принимает решения о выделении средств и непосредственно перечисляет их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ТАП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(Научно-техническая консультативная группа), которая оценивает проекты на начальной стадии и выносит рекомендации относительно проекта или программ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тдел оценк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оценивает завершенные проекты и результаты деятельности в тематических областях и проводит ежегодную оценку эффективности и результатов работ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екретариаты конвенц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акже предоставляют рекомендации и замечания относительно проект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49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Институциональная структура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екретариат ГЭ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5638680" y="2057400"/>
            <a:ext cx="1447920" cy="349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генства ГЭФ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ПРОО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Е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Всемирный бан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ф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ЕБР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А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ФРСХ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ИД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тдел оцен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А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овет ГЭФ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Члены Совета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уппы стран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сультации с 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10"/>
          <p:cNvSpPr/>
          <p:nvPr/>
        </p:nvSpPr>
        <p:spPr>
          <a:xfrm>
            <a:off x="228600" y="3886200"/>
            <a:ext cx="1523880" cy="874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вен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11"/>
          <p:cNvSpPr/>
          <p:nvPr/>
        </p:nvSpPr>
        <p:spPr>
          <a:xfrm>
            <a:off x="304920" y="2666880"/>
            <a:ext cx="1447560" cy="123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Ассамблея ГЭ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олитические координационны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Box 12"/>
          <p:cNvSpPr/>
          <p:nvPr/>
        </p:nvSpPr>
        <p:spPr>
          <a:xfrm>
            <a:off x="7467480" y="2827440"/>
            <a:ext cx="1524240" cy="2643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роек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Операционные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,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другие государственные учреждения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ажданск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64" name="Straight Arrow Connector 17"/>
          <p:cNvCxnSpPr>
            <a:endCxn id="557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5" name="Straight Arrow Connector 19"/>
          <p:cNvCxnSpPr>
            <a:endCxn id="557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6" name="Straight Arrow Connector 21"/>
          <p:cNvCxnSpPr>
            <a:stCxn id="555" idx="0"/>
            <a:endCxn id="557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7" name="Straight Arrow Connector 23"/>
          <p:cNvCxnSpPr>
            <a:stCxn id="557" idx="3"/>
            <a:endCxn id="553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8" name="Straight Arrow Connector 26"/>
          <p:cNvCxnSpPr>
            <a:stCxn id="553" idx="3"/>
            <a:endCxn id="554" idx="1"/>
          </p:cNvCxnSpPr>
          <p:nvPr/>
        </p:nvCxnSpPr>
        <p:spPr>
          <a:xfrm>
            <a:off x="5409720" y="3635280"/>
            <a:ext cx="229320" cy="185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9" name="Straight Arrow Connector 28"/>
          <p:cNvCxnSpPr>
            <a:stCxn id="554" idx="3"/>
            <a:endCxn id="560" idx="1"/>
          </p:cNvCxnSpPr>
          <p:nvPr/>
        </p:nvCxnSpPr>
        <p:spPr>
          <a:xfrm>
            <a:off x="7086600" y="3819240"/>
            <a:ext cx="381600" cy="345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0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Box 43"/>
          <p:cNvSpPr/>
          <p:nvPr/>
        </p:nvSpPr>
        <p:spPr>
          <a:xfrm>
            <a:off x="380880" y="1600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ратегическое руководств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Box 44"/>
          <p:cNvSpPr/>
          <p:nvPr/>
        </p:nvSpPr>
        <p:spPr>
          <a:xfrm>
            <a:off x="3809880" y="1752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перацион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Box 45"/>
          <p:cNvSpPr/>
          <p:nvPr/>
        </p:nvSpPr>
        <p:spPr>
          <a:xfrm>
            <a:off x="7543800" y="17524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Конкретные действ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96320" y="616896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962520" y="6172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5638680" y="61722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7315200" y="55627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ысел проекта, его согласова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ализация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т замысла проекта до его согласования/запроса на утверж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ысел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национального портфел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ульта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 определения проекта (ФО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нт на подготовку проекта (ГП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ом ГЭФ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ение в план работы и утверждение Сов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по проек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/согласование ИД и уведомление Сов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собенности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-5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ОП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яются на основе скользящего граф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полномасштабных проект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согласования Советом до утверждения ИД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среднемасштабных проектов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для проектов, которые представили запрос на 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утверждения ФОП ИД до утверждения им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ый рамочный докумен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Д) для программных подходов (ПП) может представляться только на заседаниях Совета, созываемых дважды в год (в мае и ноябр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2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полно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/Секретари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т утверждает план работы, включающий ФОП, утвержденные И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генство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утверждается агенством ГЭФ, и начинается реализация проек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ершение реализации, окончательная оценка и закрытие финанс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8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238400" y="466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средне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M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один эта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агенства ГЭФ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начинается его реализац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два эта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подачи запроса 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ся на утверждение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ает окончательный документ по проек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ГЭФ агенства, и начинается его реал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4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itle 1"/>
          <p:cNvSpPr/>
          <p:nvPr/>
        </p:nvSpPr>
        <p:spPr>
          <a:xfrm>
            <a:off x="1266840" y="106668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Среднемасштабные проек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Content Placeholder 3" descr=""/>
          <p:cNvPicPr/>
          <p:nvPr/>
        </p:nvPicPr>
        <p:blipFill>
          <a:blip r:embed="rId1"/>
          <a:stretch/>
        </p:blipFill>
        <p:spPr>
          <a:xfrm>
            <a:off x="1170000" y="1639800"/>
            <a:ext cx="3067200" cy="4529160"/>
          </a:xfrm>
          <a:prstGeom prst="rect">
            <a:avLst/>
          </a:prstGeom>
          <a:ln w="0">
            <a:noFill/>
          </a:ln>
        </p:spPr>
      </p:pic>
      <p:pic>
        <p:nvPicPr>
          <p:cNvPr id="609" name="Diagram 4" descr=""/>
          <p:cNvPicPr/>
          <p:nvPr/>
        </p:nvPicPr>
        <p:blipFill>
          <a:blip r:embed="rId2"/>
          <a:stretch/>
        </p:blipFill>
        <p:spPr>
          <a:xfrm>
            <a:off x="4511520" y="1573200"/>
            <a:ext cx="2554560" cy="45896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/>
          <p:cNvSpPr/>
          <p:nvPr/>
        </p:nvSpPr>
        <p:spPr>
          <a:xfrm>
            <a:off x="1371600" y="630396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ГЭФ одобряет проект после его утверждения ИД, и начинается его реализ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3"/>
          <a:stretch/>
        </p:blipFill>
        <p:spPr>
          <a:xfrm>
            <a:off x="0" y="763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612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Подзаголовок 2"/>
          <p:cNvSpPr/>
          <p:nvPr/>
        </p:nvSpPr>
        <p:spPr>
          <a:xfrm>
            <a:off x="1295280" y="303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ля вспомогательных мероприятий (два вариант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рямой доступ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ответствии с политикой в отношении прямого досту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на представляет предложение по ВМ для утверждения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и страна подписывают Соглашение о гранте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 отношении грантов на В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применительно к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всем организациям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йствуют следующие процедур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ИД предложение по В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ет собственные внутренние процедуры утверждения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61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9-30T05:59:53Z</cp:lastPrinted>
  <dcterms:modified xsi:type="dcterms:W3CDTF">2011-11-01T20:54:30Z</dcterms:modified>
  <cp:revision>647</cp:revision>
  <dc:subject/>
  <dc:title>Slide 1</dc:title>
</cp:coreProperties>
</file>