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257120" y="7171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0" y="9116640"/>
            <a:ext cx="317016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4142880" y="9116640"/>
            <a:ext cx="317052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355D3D63-18F5-46CC-A147-DAFB1C1E77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257480" y="7174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4143240" y="9117000"/>
            <a:ext cx="317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4A8B640D-FF6B-43F1-BAFE-F1294BA11F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Footer Placeholder 5"/>
          <p:cNvSpPr/>
          <p:nvPr/>
        </p:nvSpPr>
        <p:spPr>
          <a:xfrm>
            <a:off x="0" y="9117000"/>
            <a:ext cx="317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257480" y="7174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Верхний колонтитул 3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Дата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Нижний колонтитул 5"/>
          <p:cNvSpPr/>
          <p:nvPr/>
        </p:nvSpPr>
        <p:spPr>
          <a:xfrm>
            <a:off x="0" y="9117000"/>
            <a:ext cx="317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Номер слайда 6"/>
          <p:cNvSpPr/>
          <p:nvPr/>
        </p:nvSpPr>
        <p:spPr>
          <a:xfrm>
            <a:off x="4143240" y="9117000"/>
            <a:ext cx="317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EE8A02EC-9DD2-41CB-B29A-407D583371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CC19-DDAD-40EF-A9E2-79790AC55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51AC-F780-4651-9502-75698F6F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538946-D859-4DD7-8235-A676AAE3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42DE1-48C8-4BE1-A5FC-92B355B1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6B665-70CC-4D3A-811B-727FF39A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75FC1-2242-4085-8478-71A116EB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CD14A-9492-459D-99F3-9455E179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F18F6D-9C77-4ACC-AF31-E830EBF0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5FF4A-152D-403D-8DA3-CF6AFAC0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32371-9B51-456A-969D-59A192D4A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A04520-B47E-4A44-B95B-2F3905FA2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56D14C-D3BB-4DFC-859C-5C4339CC2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8FA5-F01B-4752-AC25-F25CDA363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325A2-FB5B-4D7C-A2FB-E08DEBA6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D02C23-A2C2-4389-9153-846D5145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A5B1AC-F7FC-4E3F-9F2D-F045E101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A7EB9-D884-4679-BE4E-3F2C062B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13C69A-F44A-4F87-AE00-7BB68368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21C77A-AA86-470A-8A25-1ADD2FAB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1144CF-B5F6-48CC-BD6A-68AF722B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FB385C-CDCD-45D6-9CB8-552B5A97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66DCB-D847-4075-B872-37EE4B15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8D9CA1-3FC3-4F73-8615-C73F4A74A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90BF-7A74-4D0E-A146-01FC866BC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CC94A-2B5A-49DF-B439-29620580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635F3-66C3-43CD-AED7-96CE7D204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82A0D-C33F-490A-A6E8-8C047585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E232A-F234-44F3-8CEF-B9AC84D2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E1637-83CC-44EC-A84C-E26E6EEE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141BE-F3A0-4357-893D-DF6E305A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6D57D-4047-4B76-917D-328D7C99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2FCAF-A94B-4BB4-A1B0-8D0DD70C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51D7D-C222-44C4-B3DF-9A67C7C8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EED86-34EC-4BCC-A6DD-E167DF30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160F-75C1-4387-BCE9-AB578FA54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1D571-3BD6-4E01-B365-272FC9FF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F6D99-D6DA-45D8-BCC9-099A212B1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1FBFA-B0F8-461E-B0BA-7688BF163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2C2977-11C8-438D-8598-60D7339DF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D25097-E4CA-4D65-94F9-2CF8BDE9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7F61A9-2413-4B09-9AAB-37098EC2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33F409-0EC8-4D97-91A1-E824D991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7BF852-0327-4EAC-B69D-11CD4CF2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FD1D18-7777-43B4-A324-B3B48AEE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584F29-81AE-4DF6-86C3-73A2CE7E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7F68-81BF-4476-B08F-8D96F6BE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666BAC-7ED7-4CC7-87E4-6458B8BC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021BC2-1EE8-43A9-AEF3-12E09CDB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598668-A660-435B-A726-8094A25F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A597F2-734F-4785-AC13-15D40126F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0D77A0-2CA9-440F-B353-6C9FB3B89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5DA505-44B2-4A92-828F-3DF1FDAA6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96CA23-58E0-4BE2-90D3-CD30DB33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807F17-59DF-4A89-8E02-6F444184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BBD835-62D6-4D54-8BC8-02B462E6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C368A9-6AB3-4E4B-BC73-134E962B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2221-66BA-47F0-A9CE-30CA5DED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78AC02-A80A-4BCD-9DFD-19FAA3A8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C5C051-6D72-4F10-A8EE-C3B2BD66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F68DE2-6DF1-474C-A1BD-70C85666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B4E106-BDD4-4846-8F2B-0D2BF0B7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E3211F-703A-4459-8287-476A1185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9FB4F3-BED4-48F7-9980-36B5D3B56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5E11D0-B92F-4C7F-8C1D-5B69D397F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7861-5994-40F0-A392-3AA9315F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446B-E081-4DED-B0F0-61D8E24C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F7CD-C941-422B-BB45-5545FA7B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D3C7-317B-4663-BC4A-8CBF52E9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3A2F-660D-48CF-B326-D0574FF0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F11A-174B-44EA-B747-E4EB40EA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5C91-28A2-48DA-8DD9-4F6713EE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C7CC-8B3F-4726-A14E-BA736C73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D406-DFF6-484B-A482-725F77218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FA50-4EBF-4781-9310-24845E39F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737FC-C453-4A3D-B2D6-C0865546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DA14E-2369-4951-A927-FCCC0815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FBACC-D727-4E0D-94CD-DEAA839F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F2B94-944D-44E4-8172-CB30963C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D9C96-A3E3-4911-A61B-03395FD8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15BE-0DDD-41D4-AB11-CAD36645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301D3-EF50-4B5B-B645-AF9FAD42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02B23-C803-499A-8888-F558360B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7C9E2-EFC1-4C08-BA94-22FAB366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F9BED-C4D3-400F-97DC-8BDD3075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11203-EDD4-4268-9383-0975403E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17FAA-68E2-4C60-B3AF-E44856D58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D69B4-BC32-4170-8276-5A5B2326F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8B34B-7F12-4642-9EB0-5E1FCECD8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81754-E261-40B7-A070-410C6430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0B47D-4EA0-4C09-ABF7-4A05B083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758E-1D53-4E0D-B030-8DDE717A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4A9CF-DC54-4698-ADD5-DDC11A67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A39B8-AB88-49BB-98C9-52579511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85857-2B01-4641-906D-F3CE3F80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36D6C-D196-438D-9695-F8932D8C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A78BD-7C68-4187-8F25-E3A44550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95222-E1BF-4730-8A50-1B2FC45F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4101C-D74F-4AC7-9472-3E95B354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6E67F-6B1D-422F-A64B-90469C0B6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73248-839D-431B-990B-A52BB638F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947FA-50C7-40E5-ADC9-6FE94C209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89B5-EECA-4C9A-B140-F135F56E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D6BF5-C7D0-4DAE-A98C-293F44B6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C960A-A8E0-4EA3-8499-F61FD77E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C1DB5-93BD-4579-82CC-D0F19393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3ED54-F94D-401E-A05C-87D9022D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AE204-0122-49CE-B5C1-EA0CD3E0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5BC3A-7E54-4E93-89D7-8E6837F5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03FE9-6122-47F0-87BE-FF357C0F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14334-8A6A-45C3-A40B-7B66FA8C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00DFE-D225-4B2C-8B43-7002C6CB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1042E-9A6C-4AB7-A1AF-5E63941F0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0F7F-109A-4B0F-A96B-8828778F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076B4-7B5D-4E52-B462-DA83D091E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304B1-C0E4-4CCA-AA4A-969281455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CCA70-11F9-44AE-B4D4-6E066848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DCA96-410F-4871-B1F3-5CC5309A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45E0F-3276-4B87-AB6A-C0B54358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682BA-3A2F-4735-8135-B117028A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51F20-ABC1-4A73-8B8F-183897E2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7A943-F66C-42E4-B65B-0E158197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CB848-F60B-45BC-B64F-415F983B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7E8F2-A8F1-41E1-98D5-8C208029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83CD-C4B6-4363-A078-6D7FBAA3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4E8BE-C057-475E-A569-81BBC24E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DE5CB-20DA-4299-A36C-380940A1F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9F1CF-AF04-4F84-AFC0-4C37E1E53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97FC5-7C25-4FA3-A8DB-9E82C5CB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BF912-B1E8-41B5-9D2D-AD6553B9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496EA-844E-45A0-8A06-475C4C22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F8CF0-FACB-40FB-B9EC-BEA7DC52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ABC08-3CC4-4057-9D8E-7838F65A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39C5E-3D58-4E70-8BA2-15B79FA7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A2F1C-8E89-4A0D-BD8B-71456354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DBAE-EDCB-40CA-9468-47C0980E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D4AC9-200D-4ACA-BF4F-74BB562D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2C5B9-B9AD-44CA-BF11-5EF166EC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CE4B3-EF13-4C83-AB10-D48A057A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4D140-90CF-45F8-BF6B-60CB717E2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9D92C-F787-4BDB-A56A-383535423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6F439-208A-4C12-AEFC-34E860E0F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1BDF5-B06A-4E0D-8122-3960B235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F7386-88FE-47A3-A2B5-508DFEBD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16EAD-7E17-4DFC-9601-799B273E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62CE2-5653-487B-A2AE-3A990025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44CA-7610-4B62-B8F5-175F11AD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E6541-AD07-4E13-8F65-F2BAE51A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7606A-1AC5-4CC9-89CB-85EC7B7A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11345-76B7-46AD-8AE3-10B3B50F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4FDE4-7E24-4896-8EC0-B5893225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ACFE4-4616-45D2-944E-989D9B8C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A5B16-4302-4E25-A4BD-CF6F8B547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65F85-482A-4DED-846E-28557451C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3CAC1-469A-4E9B-9AD8-EE626D51D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57FDFD-2DBE-471B-A041-7461ADDF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FDEBF-6F5A-4FE9-A77E-57367E5D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70DF-D654-454D-ACFC-3B0D9294D6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033F-F640-4ACF-9949-E171E6239A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4558-E9F3-4CBC-8FAD-A71F70679C8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D63F-ABDC-4ED5-A549-1EB924B3F0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5E88-422F-47C2-92CA-E1D40FE7C02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1D92-C893-4DB5-812F-FBCF90DCEE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F377-21D7-4D79-98B6-28E6D3F6561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8AB8-A0E4-48AC-A842-5017EBE484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AC38-2034-4795-9D8B-671ADB79A45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2D96-5F11-446C-8C7A-E1E8059029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07BF-149D-492E-B909-9491E97FAA0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712D-915F-4037-A363-E338B2F230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E51B-F0A2-409D-8AA4-BBEF2A014C6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9B2B-7D31-4D73-8130-19EFC65A54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F633-3A8B-4493-B88E-16D0FCB747D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10AB-9764-4720-91C6-F2DF95BB3A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8ECB-2450-4B81-8CBF-02B12EBC37B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D7EE-1BA3-4581-B490-88E27E2BA3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9B27-03F3-48B4-BE8D-3EB0ED50191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9E2D-4A31-41C3-981E-1A805BB35D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AE55-3366-4950-ABC7-3BDF9F4D0F3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52F8-A2AA-4FE1-90C5-91ED0BDD4C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94D5-402B-4C92-AEA7-D4FBAB1EFE8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A06B-C2D1-478A-AEBC-B09D1CFFCD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F66D-0CDC-4AF0-9C38-3EDA79C68FA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88DE-BB67-4F0B-8E3E-7452B5F140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3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image" Target="../media/image25.png"/><Relationship Id="rId19" Type="http://schemas.openxmlformats.org/officeDocument/2006/relationships/image" Target="../media/image34.png"/><Relationship Id="rId20" Type="http://schemas.openxmlformats.org/officeDocument/2006/relationships/image" Target="../media/image35.png"/><Relationship Id="rId21" Type="http://schemas.openxmlformats.org/officeDocument/2006/relationships/image" Target="../media/image36.png"/><Relationship Id="rId22" Type="http://schemas.openxmlformats.org/officeDocument/2006/relationships/image" Target="../media/image37.png"/><Relationship Id="rId23" Type="http://schemas.openxmlformats.org/officeDocument/2006/relationships/image" Target="../media/image38.png"/><Relationship Id="rId2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42d"/>
                </a:solidFill>
                <a:latin typeface="Calibri"/>
              </a:rPr>
              <a:t>Проектный цикл ГЭ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ubtitle 4"/>
          <p:cNvSpPr/>
          <p:nvPr/>
        </p:nvSpPr>
        <p:spPr>
          <a:xfrm>
            <a:off x="1333440" y="3809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Семинар для членов ГЭФ в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расширенном состав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642d"/>
                </a:solidFill>
                <a:latin typeface="Calibri"/>
              </a:rPr>
              <a:t>11–13 </a:t>
            </a: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октября</a:t>
            </a:r>
            <a:r>
              <a:rPr b="1" lang="en-US" sz="2000" spc="-1" strike="noStrike">
                <a:solidFill>
                  <a:srgbClr val="00642d"/>
                </a:solidFill>
                <a:latin typeface="Calibri"/>
              </a:rPr>
              <a:t> 2011</a:t>
            </a: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 г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Ташкент, Узбекиста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Подзаголовок 2"/>
          <p:cNvSpPr/>
          <p:nvPr/>
        </p:nvSpPr>
        <p:spPr>
          <a:xfrm>
            <a:off x="504720" y="72720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Подзаголовок 2"/>
          <p:cNvSpPr/>
          <p:nvPr/>
        </p:nvSpPr>
        <p:spPr>
          <a:xfrm>
            <a:off x="1333440" y="42696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Подзаголовок 2"/>
          <p:cNvSpPr/>
          <p:nvPr/>
        </p:nvSpPr>
        <p:spPr>
          <a:xfrm>
            <a:off x="1257480" y="63036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622" name="TextBox 6"/>
          <p:cNvSpPr/>
          <p:nvPr/>
        </p:nvSpPr>
        <p:spPr>
          <a:xfrm>
            <a:off x="457200" y="8380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58ed5"/>
                </a:solidFill>
                <a:latin typeface="Calibri"/>
              </a:rPr>
              <a:t>Ускоренная процедура утверждения стимулирующих мероприят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3" name="Group 3" descr=""/>
          <p:cNvPicPr/>
          <p:nvPr/>
        </p:nvPicPr>
        <p:blipFill>
          <a:blip r:embed="rId2"/>
          <a:stretch/>
        </p:blipFill>
        <p:spPr>
          <a:xfrm>
            <a:off x="1695600" y="1407960"/>
            <a:ext cx="2395440" cy="871560"/>
          </a:xfrm>
          <a:prstGeom prst="rect">
            <a:avLst/>
          </a:prstGeom>
          <a:ln w="0">
            <a:noFill/>
          </a:ln>
        </p:spPr>
      </p:pic>
      <p:grpSp>
        <p:nvGrpSpPr>
          <p:cNvPr id="624" name="Rounded Rectangle 4"/>
          <p:cNvGrpSpPr/>
          <p:nvPr/>
        </p:nvGrpSpPr>
        <p:grpSpPr>
          <a:xfrm>
            <a:off x="1762200" y="4170240"/>
            <a:ext cx="2371680" cy="749520"/>
            <a:chOff x="1762200" y="4170240"/>
            <a:chExt cx="2371680" cy="749520"/>
          </a:xfrm>
        </p:grpSpPr>
        <p:pic>
          <p:nvPicPr>
            <p:cNvPr id="625" name="Rounded Rectangle 4" descr=""/>
            <p:cNvPicPr/>
            <p:nvPr/>
          </p:nvPicPr>
          <p:blipFill>
            <a:blip r:embed="rId3"/>
            <a:stretch/>
          </p:blipFill>
          <p:spPr>
            <a:xfrm>
              <a:off x="1762200" y="4170240"/>
              <a:ext cx="237168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1828800" y="4191120"/>
              <a:ext cx="2243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авительство страны и ИД ГЭФ заключают соглашение о гранте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*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7" name="Rounded Rectangle 4"/>
          <p:cNvGrpSpPr/>
          <p:nvPr/>
        </p:nvGrpSpPr>
        <p:grpSpPr>
          <a:xfrm>
            <a:off x="1689120" y="5315040"/>
            <a:ext cx="2370240" cy="853920"/>
            <a:chOff x="1689120" y="5315040"/>
            <a:chExt cx="2370240" cy="853920"/>
          </a:xfrm>
        </p:grpSpPr>
        <p:pic>
          <p:nvPicPr>
            <p:cNvPr id="628" name="Rounded Rectangle 4" descr=""/>
            <p:cNvPicPr/>
            <p:nvPr/>
          </p:nvPicPr>
          <p:blipFill>
            <a:blip r:embed="rId4"/>
            <a:stretch/>
          </p:blipFill>
          <p:spPr>
            <a:xfrm>
              <a:off x="1689120" y="5315040"/>
              <a:ext cx="237024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1752480" y="5334120"/>
              <a:ext cx="224316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циональная организация завершает реализацию ВМ и представляет Конвенции отчет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0" name="Rounded Rectangle 4"/>
          <p:cNvGrpSpPr/>
          <p:nvPr/>
        </p:nvGrpSpPr>
        <p:grpSpPr>
          <a:xfrm>
            <a:off x="4505400" y="5315040"/>
            <a:ext cx="2449440" cy="896760"/>
            <a:chOff x="4505400" y="5315040"/>
            <a:chExt cx="2449440" cy="896760"/>
          </a:xfrm>
        </p:grpSpPr>
        <p:pic>
          <p:nvPicPr>
            <p:cNvPr id="631" name="Rounded Rectangle 4" descr=""/>
            <p:cNvPicPr/>
            <p:nvPr/>
          </p:nvPicPr>
          <p:blipFill>
            <a:blip r:embed="rId5"/>
            <a:stretch/>
          </p:blipFill>
          <p:spPr>
            <a:xfrm>
              <a:off x="4505400" y="5315040"/>
              <a:ext cx="244944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4572000" y="5334120"/>
              <a:ext cx="23194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ЭФ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генство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завершает реализацию ВМ и представляет Конвенции отчет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3" name="Rounded Rectangle 4"/>
          <p:cNvGrpSpPr/>
          <p:nvPr/>
        </p:nvGrpSpPr>
        <p:grpSpPr>
          <a:xfrm>
            <a:off x="4505400" y="4095720"/>
            <a:ext cx="2449440" cy="854280"/>
            <a:chOff x="4505400" y="4095720"/>
            <a:chExt cx="2449440" cy="854280"/>
          </a:xfrm>
        </p:grpSpPr>
        <p:pic>
          <p:nvPicPr>
            <p:cNvPr id="634" name="Rounded Rectangle 4" descr=""/>
            <p:cNvPicPr/>
            <p:nvPr/>
          </p:nvPicPr>
          <p:blipFill>
            <a:blip r:embed="rId6"/>
            <a:stretch/>
          </p:blipFill>
          <p:spPr>
            <a:xfrm>
              <a:off x="4505400" y="4095720"/>
              <a:ext cx="244944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4572000" y="4114800"/>
              <a:ext cx="23194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ЭФ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генство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утверждает ВМ после его утверждения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Д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**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6" name="Rounded Rectangle 4"/>
          <p:cNvGrpSpPr/>
          <p:nvPr/>
        </p:nvGrpSpPr>
        <p:grpSpPr>
          <a:xfrm>
            <a:off x="4492800" y="3181320"/>
            <a:ext cx="2474640" cy="622440"/>
            <a:chOff x="4492800" y="3181320"/>
            <a:chExt cx="2474640" cy="622440"/>
          </a:xfrm>
        </p:grpSpPr>
        <p:pic>
          <p:nvPicPr>
            <p:cNvPr id="637" name="Rounded Rectangle 4" descr=""/>
            <p:cNvPicPr/>
            <p:nvPr/>
          </p:nvPicPr>
          <p:blipFill>
            <a:blip r:embed="rId7"/>
            <a:stretch/>
          </p:blipFill>
          <p:spPr>
            <a:xfrm>
              <a:off x="4492800" y="3181320"/>
              <a:ext cx="247464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4572000" y="3200400"/>
              <a:ext cx="231948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ЭФ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генство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представляет предложение на утверждение ИД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9" name="Rounded Rectangle 4"/>
          <p:cNvGrpSpPr/>
          <p:nvPr/>
        </p:nvGrpSpPr>
        <p:grpSpPr>
          <a:xfrm>
            <a:off x="4505400" y="2189160"/>
            <a:ext cx="2449440" cy="749160"/>
            <a:chOff x="4505400" y="2189160"/>
            <a:chExt cx="2449440" cy="749160"/>
          </a:xfrm>
        </p:grpSpPr>
        <p:pic>
          <p:nvPicPr>
            <p:cNvPr id="640" name="Rounded Rectangle 4" descr=""/>
            <p:cNvPicPr/>
            <p:nvPr/>
          </p:nvPicPr>
          <p:blipFill>
            <a:blip r:embed="rId8"/>
            <a:stretch/>
          </p:blipFill>
          <p:spPr>
            <a:xfrm>
              <a:off x="4505400" y="2189160"/>
              <a:ext cx="24494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/>
            <p:nvPr/>
          </p:nvSpPr>
          <p:spPr>
            <a:xfrm>
              <a:off x="4572000" y="2209680"/>
              <a:ext cx="23194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циональная организация представляет предложение по ВМ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ганизации ГЭФ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42" name="Group 28" descr=""/>
          <p:cNvPicPr/>
          <p:nvPr/>
        </p:nvPicPr>
        <p:blipFill>
          <a:blip r:embed="rId9"/>
          <a:stretch/>
        </p:blipFill>
        <p:spPr>
          <a:xfrm>
            <a:off x="4511520" y="1407960"/>
            <a:ext cx="2401920" cy="798840"/>
          </a:xfrm>
          <a:prstGeom prst="rect">
            <a:avLst/>
          </a:prstGeom>
          <a:ln w="0">
            <a:noFill/>
          </a:ln>
        </p:spPr>
      </p:pic>
      <p:pic>
        <p:nvPicPr>
          <p:cNvPr id="643" name="Group 48" descr=""/>
          <p:cNvPicPr/>
          <p:nvPr/>
        </p:nvPicPr>
        <p:blipFill>
          <a:blip r:embed="rId10"/>
          <a:stretch/>
        </p:blipFill>
        <p:spPr>
          <a:xfrm>
            <a:off x="2682720" y="4925880"/>
            <a:ext cx="425520" cy="444600"/>
          </a:xfrm>
          <a:prstGeom prst="rect">
            <a:avLst/>
          </a:prstGeom>
          <a:ln w="0">
            <a:noFill/>
          </a:ln>
        </p:spPr>
      </p:pic>
      <p:pic>
        <p:nvPicPr>
          <p:cNvPr id="644" name="Group 51" descr=""/>
          <p:cNvPicPr/>
          <p:nvPr/>
        </p:nvPicPr>
        <p:blipFill>
          <a:blip r:embed="rId11"/>
          <a:stretch/>
        </p:blipFill>
        <p:spPr>
          <a:xfrm>
            <a:off x="2682720" y="3322800"/>
            <a:ext cx="505080" cy="596880"/>
          </a:xfrm>
          <a:prstGeom prst="rect">
            <a:avLst/>
          </a:prstGeom>
          <a:ln w="0">
            <a:noFill/>
          </a:ln>
        </p:spPr>
      </p:pic>
      <p:sp>
        <p:nvSpPr>
          <p:cNvPr id="645" name="TextBox 54"/>
          <p:cNvSpPr/>
          <p:nvPr/>
        </p:nvSpPr>
        <p:spPr>
          <a:xfrm>
            <a:off x="1219320" y="6172200"/>
            <a:ext cx="620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утверждении предложения Секретариат ГЭФ руководствуется процедурами Всемирного банка с учетом конечной цели  – направления соглашения о гранте стране, получающей помощь, и его подписания ИД и страной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6" name="Group 58" descr=""/>
          <p:cNvPicPr/>
          <p:nvPr/>
        </p:nvPicPr>
        <p:blipFill>
          <a:blip r:embed="rId12"/>
          <a:stretch/>
        </p:blipFill>
        <p:spPr>
          <a:xfrm>
            <a:off x="5505480" y="4925880"/>
            <a:ext cx="450720" cy="414360"/>
          </a:xfrm>
          <a:prstGeom prst="rect">
            <a:avLst/>
          </a:prstGeom>
          <a:ln w="0">
            <a:noFill/>
          </a:ln>
        </p:spPr>
      </p:pic>
      <p:pic>
        <p:nvPicPr>
          <p:cNvPr id="647" name="Group 61" descr=""/>
          <p:cNvPicPr/>
          <p:nvPr/>
        </p:nvPicPr>
        <p:blipFill>
          <a:blip r:embed="rId13"/>
          <a:stretch/>
        </p:blipFill>
        <p:spPr>
          <a:xfrm>
            <a:off x="5425920" y="3706920"/>
            <a:ext cx="505080" cy="444240"/>
          </a:xfrm>
          <a:prstGeom prst="rect">
            <a:avLst/>
          </a:prstGeom>
          <a:ln w="0">
            <a:noFill/>
          </a:ln>
        </p:spPr>
      </p:pic>
      <p:pic>
        <p:nvPicPr>
          <p:cNvPr id="648" name="Group 64" descr=""/>
          <p:cNvPicPr/>
          <p:nvPr/>
        </p:nvPicPr>
        <p:blipFill>
          <a:blip r:embed="rId14"/>
          <a:stretch/>
        </p:blipFill>
        <p:spPr>
          <a:xfrm>
            <a:off x="5425920" y="2792520"/>
            <a:ext cx="505080" cy="517320"/>
          </a:xfrm>
          <a:prstGeom prst="rect">
            <a:avLst/>
          </a:prstGeom>
          <a:ln w="0">
            <a:noFill/>
          </a:ln>
        </p:spPr>
      </p:pic>
      <p:grpSp>
        <p:nvGrpSpPr>
          <p:cNvPr id="649" name="Rounded Rectangle 4"/>
          <p:cNvGrpSpPr/>
          <p:nvPr/>
        </p:nvGrpSpPr>
        <p:grpSpPr>
          <a:xfrm>
            <a:off x="1689120" y="2346480"/>
            <a:ext cx="2444760" cy="817560"/>
            <a:chOff x="1689120" y="2346480"/>
            <a:chExt cx="2444760" cy="817560"/>
          </a:xfrm>
        </p:grpSpPr>
        <p:pic>
          <p:nvPicPr>
            <p:cNvPr id="650" name="Rounded Rectangle 4" descr=""/>
            <p:cNvPicPr/>
            <p:nvPr/>
          </p:nvPicPr>
          <p:blipFill>
            <a:blip r:embed="rId15"/>
            <a:stretch/>
          </p:blipFill>
          <p:spPr>
            <a:xfrm>
              <a:off x="1689120" y="2346480"/>
              <a:ext cx="24447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1752480" y="2362320"/>
              <a:ext cx="2319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циональная организация  представляет предложение по ВМ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 утверждение ИД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2" name="Подзаголовок 2"/>
          <p:cNvSpPr/>
          <p:nvPr/>
        </p:nvSpPr>
        <p:spPr>
          <a:xfrm>
            <a:off x="504720" y="50328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Подзаголовок 2"/>
          <p:cNvSpPr/>
          <p:nvPr/>
        </p:nvSpPr>
        <p:spPr>
          <a:xfrm>
            <a:off x="1247760" y="392040"/>
            <a:ext cx="42768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Критерии оценки </a:t>
            </a: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FSP/MS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914040" y="2057400"/>
            <a:ext cx="7010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ответствие страны установленным критериям и ее заинтересованное участие в реализации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лобальные блага в сфере окружающей сре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атегия деятельности ГЭФ в данной тематиче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авнительные преимуществ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организации ГЭ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ичие ресур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довательность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работка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нансирование и совместное финансирование проекта (баз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ниторинг и оцен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агирование организации ГЭФ на замечания и оцен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7" name="Picture 2" descr=""/>
          <p:cNvPicPr/>
          <p:nvPr/>
        </p:nvPicPr>
        <p:blipFill>
          <a:blip r:embed="rId1"/>
          <a:stretch/>
        </p:blipFill>
        <p:spPr>
          <a:xfrm>
            <a:off x="9360" y="1908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58" name="Подзаголовок 2"/>
          <p:cNvSpPr/>
          <p:nvPr/>
        </p:nvSpPr>
        <p:spPr>
          <a:xfrm>
            <a:off x="485640" y="58752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Утверждение страной</a:t>
            </a:r>
            <a:br>
              <a:rPr sz="3600"/>
            </a:br>
            <a:r>
              <a:rPr b="0" lang="en-US" sz="3000" spc="-1" strike="noStrike">
                <a:solidFill>
                  <a:srgbClr val="558ed5"/>
                </a:solidFill>
                <a:latin typeface="Calibri"/>
                <a:ea typeface="Arial"/>
              </a:rPr>
              <a:t>(</a:t>
            </a:r>
            <a:r>
              <a:rPr b="0" lang="ru-RU" sz="3000" spc="-1" strike="noStrike">
                <a:solidFill>
                  <a:srgbClr val="558ed5"/>
                </a:solidFill>
                <a:latin typeface="Calibri"/>
                <a:ea typeface="Arial"/>
              </a:rPr>
              <a:t>национальным координатором ГЭФ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57200" y="2468160"/>
            <a:ext cx="8229600" cy="30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се ФОП должны быть утверждены ОКЦ ГЭФ при подаче на одобрение (в случае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SP)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ли утверждение (в случае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SP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для которого требуется ГПП) ГЭФ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менительно к проектам, связанным с биоразнообразием, изменением климата и деградацией земельных ресурсов, должны применяться правила СТА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3" name="Picture 2" descr=""/>
          <p:cNvPicPr/>
          <p:nvPr/>
        </p:nvPicPr>
        <p:blipFill>
          <a:blip r:embed="rId1"/>
          <a:stretch/>
        </p:blipFill>
        <p:spPr>
          <a:xfrm>
            <a:off x="-9360" y="936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664" name="Подзаголовок 2"/>
          <p:cNvSpPr/>
          <p:nvPr/>
        </p:nvSpPr>
        <p:spPr>
          <a:xfrm>
            <a:off x="485640" y="54144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Подзаголовок 2"/>
          <p:cNvSpPr/>
          <p:nvPr/>
        </p:nvSpPr>
        <p:spPr>
          <a:xfrm>
            <a:off x="1247760" y="466560"/>
            <a:ext cx="42768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 txBox="1"/>
          <p:nvPr/>
        </p:nvSpPr>
        <p:spPr>
          <a:xfrm>
            <a:off x="914040" y="20574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самостоятельным проектам: комиссионные в размер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%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 суммы, выделенной ГЭФ на проек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ант на проект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ПП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мещение агенству за разработку Программного подхода (ПП) зависит от вида организации ГЭФ, представляющей ПП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2384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ЭФ Агенству с Советом директоров, утверждающим проект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 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2384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ЭФ Агенству без Совета директоров, утверждающего проекты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 9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случае отмены проекта, все неиспользованные агентские комиссионные или определенные процентные доли подлежат возврату в Целевой фонд ГЭ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*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рядок возврата комиссионных см. в документе Совета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Proposal for Revising the Fee System"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(GEF/C.23/8/Rev.1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8" name="Picture 2" descr=""/>
          <p:cNvPicPr/>
          <p:nvPr/>
        </p:nvPicPr>
        <p:blipFill>
          <a:blip r:embed="rId1"/>
          <a:stretch/>
        </p:blipFill>
        <p:spPr>
          <a:xfrm>
            <a:off x="-9360" y="1908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14040" y="11430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7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558ed5"/>
                </a:solidFill>
                <a:latin typeface="Calibri"/>
                <a:ea typeface="Arial"/>
              </a:rPr>
              <a:t>Возмещение затрат ГЭФ Агенству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Подзаголовок 2"/>
          <p:cNvSpPr/>
          <p:nvPr/>
        </p:nvSpPr>
        <p:spPr>
          <a:xfrm>
            <a:off x="485640" y="58752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Подзаголовок 2"/>
          <p:cNvSpPr/>
          <p:nvPr/>
        </p:nvSpPr>
        <p:spPr>
          <a:xfrm>
            <a:off x="124776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Программные подхо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533160" y="2173320"/>
            <a:ext cx="792468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ва вида программных подходов, в зависимости от вида ГЭФ Агенства, представляющей программ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ЭФ Агенств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Советом директоров, утверждающим проекты – эт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ЭФ Агенства, соответствующие критериям, дающим им право принимать реш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ЭФ Агенств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без Совета директоров, утверждающ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проекты – это ГЭФ Агенства не соответствующие таким критериям. Такие программы должны представляться учреждением по координации програм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КП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5" name="Picture 2" descr=""/>
          <p:cNvPicPr/>
          <p:nvPr/>
        </p:nvPicPr>
        <p:blipFill>
          <a:blip r:embed="rId1"/>
          <a:stretch/>
        </p:blipFill>
        <p:spPr>
          <a:xfrm>
            <a:off x="-9360" y="1908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76" name="Подзаголовок 2"/>
          <p:cNvSpPr/>
          <p:nvPr/>
        </p:nvSpPr>
        <p:spPr>
          <a:xfrm>
            <a:off x="485640" y="58752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Подзаголовок 2"/>
          <p:cNvSpPr/>
          <p:nvPr/>
        </p:nvSpPr>
        <p:spPr>
          <a:xfrm>
            <a:off x="1257480" y="47628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680" name="Group 3" descr=""/>
          <p:cNvPicPr/>
          <p:nvPr/>
        </p:nvPicPr>
        <p:blipFill>
          <a:blip r:embed="rId2"/>
          <a:stretch/>
        </p:blipFill>
        <p:spPr>
          <a:xfrm>
            <a:off x="396720" y="890640"/>
            <a:ext cx="2932200" cy="706320"/>
          </a:xfrm>
          <a:prstGeom prst="rect">
            <a:avLst/>
          </a:prstGeom>
          <a:ln w="0">
            <a:noFill/>
          </a:ln>
        </p:spPr>
      </p:pic>
      <p:grpSp>
        <p:nvGrpSpPr>
          <p:cNvPr id="681" name="Rounded Rectangle 4"/>
          <p:cNvGrpSpPr/>
          <p:nvPr/>
        </p:nvGrpSpPr>
        <p:grpSpPr>
          <a:xfrm>
            <a:off x="927000" y="3170160"/>
            <a:ext cx="2444760" cy="779400"/>
            <a:chOff x="927000" y="3170160"/>
            <a:chExt cx="2444760" cy="779400"/>
          </a:xfrm>
        </p:grpSpPr>
        <p:pic>
          <p:nvPicPr>
            <p:cNvPr id="682" name="Rounded Rectangle 4" descr=""/>
            <p:cNvPicPr/>
            <p:nvPr/>
          </p:nvPicPr>
          <p:blipFill>
            <a:blip r:embed="rId3"/>
            <a:stretch/>
          </p:blipFill>
          <p:spPr>
            <a:xfrm>
              <a:off x="927000" y="3170160"/>
              <a:ext cx="244476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"/>
            <p:cNvSpPr/>
            <p:nvPr/>
          </p:nvSpPr>
          <p:spPr>
            <a:xfrm>
              <a:off x="990720" y="3276720"/>
              <a:ext cx="2319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ЭФ Агенство утверждает отдельные ФОП в рамках программы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84" name="Group 28" descr=""/>
          <p:cNvPicPr/>
          <p:nvPr/>
        </p:nvPicPr>
        <p:blipFill>
          <a:blip r:embed="rId4"/>
          <a:stretch/>
        </p:blipFill>
        <p:spPr>
          <a:xfrm>
            <a:off x="5048280" y="914400"/>
            <a:ext cx="2475000" cy="682560"/>
          </a:xfrm>
          <a:prstGeom prst="rect">
            <a:avLst/>
          </a:prstGeom>
          <a:ln w="0">
            <a:noFill/>
          </a:ln>
        </p:spPr>
      </p:pic>
      <p:pic>
        <p:nvPicPr>
          <p:cNvPr id="685" name="Group 48" descr=""/>
          <p:cNvPicPr/>
          <p:nvPr/>
        </p:nvPicPr>
        <p:blipFill>
          <a:blip r:embed="rId5"/>
          <a:stretch/>
        </p:blipFill>
        <p:spPr>
          <a:xfrm>
            <a:off x="1920960" y="3852720"/>
            <a:ext cx="450720" cy="420840"/>
          </a:xfrm>
          <a:prstGeom prst="rect">
            <a:avLst/>
          </a:prstGeom>
          <a:ln w="0">
            <a:noFill/>
          </a:ln>
        </p:spPr>
      </p:pic>
      <p:pic>
        <p:nvPicPr>
          <p:cNvPr id="686" name="Group 51" descr=""/>
          <p:cNvPicPr/>
          <p:nvPr/>
        </p:nvPicPr>
        <p:blipFill>
          <a:blip r:embed="rId6"/>
          <a:stretch/>
        </p:blipFill>
        <p:spPr>
          <a:xfrm>
            <a:off x="1920960" y="1566720"/>
            <a:ext cx="450720" cy="420840"/>
          </a:xfrm>
          <a:prstGeom prst="rect">
            <a:avLst/>
          </a:prstGeom>
          <a:ln w="0">
            <a:noFill/>
          </a:ln>
        </p:spPr>
      </p:pic>
      <p:pic>
        <p:nvPicPr>
          <p:cNvPr id="687" name="Group 58" descr=""/>
          <p:cNvPicPr/>
          <p:nvPr/>
        </p:nvPicPr>
        <p:blipFill>
          <a:blip r:embed="rId7"/>
          <a:stretch/>
        </p:blipFill>
        <p:spPr>
          <a:xfrm>
            <a:off x="1920960" y="4621320"/>
            <a:ext cx="450720" cy="566640"/>
          </a:xfrm>
          <a:prstGeom prst="rect">
            <a:avLst/>
          </a:prstGeom>
          <a:ln w="0">
            <a:noFill/>
          </a:ln>
        </p:spPr>
      </p:pic>
      <p:pic>
        <p:nvPicPr>
          <p:cNvPr id="688" name="Group 64" descr=""/>
          <p:cNvPicPr/>
          <p:nvPr/>
        </p:nvPicPr>
        <p:blipFill>
          <a:blip r:embed="rId8"/>
          <a:stretch/>
        </p:blipFill>
        <p:spPr>
          <a:xfrm>
            <a:off x="6035760" y="1573200"/>
            <a:ext cx="450720" cy="414360"/>
          </a:xfrm>
          <a:prstGeom prst="rect">
            <a:avLst/>
          </a:prstGeom>
          <a:ln w="0">
            <a:noFill/>
          </a:ln>
        </p:spPr>
      </p:pic>
      <p:pic>
        <p:nvPicPr>
          <p:cNvPr id="689" name="Group 48" descr=""/>
          <p:cNvPicPr/>
          <p:nvPr/>
        </p:nvPicPr>
        <p:blipFill>
          <a:blip r:embed="rId9"/>
          <a:stretch/>
        </p:blipFill>
        <p:spPr>
          <a:xfrm>
            <a:off x="1920960" y="2938320"/>
            <a:ext cx="450720" cy="420840"/>
          </a:xfrm>
          <a:prstGeom prst="rect">
            <a:avLst/>
          </a:prstGeom>
          <a:ln w="0">
            <a:noFill/>
          </a:ln>
        </p:spPr>
      </p:pic>
      <p:grpSp>
        <p:nvGrpSpPr>
          <p:cNvPr id="690" name="Rounded Rectangle 4"/>
          <p:cNvGrpSpPr/>
          <p:nvPr/>
        </p:nvGrpSpPr>
        <p:grpSpPr>
          <a:xfrm>
            <a:off x="927000" y="4084560"/>
            <a:ext cx="2462400" cy="779400"/>
            <a:chOff x="927000" y="4084560"/>
            <a:chExt cx="2462400" cy="779400"/>
          </a:xfrm>
        </p:grpSpPr>
        <p:pic>
          <p:nvPicPr>
            <p:cNvPr id="691" name="Rounded Rectangle 4" descr=""/>
            <p:cNvPicPr/>
            <p:nvPr/>
          </p:nvPicPr>
          <p:blipFill>
            <a:blip r:embed="rId10"/>
            <a:stretch/>
          </p:blipFill>
          <p:spPr>
            <a:xfrm>
              <a:off x="927000" y="4084560"/>
              <a:ext cx="246240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"/>
            <p:cNvSpPr/>
            <p:nvPr/>
          </p:nvSpPr>
          <p:spPr>
            <a:xfrm>
              <a:off x="990720" y="4191120"/>
              <a:ext cx="2319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ИД утверждает окончательные документы по проекту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93" name="Rounded Rectangle 4"/>
          <p:cNvGrpSpPr/>
          <p:nvPr/>
        </p:nvGrpSpPr>
        <p:grpSpPr>
          <a:xfrm>
            <a:off x="927000" y="4889520"/>
            <a:ext cx="2444760" cy="865080"/>
            <a:chOff x="927000" y="4889520"/>
            <a:chExt cx="2444760" cy="865080"/>
          </a:xfrm>
        </p:grpSpPr>
        <p:pic>
          <p:nvPicPr>
            <p:cNvPr id="694" name="Rounded Rectangle 4" descr=""/>
            <p:cNvPicPr/>
            <p:nvPr/>
          </p:nvPicPr>
          <p:blipFill>
            <a:blip r:embed="rId11"/>
            <a:stretch/>
          </p:blipFill>
          <p:spPr>
            <a:xfrm>
              <a:off x="927000" y="4889520"/>
              <a:ext cx="244476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990720" y="4952880"/>
              <a:ext cx="2319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ЭФ Агенство утверждает окончательный проект в соответствии со своими внутренними правилами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96" name="Rounded Rectangle 4"/>
          <p:cNvGrpSpPr/>
          <p:nvPr/>
        </p:nvGrpSpPr>
        <p:grpSpPr>
          <a:xfrm>
            <a:off x="927000" y="5986440"/>
            <a:ext cx="2444760" cy="779400"/>
            <a:chOff x="927000" y="5986440"/>
            <a:chExt cx="2444760" cy="779400"/>
          </a:xfrm>
        </p:grpSpPr>
        <p:pic>
          <p:nvPicPr>
            <p:cNvPr id="697" name="Rounded Rectangle 4" descr=""/>
            <p:cNvPicPr/>
            <p:nvPr/>
          </p:nvPicPr>
          <p:blipFill>
            <a:blip r:embed="rId12"/>
            <a:stretch/>
          </p:blipFill>
          <p:spPr>
            <a:xfrm>
              <a:off x="927000" y="5986440"/>
              <a:ext cx="244476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990720" y="6095880"/>
              <a:ext cx="2319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ЭФ Агенство начинает и завершает реализацию проекта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99" name="Rounded Rectangle 4"/>
          <p:cNvGrpSpPr/>
          <p:nvPr/>
        </p:nvGrpSpPr>
        <p:grpSpPr>
          <a:xfrm>
            <a:off x="3670200" y="2139840"/>
            <a:ext cx="2475000" cy="1560600"/>
            <a:chOff x="3670200" y="2139840"/>
            <a:chExt cx="2475000" cy="1560600"/>
          </a:xfrm>
        </p:grpSpPr>
        <p:pic>
          <p:nvPicPr>
            <p:cNvPr id="700" name="Rounded Rectangle 4" descr=""/>
            <p:cNvPicPr/>
            <p:nvPr/>
          </p:nvPicPr>
          <p:blipFill>
            <a:blip r:embed="rId13"/>
            <a:stretch/>
          </p:blipFill>
          <p:spPr>
            <a:xfrm>
              <a:off x="3670200" y="2139840"/>
              <a:ext cx="247500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"/>
            <p:cNvSpPr/>
            <p:nvPr/>
          </p:nvSpPr>
          <p:spPr>
            <a:xfrm>
              <a:off x="3733920" y="2209680"/>
              <a:ext cx="2319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Совет </a:t>
              </a:r>
              <a:r>
                <a:rPr b="0" lang="ru-RU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утверждает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Программный рамочный документ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(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ПРД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)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, представляемый в виде ПР, и утверждает ФОП, представленные в составе ПРД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02" name="Rounded Rectangle 4"/>
          <p:cNvGrpSpPr/>
          <p:nvPr/>
        </p:nvGrpSpPr>
        <p:grpSpPr>
          <a:xfrm>
            <a:off x="927000" y="1884240"/>
            <a:ext cx="2444760" cy="1127160"/>
            <a:chOff x="927000" y="1884240"/>
            <a:chExt cx="2444760" cy="1127160"/>
          </a:xfrm>
        </p:grpSpPr>
        <p:pic>
          <p:nvPicPr>
            <p:cNvPr id="703" name="Rounded Rectangle 4" descr=""/>
            <p:cNvPicPr/>
            <p:nvPr/>
          </p:nvPicPr>
          <p:blipFill>
            <a:blip r:embed="rId14"/>
            <a:stretch/>
          </p:blipFill>
          <p:spPr>
            <a:xfrm>
              <a:off x="927000" y="1884240"/>
              <a:ext cx="244476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990720" y="1905120"/>
              <a:ext cx="231912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Совет </a:t>
              </a:r>
              <a:r>
                <a:rPr b="0" lang="ru-RU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утверждает 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Программный рамочный документ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(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ПРД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) 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путем представления ПР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705" name="Group 58" descr=""/>
          <p:cNvPicPr/>
          <p:nvPr/>
        </p:nvPicPr>
        <p:blipFill>
          <a:blip r:embed="rId15"/>
          <a:stretch/>
        </p:blipFill>
        <p:spPr>
          <a:xfrm>
            <a:off x="1920960" y="5681520"/>
            <a:ext cx="450720" cy="420840"/>
          </a:xfrm>
          <a:prstGeom prst="rect">
            <a:avLst/>
          </a:prstGeom>
          <a:ln w="0">
            <a:noFill/>
          </a:ln>
        </p:spPr>
      </p:pic>
      <p:grpSp>
        <p:nvGrpSpPr>
          <p:cNvPr id="706" name="Rounded Rectangle 4"/>
          <p:cNvGrpSpPr/>
          <p:nvPr/>
        </p:nvGrpSpPr>
        <p:grpSpPr>
          <a:xfrm>
            <a:off x="6381720" y="2266920"/>
            <a:ext cx="2549520" cy="1281240"/>
            <a:chOff x="6381720" y="2266920"/>
            <a:chExt cx="2549520" cy="1281240"/>
          </a:xfrm>
        </p:grpSpPr>
        <p:pic>
          <p:nvPicPr>
            <p:cNvPr id="707" name="Rounded Rectangle 4" descr=""/>
            <p:cNvPicPr/>
            <p:nvPr/>
          </p:nvPicPr>
          <p:blipFill>
            <a:blip r:embed="rId16"/>
            <a:stretch/>
          </p:blipFill>
          <p:spPr>
            <a:xfrm>
              <a:off x="6381720" y="2266920"/>
              <a:ext cx="254952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"/>
            <p:cNvSpPr/>
            <p:nvPr/>
          </p:nvSpPr>
          <p:spPr>
            <a:xfrm>
              <a:off x="6477120" y="2286000"/>
              <a:ext cx="2319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Совет </a:t>
              </a:r>
              <a:r>
                <a:rPr b="0" lang="ru-RU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утверждает 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последующие ФОП в рамках ПРД, представленные в виде ПР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709" name="Group 48" descr=""/>
          <p:cNvPicPr/>
          <p:nvPr/>
        </p:nvPicPr>
        <p:blipFill>
          <a:blip r:embed="rId17"/>
          <a:stretch/>
        </p:blipFill>
        <p:spPr>
          <a:xfrm>
            <a:off x="5353200" y="3554280"/>
            <a:ext cx="450720" cy="414360"/>
          </a:xfrm>
          <a:prstGeom prst="rect">
            <a:avLst/>
          </a:prstGeom>
          <a:ln w="0">
            <a:noFill/>
          </a:ln>
        </p:spPr>
      </p:pic>
      <p:pic>
        <p:nvPicPr>
          <p:cNvPr id="710" name="Group 58" descr=""/>
          <p:cNvPicPr/>
          <p:nvPr/>
        </p:nvPicPr>
        <p:blipFill>
          <a:blip r:embed="rId18"/>
          <a:stretch/>
        </p:blipFill>
        <p:spPr>
          <a:xfrm>
            <a:off x="6035760" y="4621320"/>
            <a:ext cx="450720" cy="414360"/>
          </a:xfrm>
          <a:prstGeom prst="rect">
            <a:avLst/>
          </a:prstGeom>
          <a:ln w="0">
            <a:noFill/>
          </a:ln>
        </p:spPr>
      </p:pic>
      <p:grpSp>
        <p:nvGrpSpPr>
          <p:cNvPr id="711" name="Rounded Rectangle 4"/>
          <p:cNvGrpSpPr/>
          <p:nvPr/>
        </p:nvGrpSpPr>
        <p:grpSpPr>
          <a:xfrm>
            <a:off x="5041800" y="4005360"/>
            <a:ext cx="2462400" cy="779400"/>
            <a:chOff x="5041800" y="4005360"/>
            <a:chExt cx="2462400" cy="779400"/>
          </a:xfrm>
        </p:grpSpPr>
        <p:pic>
          <p:nvPicPr>
            <p:cNvPr id="712" name="Rounded Rectangle 4" descr=""/>
            <p:cNvPicPr/>
            <p:nvPr/>
          </p:nvPicPr>
          <p:blipFill>
            <a:blip r:embed="rId19"/>
            <a:stretch/>
          </p:blipFill>
          <p:spPr>
            <a:xfrm>
              <a:off x="5041800" y="4005360"/>
              <a:ext cx="246240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"/>
            <p:cNvSpPr/>
            <p:nvPr/>
          </p:nvSpPr>
          <p:spPr>
            <a:xfrm>
              <a:off x="5105520" y="4114800"/>
              <a:ext cx="2319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ИД утверждает окончательные документы по проекту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14" name="Rounded Rectangle 4"/>
          <p:cNvGrpSpPr/>
          <p:nvPr/>
        </p:nvGrpSpPr>
        <p:grpSpPr>
          <a:xfrm>
            <a:off x="5041800" y="4809960"/>
            <a:ext cx="2444760" cy="865440"/>
            <a:chOff x="5041800" y="4809960"/>
            <a:chExt cx="2444760" cy="865440"/>
          </a:xfrm>
        </p:grpSpPr>
        <p:pic>
          <p:nvPicPr>
            <p:cNvPr id="715" name="Rounded Rectangle 4" descr=""/>
            <p:cNvPicPr/>
            <p:nvPr/>
          </p:nvPicPr>
          <p:blipFill>
            <a:blip r:embed="rId20"/>
            <a:stretch/>
          </p:blipFill>
          <p:spPr>
            <a:xfrm>
              <a:off x="5041800" y="4809960"/>
              <a:ext cx="2444760" cy="8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"/>
            <p:cNvSpPr/>
            <p:nvPr/>
          </p:nvSpPr>
          <p:spPr>
            <a:xfrm>
              <a:off x="5105520" y="4876920"/>
              <a:ext cx="2319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ЭФ Агенство утверждает окончательный проект в соответствии со своими внутренними правилами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17" name="Rounded Rectangle 4"/>
          <p:cNvGrpSpPr/>
          <p:nvPr/>
        </p:nvGrpSpPr>
        <p:grpSpPr>
          <a:xfrm>
            <a:off x="5041800" y="5950080"/>
            <a:ext cx="2444760" cy="798480"/>
            <a:chOff x="5041800" y="5950080"/>
            <a:chExt cx="2444760" cy="798480"/>
          </a:xfrm>
        </p:grpSpPr>
        <p:pic>
          <p:nvPicPr>
            <p:cNvPr id="718" name="Rounded Rectangle 4" descr=""/>
            <p:cNvPicPr/>
            <p:nvPr/>
          </p:nvPicPr>
          <p:blipFill>
            <a:blip r:embed="rId21"/>
            <a:stretch/>
          </p:blipFill>
          <p:spPr>
            <a:xfrm>
              <a:off x="5041800" y="5950080"/>
              <a:ext cx="24447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>
              <a:off x="5105520" y="6019920"/>
              <a:ext cx="2319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ЭФ Агенство начинает и завершает реализацию проекта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720" name="Group 58" descr=""/>
          <p:cNvPicPr/>
          <p:nvPr/>
        </p:nvPicPr>
        <p:blipFill>
          <a:blip r:embed="rId22"/>
          <a:stretch/>
        </p:blipFill>
        <p:spPr>
          <a:xfrm>
            <a:off x="6035760" y="5608800"/>
            <a:ext cx="450720" cy="414000"/>
          </a:xfrm>
          <a:prstGeom prst="rect">
            <a:avLst/>
          </a:prstGeom>
          <a:ln w="0">
            <a:noFill/>
          </a:ln>
        </p:spPr>
      </p:pic>
      <p:pic>
        <p:nvPicPr>
          <p:cNvPr id="721" name="Group 48" descr=""/>
          <p:cNvPicPr/>
          <p:nvPr/>
        </p:nvPicPr>
        <p:blipFill>
          <a:blip r:embed="rId23"/>
          <a:stretch/>
        </p:blipFill>
        <p:spPr>
          <a:xfrm>
            <a:off x="6797520" y="3554280"/>
            <a:ext cx="451080" cy="414360"/>
          </a:xfrm>
          <a:prstGeom prst="rect">
            <a:avLst/>
          </a:prstGeom>
          <a:ln w="0">
            <a:noFill/>
          </a:ln>
        </p:spPr>
      </p:pic>
      <p:sp>
        <p:nvSpPr>
          <p:cNvPr id="722" name="Подзаголовок 2"/>
          <p:cNvSpPr/>
          <p:nvPr/>
        </p:nvSpPr>
        <p:spPr>
          <a:xfrm>
            <a:off x="485640" y="50328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Роль СТАП</a:t>
            </a: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 – </a:t>
            </a: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самостоятельные проек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380520" y="19051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П выдает ГЭФ научные и технические рекомендации по следующим вопросам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FS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борочно рассматривает ФОП, получаемые от ГЭФ Агенством и представляемые Секретариату ГЭ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сматривает все ФОП, утвержденные ИД для включения в программу рабо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смотренные отчеты вместе с ФОП помещаются на веб-сайт ГЭФ в рамках программы рабо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MSP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борочно рассматривает ФОП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MS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6" name="Picture 2" descr=""/>
          <p:cNvPicPr/>
          <p:nvPr/>
        </p:nvPicPr>
        <p:blipFill>
          <a:blip r:embed="rId1"/>
          <a:stretch/>
        </p:blipFill>
        <p:spPr>
          <a:xfrm>
            <a:off x="-9360" y="1908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727" name="Подзаголовок 2"/>
          <p:cNvSpPr/>
          <p:nvPr/>
        </p:nvSpPr>
        <p:spPr>
          <a:xfrm>
            <a:off x="485640" y="58752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Подзаголовок 2"/>
          <p:cNvSpPr/>
          <p:nvPr/>
        </p:nvSpPr>
        <p:spPr>
          <a:xfrm>
            <a:off x="1257480" y="47628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Роль СТА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761760" y="1981080"/>
            <a:ext cx="784836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граммные подходы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аналогичн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FSP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борочно рассматривает ФОП, получаемые от ГЭФ Агенства и представляемые Секретариату ГЭ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сматривает все ПРД, утвержденные ИД для включения в программу рабо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смотренные отчеты вместе с ФОП помещаются на веб-сайте ГЭФ в рамках программы рабо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733" name="Подзаголовок 2"/>
          <p:cNvSpPr/>
          <p:nvPr/>
        </p:nvSpPr>
        <p:spPr>
          <a:xfrm>
            <a:off x="485640" y="58752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685800" y="1523520"/>
            <a:ext cx="78487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СПАСИБО ЗА ВНИМАНИЕ</a:t>
            </a: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б-сайт ГЭ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Calibri"/>
              </a:rPr>
              <a:t>www.thegef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738" name="Подзаголовок 2"/>
          <p:cNvSpPr/>
          <p:nvPr/>
        </p:nvSpPr>
        <p:spPr>
          <a:xfrm>
            <a:off x="495360" y="56844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Проектный цикл ГЭ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85440" y="20570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ектный цикл ГЭФ – это процесс, в котором участвует целый ряд основных сторон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: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раны, агенства ГЭФ, Секретариат ГЭФ, Совет ГЭФ и партнеры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Другие важные партнеры выполняют вспомогательные функции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Доверительный управляющий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, который резервирует средства для конкретных проектов, принимает решения о выделении средств и непосредственно перечисляет их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СТАП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(Научно-техническая консультативная группа), которая оценивает проекты на начальной стадии и выносит рекомендации относительно проекта или программы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Отдел оценки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, который оценивает завершенные проекты и результаты деятельности в тематических областях и проводит ежегодную оценку эффективности и результатов работы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Секретариаты конвенций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также предоставляют рекомендации и замечания относительно проектов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49" name="Подзаголовок 2"/>
          <p:cNvSpPr/>
          <p:nvPr/>
        </p:nvSpPr>
        <p:spPr>
          <a:xfrm>
            <a:off x="485640" y="56844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Институциональная структура ГЭ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Box 1"/>
          <p:cNvSpPr/>
          <p:nvPr/>
        </p:nvSpPr>
        <p:spPr>
          <a:xfrm>
            <a:off x="4114800" y="3097080"/>
            <a:ext cx="1295280" cy="10674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Секретариат ГЭФ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TextBox 6"/>
          <p:cNvSpPr/>
          <p:nvPr/>
        </p:nvSpPr>
        <p:spPr>
          <a:xfrm>
            <a:off x="5638680" y="2057400"/>
            <a:ext cx="1447920" cy="34909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Агенства ГЭФ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ПРООН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ЮНЕП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Всемирный бан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АБР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АфБР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ЕБРР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ФА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МАБР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МФРСХ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ЮНИД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TextBox 7"/>
          <p:cNvSpPr/>
          <p:nvPr/>
        </p:nvSpPr>
        <p:spPr>
          <a:xfrm>
            <a:off x="2438280" y="4800600"/>
            <a:ext cx="1143000" cy="5202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Отдел оценк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TextBox 8"/>
          <p:cNvSpPr/>
          <p:nvPr/>
        </p:nvSpPr>
        <p:spPr>
          <a:xfrm>
            <a:off x="2476440" y="2514600"/>
            <a:ext cx="1143000" cy="3070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СТАП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TextBox 9"/>
          <p:cNvSpPr/>
          <p:nvPr/>
        </p:nvSpPr>
        <p:spPr>
          <a:xfrm>
            <a:off x="2286000" y="3141720"/>
            <a:ext cx="1523880" cy="1396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Совет ГЭФ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Страны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Члены Совета</a:t>
            </a: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группы стран</a:t>
            </a: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Консультации с ОГ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TextBox 10"/>
          <p:cNvSpPr/>
          <p:nvPr/>
        </p:nvSpPr>
        <p:spPr>
          <a:xfrm>
            <a:off x="228600" y="3886200"/>
            <a:ext cx="1523880" cy="874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Конвен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Страны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Координационные центры конвенц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TextBox 11"/>
          <p:cNvSpPr/>
          <p:nvPr/>
        </p:nvSpPr>
        <p:spPr>
          <a:xfrm>
            <a:off x="304920" y="2666880"/>
            <a:ext cx="1447560" cy="1234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Ассамблея ГЭФ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Страны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Политические координационные цент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TextBox 12"/>
          <p:cNvSpPr/>
          <p:nvPr/>
        </p:nvSpPr>
        <p:spPr>
          <a:xfrm>
            <a:off x="7467480" y="2827440"/>
            <a:ext cx="1524240" cy="2643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Проект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Страны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Операционные</a:t>
            </a: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координационные центры</a:t>
            </a: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,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Координационные центры конвенций,</a:t>
            </a: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другие государственные учреждения</a:t>
            </a: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,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гражданское об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Straight Connector 3"/>
          <p:cNvSpPr/>
          <p:nvPr/>
        </p:nvSpPr>
        <p:spPr>
          <a:xfrm>
            <a:off x="1752480" y="3048120"/>
            <a:ext cx="2286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Straight Connector 13"/>
          <p:cNvSpPr/>
          <p:nvPr/>
        </p:nvSpPr>
        <p:spPr>
          <a:xfrm>
            <a:off x="1752480" y="4343400"/>
            <a:ext cx="2286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Straight Connector 15"/>
          <p:cNvSpPr/>
          <p:nvPr/>
        </p:nvSpPr>
        <p:spPr>
          <a:xfrm flipV="1">
            <a:off x="1981080" y="3048120"/>
            <a:ext cx="0" cy="12952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64" name="Straight Arrow Connector 17"/>
          <p:cNvCxnSpPr>
            <a:endCxn id="557" idx="1"/>
          </p:cNvCxnSpPr>
          <p:nvPr/>
        </p:nvCxnSpPr>
        <p:spPr>
          <a:xfrm>
            <a:off x="1980720" y="3634920"/>
            <a:ext cx="305640" cy="213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65" name="Straight Arrow Connector 19"/>
          <p:cNvCxnSpPr>
            <a:endCxn id="557" idx="0"/>
          </p:cNvCxnSpPr>
          <p:nvPr/>
        </p:nvCxnSpPr>
        <p:spPr>
          <a:xfrm flipH="1">
            <a:off x="3047760" y="2820600"/>
            <a:ext cx="2160" cy="321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66" name="Straight Arrow Connector 21"/>
          <p:cNvCxnSpPr>
            <a:stCxn id="555" idx="0"/>
            <a:endCxn id="557" idx="2"/>
          </p:cNvCxnSpPr>
          <p:nvPr/>
        </p:nvCxnSpPr>
        <p:spPr>
          <a:xfrm flipV="1">
            <a:off x="3009960" y="4552560"/>
            <a:ext cx="38880" cy="2484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67" name="Straight Arrow Connector 23"/>
          <p:cNvCxnSpPr>
            <a:stCxn id="557" idx="3"/>
            <a:endCxn id="553" idx="1"/>
          </p:cNvCxnSpPr>
          <p:nvPr/>
        </p:nvCxnSpPr>
        <p:spPr>
          <a:xfrm flipV="1">
            <a:off x="3809520" y="3634560"/>
            <a:ext cx="305640" cy="213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68" name="Straight Arrow Connector 26"/>
          <p:cNvCxnSpPr>
            <a:stCxn id="553" idx="3"/>
            <a:endCxn id="554" idx="1"/>
          </p:cNvCxnSpPr>
          <p:nvPr/>
        </p:nvCxnSpPr>
        <p:spPr>
          <a:xfrm>
            <a:off x="5409720" y="3635280"/>
            <a:ext cx="229320" cy="1850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69" name="Straight Arrow Connector 28"/>
          <p:cNvCxnSpPr>
            <a:stCxn id="554" idx="3"/>
            <a:endCxn id="560" idx="1"/>
          </p:cNvCxnSpPr>
          <p:nvPr/>
        </p:nvCxnSpPr>
        <p:spPr>
          <a:xfrm>
            <a:off x="7086600" y="3819240"/>
            <a:ext cx="381600" cy="345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70" name="Right Arrow 29"/>
          <p:cNvSpPr/>
          <p:nvPr/>
        </p:nvSpPr>
        <p:spPr>
          <a:xfrm>
            <a:off x="5867280" y="1828800"/>
            <a:ext cx="9144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Right Arrow 41"/>
          <p:cNvSpPr/>
          <p:nvPr/>
        </p:nvSpPr>
        <p:spPr>
          <a:xfrm>
            <a:off x="2209680" y="1828800"/>
            <a:ext cx="9144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TextBox 43"/>
          <p:cNvSpPr/>
          <p:nvPr/>
        </p:nvSpPr>
        <p:spPr>
          <a:xfrm>
            <a:off x="380880" y="160020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Стратегическое руководство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TextBox 44"/>
          <p:cNvSpPr/>
          <p:nvPr/>
        </p:nvSpPr>
        <p:spPr>
          <a:xfrm>
            <a:off x="3809880" y="17524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Операционная деятельнос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TextBox 45"/>
          <p:cNvSpPr/>
          <p:nvPr/>
        </p:nvSpPr>
        <p:spPr>
          <a:xfrm>
            <a:off x="7543800" y="17524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Конкретные действ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Rectangle 24"/>
          <p:cNvSpPr/>
          <p:nvPr/>
        </p:nvSpPr>
        <p:spPr>
          <a:xfrm>
            <a:off x="2596320" y="6168960"/>
            <a:ext cx="115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лан работ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3962520" y="61722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нализ проект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5638680" y="6172200"/>
            <a:ext cx="160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работка проект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Rectangle 3"/>
          <p:cNvSpPr/>
          <p:nvPr/>
        </p:nvSpPr>
        <p:spPr>
          <a:xfrm>
            <a:off x="7315200" y="556272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мысел проекта, его согласование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ализация проект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80" name="Подзаголовок 2"/>
          <p:cNvSpPr/>
          <p:nvPr/>
        </p:nvSpPr>
        <p:spPr>
          <a:xfrm>
            <a:off x="485640" y="56844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От замысла проекта до его согласования/запроса на утвержд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685440" y="251460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мысел проект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ан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ние национального портфел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ов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акультатив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цепция проект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генст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а определения проекта (ФОП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рант на подготовку проекта (ГПП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иповые форм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али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П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ПП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кретариатом ГЭФ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ключение в план работы и утверждение Совет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готовка проект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генсто ГЭ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кумент по проекту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генст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номасштабные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SP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еднемасштабные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SP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 проект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иповые форм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смотрение Секретариатом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тверждение/согласование ИД и уведомление Сов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Picture 2" descr=""/>
          <p:cNvPicPr/>
          <p:nvPr/>
        </p:nvPicPr>
        <p:blipFill>
          <a:blip r:embed="rId1"/>
          <a:stretch/>
        </p:blipFill>
        <p:spPr>
          <a:xfrm>
            <a:off x="-9360" y="1908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86" name="Подзаголовок 2"/>
          <p:cNvSpPr/>
          <p:nvPr/>
        </p:nvSpPr>
        <p:spPr>
          <a:xfrm>
            <a:off x="485640" y="58752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90360" y="1143000"/>
            <a:ext cx="779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Особенности проектного цикла ГЭФ</a:t>
            </a: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-5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762120" y="19807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ФОП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едставляются на основе скользящего график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18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есяцев подготовки (для полномасштабных проектов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чиная с даты согласования Советом до утверждения ИД окончательного документа по проект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18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есяцев подготовки (для среднемасштабных проектов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лько для проектов, которые представили запрос на ГПП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чиная с даты утверждения ФОП ИД до утверждения им окончательного документа по проект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граммный рамочный документ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Д) для программных подходов (ПП) может представляться только на заседаниях Совета, созываемых дважды в год (в мае и ноябр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92" name="Подзаголовок 2"/>
          <p:cNvSpPr/>
          <p:nvPr/>
        </p:nvSpPr>
        <p:spPr>
          <a:xfrm>
            <a:off x="485640" y="57780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Этапы проектного цикла ГЭФ</a:t>
            </a: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(1)</a:t>
            </a:r>
            <a:br>
              <a:rPr sz="3600"/>
            </a:br>
            <a:r>
              <a:rPr b="0" lang="en-US" sz="1100" spc="-1" strike="noStrike">
                <a:solidFill>
                  <a:srgbClr val="0066ff"/>
                </a:solidFill>
                <a:latin typeface="Calibri"/>
                <a:ea typeface="Arial"/>
              </a:rPr>
              <a:t>                       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новные этапы для </a:t>
            </a:r>
            <a:r>
              <a:rPr b="0" lang="ru-RU" sz="2400" spc="-1" strike="noStrike">
                <a:solidFill>
                  <a:srgbClr val="558ed5"/>
                </a:solidFill>
                <a:latin typeface="Calibri"/>
                <a:ea typeface="Arial"/>
              </a:rPr>
              <a:t>полномасштабных проектов </a:t>
            </a:r>
            <a:r>
              <a:rPr b="0" lang="en-US" sz="2400" spc="-1" strike="noStrike">
                <a:solidFill>
                  <a:srgbClr val="558ed5"/>
                </a:solidFill>
                <a:latin typeface="Calibri"/>
                <a:ea typeface="Arial"/>
              </a:rPr>
              <a:t>(FSP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овет/Секретариа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ет утверждает план работы, включающий ФОП, утвержденные И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Д утверждает окончательный документ по проект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Агенство ГЭ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ект утверждается агенством ГЭФ, и начинается реализация проек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вершение реализации, окончательная оценка и закрытие финансир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Picture 2" descr=""/>
          <p:cNvPicPr/>
          <p:nvPr/>
        </p:nvPicPr>
        <p:blipFill>
          <a:blip r:embed="rId1"/>
          <a:stretch/>
        </p:blipFill>
        <p:spPr>
          <a:xfrm>
            <a:off x="-3168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98" name="Подзаголовок 2"/>
          <p:cNvSpPr/>
          <p:nvPr/>
        </p:nvSpPr>
        <p:spPr>
          <a:xfrm>
            <a:off x="485640" y="57780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Подзаголовок 2"/>
          <p:cNvSpPr/>
          <p:nvPr/>
        </p:nvSpPr>
        <p:spPr>
          <a:xfrm>
            <a:off x="1238400" y="46656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Этапы проектного цикла ГЭФ</a:t>
            </a: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(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новные этапы для </a:t>
            </a:r>
            <a:r>
              <a:rPr b="0" lang="ru-RU" sz="2400" spc="-1" strike="noStrike">
                <a:solidFill>
                  <a:srgbClr val="558ed5"/>
                </a:solidFill>
                <a:latin typeface="Calibri"/>
                <a:ea typeface="Arial"/>
              </a:rPr>
              <a:t>среднемасштабных проектов </a:t>
            </a:r>
            <a:r>
              <a:rPr b="0" lang="en-US" sz="2400" spc="-1" strike="noStrike">
                <a:solidFill>
                  <a:srgbClr val="558ed5"/>
                </a:solidFill>
                <a:latin typeface="Calibri"/>
                <a:ea typeface="Arial"/>
              </a:rPr>
              <a:t>(MSP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Утверждение в один этап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Д утверждает окончательный документ по проект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ект утверждается в рамках агенства ГЭФ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 начинается его реализация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Утверждение в два этап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случае подачи запроса н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ПП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ОП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дставляется на утверждение ИД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Д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тверждает окончательный документ по проект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 утверждается в рамках ГЭФ агенства, и начинается его реализаци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3" name="Picture 2" descr=""/>
          <p:cNvPicPr/>
          <p:nvPr/>
        </p:nvPicPr>
        <p:blipFill>
          <a:blip r:embed="rId1"/>
          <a:stretch/>
        </p:blipFill>
        <p:spPr>
          <a:xfrm>
            <a:off x="-9360" y="1908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04" name="Подзаголовок 2"/>
          <p:cNvSpPr/>
          <p:nvPr/>
        </p:nvSpPr>
        <p:spPr>
          <a:xfrm>
            <a:off x="485640" y="58752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Подзаголовок 2"/>
          <p:cNvSpPr/>
          <p:nvPr/>
        </p:nvSpPr>
        <p:spPr>
          <a:xfrm>
            <a:off x="1257480" y="47628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itle 1"/>
          <p:cNvSpPr/>
          <p:nvPr/>
        </p:nvSpPr>
        <p:spPr>
          <a:xfrm>
            <a:off x="1266840" y="1066680"/>
            <a:ext cx="7315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Среднемасштабные проект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8" name="Content Placeholder 3" descr=""/>
          <p:cNvPicPr/>
          <p:nvPr/>
        </p:nvPicPr>
        <p:blipFill>
          <a:blip r:embed="rId1"/>
          <a:stretch/>
        </p:blipFill>
        <p:spPr>
          <a:xfrm>
            <a:off x="1170000" y="1639800"/>
            <a:ext cx="3067200" cy="4529160"/>
          </a:xfrm>
          <a:prstGeom prst="rect">
            <a:avLst/>
          </a:prstGeom>
          <a:ln w="0">
            <a:noFill/>
          </a:ln>
        </p:spPr>
      </p:pic>
      <p:pic>
        <p:nvPicPr>
          <p:cNvPr id="609" name="Diagram 4" descr=""/>
          <p:cNvPicPr/>
          <p:nvPr/>
        </p:nvPicPr>
        <p:blipFill>
          <a:blip r:embed="rId2"/>
          <a:stretch/>
        </p:blipFill>
        <p:spPr>
          <a:xfrm>
            <a:off x="4511520" y="1573200"/>
            <a:ext cx="2554560" cy="4589640"/>
          </a:xfrm>
          <a:prstGeom prst="rect">
            <a:avLst/>
          </a:prstGeom>
          <a:ln w="0">
            <a:noFill/>
          </a:ln>
        </p:spPr>
      </p:pic>
      <p:sp>
        <p:nvSpPr>
          <p:cNvPr id="610" name="TextBox 5"/>
          <p:cNvSpPr/>
          <p:nvPr/>
        </p:nvSpPr>
        <p:spPr>
          <a:xfrm>
            <a:off x="1371600" y="6303960"/>
            <a:ext cx="579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ГЭФ одобряет проект после его утверждения ИД, и начинается его реализац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1" name="Picture 2" descr=""/>
          <p:cNvPicPr/>
          <p:nvPr/>
        </p:nvPicPr>
        <p:blipFill>
          <a:blip r:embed="rId3"/>
          <a:stretch/>
        </p:blipFill>
        <p:spPr>
          <a:xfrm>
            <a:off x="0" y="76320"/>
            <a:ext cx="9144000" cy="990360"/>
          </a:xfrm>
          <a:prstGeom prst="rect">
            <a:avLst/>
          </a:prstGeom>
          <a:ln w="0">
            <a:noFill/>
          </a:ln>
        </p:spPr>
      </p:pic>
      <p:sp>
        <p:nvSpPr>
          <p:cNvPr id="612" name="Подзаголовок 2"/>
          <p:cNvSpPr/>
          <p:nvPr/>
        </p:nvSpPr>
        <p:spPr>
          <a:xfrm>
            <a:off x="485640" y="58752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Подзаголовок 2"/>
          <p:cNvSpPr/>
          <p:nvPr/>
        </p:nvSpPr>
        <p:spPr>
          <a:xfrm>
            <a:off x="1295280" y="30312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Этапы проектного цикла ГЭФ</a:t>
            </a: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(3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Для вспомогательных мероприятий (два варианта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Прямой доступ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соответствии с политикой в отношении прямого доступ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рана представляет предложение по ВМ для утверждения ИД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Д и страна подписывают Соглашение о гранте, и начинается реализация проек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В отношении грантов на ВМ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применительно ко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всем организациям ГЭФ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ействуют следующие процедуры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Агенство ГЭФ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дставляет ИД предложение по ВМ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Агенство ГЭФ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меняет собственные внутренние процедуры утверждения, и начинается реализация проек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618" name="Подзаголовок 2"/>
          <p:cNvSpPr/>
          <p:nvPr/>
        </p:nvSpPr>
        <p:spPr>
          <a:xfrm>
            <a:off x="485640" y="58752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5:24:26Z</dcterms:created>
  <dc:creator>wb155260</dc:creator>
  <dc:description/>
  <dc:language>en-US</dc:language>
  <cp:lastModifiedBy>wb350798</cp:lastModifiedBy>
  <cp:lastPrinted>2011-09-30T05:59:53Z</cp:lastPrinted>
  <dcterms:modified xsi:type="dcterms:W3CDTF">2011-11-01T20:54:30Z</dcterms:modified>
  <cp:revision>647</cp:revision>
  <dc:subject/>
  <dc:title>Slide 1</dc:title>
</cp:coreProperties>
</file>