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AFF-343F-4A0F-8B7E-784D860DD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FABB-46D2-4DE9-9D6F-0E76EC3AB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B8F-9F78-4F47-9923-006873FE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A7E-634B-426B-8AE6-A8563C11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D46-337C-4A73-A8B3-90779368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5CB-8B35-4292-B06E-2ACF8621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5F1-A630-497D-8932-E2E43F52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544-E14A-4376-8473-A8DC4151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3C8-0FA8-4A7E-A3BB-E91183E2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EAF-659D-4EB5-9C26-13EFE410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5BE-D45B-4149-9408-0E28073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0F2-2A53-4E0B-B8DC-838E7960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F25-CDBB-4B3B-BF2A-AA4265D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877-028F-45B2-8185-763B795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C366-5F12-4DCF-A42E-D306358344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1-11-01T18:12:51Z</dcterms:modified>
  <cp:revision>119</cp:revision>
  <dc:subject/>
  <dc:title>Slide Title Here</dc:title>
</cp:coreProperties>
</file>