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43B-0DF4-44F0-B306-1456D9F9B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25B-026C-4A5A-BF4B-F960C167F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AB1-13AD-44C1-B14C-BE87C0FE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ED0-C3B7-4EAE-98B3-F6EC59FF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8EB-5D20-4132-9875-A436D9E1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642-D829-4E74-8E1E-A36B448B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324-50AD-47EF-9786-52D844AD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90F-2E91-4554-985D-F5DFC78A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67C-7DBD-4B3E-B199-19677EC1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F31-2A03-459E-AD57-8A37DED1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86D-F22F-4B6B-BD7B-F91728AE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B54-CEAB-4E6A-B362-6E3604F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2E1-0EEE-4D94-BDBB-4F7DE70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910-D974-4B88-9984-4B72472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10B-A8FE-475F-8D08-F503C2375F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1-11-01T18:12:51Z</dcterms:modified>
  <cp:revision>119</cp:revision>
  <dc:subject/>
  <dc:title>Slide Title Here</dc:title>
</cp:coreProperties>
</file>