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808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8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shasa, D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5D5A-08C0-4789-84BB-A90707D5C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21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AFB2-6309-4423-BDCF-D870513C8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shasa, D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Header Placeholder 6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552-856E-480A-A194-CD547D93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1ED-BC7E-4B3A-B4D0-B45B391A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F5D-2130-4BBE-9856-EBFFFC4D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98D-6FB4-4E92-87B8-BDED72F9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DD3-D11A-41F6-843C-66D99868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4D6-1A99-460C-A063-1867CC9F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E6B-5DDB-4171-91E9-E04291B3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DDA-36A3-49D7-B940-C30BD6D6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EC1-C6A2-4F6E-92EF-4DCF42D6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064-0184-42C7-9CF2-4E0CC45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8A8-B0E1-490A-AF0E-EFD3831E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B7C-C622-49BA-993C-17E49C3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CC9-FB85-4A78-AEAB-B5CBC732A1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July 6 - 8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en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What is a Pr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5540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body has their own ideas on what a program should be or should not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are not defined in the OECD glossary of key terms in evaluation and results base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d is used 24 times in English  #72 times in the tri-language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: program definition is computer language orie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1-08-12T15:21:12Z</dcterms:modified>
  <cp:revision>114</cp:revision>
  <dc:subject/>
  <dc:title>Slide Title Here</dc:title>
</cp:coreProperties>
</file>