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9336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27240" y="-360"/>
            <a:ext cx="3004920" cy="4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Februar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58840" y="691920"/>
            <a:ext cx="4618080" cy="34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832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769240"/>
            <a:ext cx="3005280" cy="4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shasa, DR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2724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385ED-76DD-400C-8773-23DEBF6B9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8080" cy="34621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832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213BA-A414-45C5-81AB-B520C8EE3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Date Placeholder 4"/>
          <p:cNvSpPr/>
          <p:nvPr/>
        </p:nvSpPr>
        <p:spPr>
          <a:xfrm>
            <a:off x="3927600" y="0"/>
            <a:ext cx="3004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Februar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ooter Placeholder 5"/>
          <p:cNvSpPr/>
          <p:nvPr/>
        </p:nvSpPr>
        <p:spPr>
          <a:xfrm>
            <a:off x="0" y="8769240"/>
            <a:ext cx="30052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shasa, DR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Header Placeholder 6"/>
          <p:cNvSpPr/>
          <p:nvPr/>
        </p:nvSpPr>
        <p:spPr>
          <a:xfrm>
            <a:off x="0" y="0"/>
            <a:ext cx="30052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FA54-66F3-4A32-BA5A-8CCAED6D9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686C-EE0C-4DF2-9790-F66EEB6C9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5B54-1B43-4892-82F6-45AC04536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EC6C-2CA9-4D27-B51D-0628B7D3F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7555-2DFC-450A-BF00-2F2507A30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7B4F-2EEE-4326-B8BB-949482F92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045B-1822-49D4-9366-47196FCB7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5E5C-02F3-4A86-BEA8-895311D9E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70B4-3CAB-4D74-8F3B-72C2B1508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AFCC-5959-404E-8A3C-CBDC0873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06F6-7903-4A30-89F1-BC0F6586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AF18-128E-4D65-B591-759803E7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15 Februar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2E1DB-5020-4C3A-AA00-0C09D9448AE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Mobilizing Resources through Programmatic Approach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ubtitle 4"/>
          <p:cNvSpPr/>
          <p:nvPr/>
        </p:nvSpPr>
        <p:spPr>
          <a:xfrm>
            <a:off x="1295280" y="38098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  <a:ea typeface="Arial"/>
              </a:rPr>
              <a:t>GEF Expanded Constituency Works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42d"/>
                </a:solidFill>
                <a:latin typeface="Calibri"/>
                <a:ea typeface="Arial"/>
              </a:rPr>
              <a:t>July 6 - 8,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42d"/>
                </a:solidFill>
                <a:latin typeface="Calibri"/>
                <a:ea typeface="Arial"/>
              </a:rPr>
              <a:t>Dakar, Seneg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44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fr-FR" sz="4400" spc="-1" strike="noStrike">
                <a:solidFill>
                  <a:srgbClr val="558ed5"/>
                </a:solidFill>
                <a:latin typeface="Calibri"/>
              </a:rPr>
              <a:t>Key doc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304920" y="243828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34880">
              <a:spcBef>
                <a:spcPts val="601"/>
              </a:spcBef>
              <a:spcAft>
                <a:spcPts val="601"/>
              </a:spcAft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558ed5"/>
                </a:solidFill>
                <a:latin typeface="Calibri"/>
              </a:rPr>
              <a:t>Program Framework Document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, including a Result Framework, a baseline, List of projects that contribute to the program goal and objectives, monitoring, indicators (+Monitoring bud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34880">
              <a:spcBef>
                <a:spcPts val="70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800" spc="-1" strike="noStrike">
                <a:solidFill>
                  <a:srgbClr val="558ed5"/>
                </a:solidFill>
                <a:latin typeface="Calibri"/>
              </a:rPr>
              <a:t>Annual Implementation Report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of the pr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Standards for GEF P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0492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GEF programmatic approach will be pursued where there is a strong rationa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ngo Basin Forests – Pacific Islands – Energy in Afric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ogram must be based on country prior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high level of political and economic commit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commitment for partnerships at national level across line ministries and agen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open transparent process that encourages multi-stakeholder involv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THANK YOU FOR YOUR ATTENTION!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35053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EF websi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ww.thegef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What is a Progra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225540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rybody has their own ideas on what a program should be or should not 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grams are not defined in the OECD glossary of key terms in evaluation and results based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word is used 24 times in English  #72 times in the tri-language ver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ogle: program definition is computer language orien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558ed5"/>
                </a:solidFill>
                <a:latin typeface="Calibri"/>
              </a:rPr>
              <a:t>What a (GEF) program i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205704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343080" indent="-343080">
              <a:lnSpc>
                <a:spcPct val="90000"/>
              </a:lnSpc>
              <a:spcBef>
                <a:spcPts val="6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GEF Program = a framework to facilitate results under common objectives and ru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hanced opportunities to generate synergies across GEF focal areas and with partn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rogrammatic approach needs to be consistent with the GEF focal area strategies to maximize and scale up global environment benef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are different level of programs at the GEF – global, regional, national, thematic, multi-focal, single focal ar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tinct from a multi-country project or a regional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All GEF Focal areas have experiences with programs:</a:t>
            </a:r>
            <a:br>
              <a:rPr sz="36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80880" y="2361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57160" indent="-399960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W: Strategic Partnerships on Fisheries in West Afr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99960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D: CPP, S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99960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C: Strategic Program on Energy for West Afr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99960">
              <a:spcBef>
                <a:spcPts val="201"/>
              </a:spcBef>
              <a:spcAft>
                <a:spcPts val="201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FA: Coral Triangle Initiativ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BD, IW, CC, Adaptatio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99960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FM: Congo Basin Strategic Prog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5 out of 33 were launched under GEF4 ($1.6 billion; leveraging $7.9 billio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P:  Strategic Investment Partnershi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PP:  Country Partnership Pro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GP:  Small Grants Pro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Added Value of a P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04560" y="16761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For the GE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2200"/>
              </a:lnSpc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ximize Global Benefits by mor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ynergies: a cost efficient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2200"/>
              </a:lnSpc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han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F catalytic rol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leverage additional financ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2200"/>
              </a:lnSpc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sier to monitor and evalu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Countr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2200"/>
              </a:lnSpc>
              <a:spcBef>
                <a:spcPts val="34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mor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trategic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nteraction with the GEF;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owards a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untry driven proces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2200"/>
              </a:lnSpc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portunities to pool resources from various GEF focal are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2200"/>
              </a:lnSpc>
              <a:spcBef>
                <a:spcPts val="601"/>
              </a:spcBef>
              <a:spcAft>
                <a:spcPts val="601"/>
              </a:spcAft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portunities to secure financing and mobiliz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tn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genc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2200"/>
              </a:lnSpc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tter predictability - Less transaction cos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2200"/>
              </a:lnSpc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ore strategic interaction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countries based on Agency comparative advant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artn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2200"/>
              </a:lnSpc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tnerships – Additional funding - Synergi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Institutional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25909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treamlining the project cycle &amp; refining the programmatic approach,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GEF/C.38/5/Rev.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rom Projects to Programs: Clarifying the Programmatic Approach in the GEF Portfoli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F/C.33/6, March 21, 200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Overall Objec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80880" y="19807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34880">
              <a:spcBef>
                <a:spcPts val="601"/>
              </a:spcBef>
              <a:spcAft>
                <a:spcPts val="601"/>
              </a:spcAft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secur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arger-sca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sustained impact on the global environment through integrating global environmental objectives into national or regional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rategi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plans using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artnership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34880">
              <a:spcBef>
                <a:spcPts val="601"/>
              </a:spcBef>
              <a:spcAft>
                <a:spcPts val="601"/>
              </a:spcAft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disburse large-scale GEF resources effectively and efficiently to countries and regions with enhanced accountability and oversigh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34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58ed5"/>
                </a:solidFill>
                <a:latin typeface="Calibri"/>
              </a:rPr>
              <a:t>Refining the programmatic approa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8088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OPTION 1- Current Programmatic Approach with modification: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Multi-agency program with a Program Coordination Agency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gram Framework Document approval by the Council (+ PIFs if ready): resources are set asi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PIFs are approved 6 months after PFD approv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cycle as regular projects (PIF – PPG – CEO Endorsemen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ime between PIF approval and CEO endorsement: ≤ 18 month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ees: 9% for each participating agenc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Coordination fee: case-by-case (indicative amount $500,00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OPTION 2 - New Approach: Single Agency Program with a Qualifying Age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FD Approval by the Council (resources set asid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FD contains project ideas (one pag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IF step is skipped – Each QA follows its own project preparation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documents are submitted to the GEFSEC for endorsement/approval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ime between PFD approval and CEO endorsement: 18 months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gency fee: 8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preparation grant can be approved by the CEO after PFD approv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3T06:29:31Z</dcterms:created>
  <dc:creator>mikec</dc:creator>
  <dc:description/>
  <dc:language>en-US</dc:language>
  <cp:lastModifiedBy>wb350798</cp:lastModifiedBy>
  <dcterms:modified xsi:type="dcterms:W3CDTF">2011-08-12T15:21:12Z</dcterms:modified>
  <cp:revision>114</cp:revision>
  <dc:subject/>
  <dc:title>Slide Title Here</dc:title>
</cp:coreProperties>
</file>