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8A54-0599-429C-9A16-F17777524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D861-1868-4640-8384-D9CFBA802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8AC-FBB1-4648-9E72-5BC48D63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5FF-092B-42BC-A7B3-FCF1DF7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7F9-DD08-4F81-A8D1-B422190A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612-3C85-4056-9340-6FF6495E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31B-086E-4E13-A4B3-207307A2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505-0D37-4774-A14F-74864E1C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6FB-FE2A-4317-8985-745AFE4C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036-0EB0-4837-A6E6-9B116EF1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414-A2B0-481D-ACD1-E754F97D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E90-3BD9-407E-9025-4E0E2FD1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07A-6240-4125-B626-DEC40F3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319-1114-4384-9517-14BE48A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782-B0AC-44C3-9846-78BD316E68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42d"/>
                </a:solidFill>
                <a:latin typeface="Calibri"/>
              </a:rPr>
              <a:t>Mobilisation de ressources par l’intermédiaire des plateformes-cadres</a:t>
            </a:r>
            <a:br>
              <a:rPr sz="3200"/>
            </a:br>
            <a:r>
              <a:rPr b="1" lang="fr-FR" sz="3200" spc="-1" strike="noStrike">
                <a:solidFill>
                  <a:srgbClr val="00642d"/>
                </a:solidFill>
                <a:latin typeface="Calibri"/>
              </a:rPr>
              <a:t>(Approche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44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Documents cl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Descriptif de plateforme-cad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y compris un cadre de résultats, un scénario de base, une liste des projets contribuant au but et aux objectifs du programme, un suivi, des indicateurs (+budget du suiv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Examen annuel d’avanceme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projets du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3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Principes applicables aux plateformes-cadres du F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plateforme-cadre du FEM est mise en œuvre lorsqu’elle est profondément justifié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Par exemple,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orêts du bassin  du Congo– iles du Pacifiques – énergie en Afr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rogramme doit s’appuyer sur les priorités nat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rt engagement politique et économ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engagement dans des partenariats nationaux au delà des ministères sectoriels et des ag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cessus ouvert et transparent qui encourage une participation multipart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MERCI DE VOTRE ATTENTION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3048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te web du FEM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Qu’est-ce qu’un programme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554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cun a sa propre idée de ce qu’un programme doit être ou ne pas ê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Glossaire OCDE des principaux termes relatifs à l’évaluation et la gestion axée sur les résultats ne définit pas les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erme apparaît 24 fois en anglais et 72 fois dans la version trilin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oogle : la définition de programme est axée sur l’informat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Un programme (FEM) es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cadre visant à faciliter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obtention de résultats selon des règles et des objectifs commu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 plus grandes possibilités de créer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ynergi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ntre les domaines d’intervention du FEM et entre les parte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plateforme-cadre doit être en harmonie avec l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tratégies pour les domaines d’intervention du FEM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afin de maximiser et d’amplifier les bénéfices pour l’environnement mond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grammes du FEM s’articulent sur plusieurs plans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ndial, régional, national, thématique, multisectoriel, unisecto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istinct d’un projet multinational ou d’un projet rég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6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Tous les domaines d’intervention du FEM ont l’expérience des programme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25146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aux internationales : Partenariats stratégiques sur la pèche en Afrique de l’Ou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gradation des sols : PNP, P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hangement climatique : Programme stratégique sur l’énergie pour l’Afrique de l’Ou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tivités plurisectorielles : Initiative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Coral Triangl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(Biodiversité, Eaux internationales, Changement climatique, Adapt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estion durable des forêts : Programme stratégique pour le bassin du Con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25 programmes sur 33 ont été lancés dans le cadre du FEM-4 (1,6 milliard de dollars, qui ont mobilisé 7,9 milliards de dollar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IS :  Partenariat d’investissement stratég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NP : Programme national de partenari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M :  Programme de microfinancem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6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Valeur ajoutée d’une plateforme-ca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Pour le F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ximisation des bénéfices globaux grâce à davantage de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ynergies : processus économ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tensification du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ôle catalyseur du FEM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our mobiliser des financements supplémentai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lus grande facilité de suivi et d’é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Pour les p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teraction plus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tratégiqu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vec le FEM, débouchant sur un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processus piloté par les p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ossibilités de mettre en commun les ressources des divers domaines d’intervention du F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ossibilités de mobiliser des financements et des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partenai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Pour les agen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eilleure prévisibilité – Moindres coûts de transa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avantage d’interactions stratégiques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vec les pays, grâce à l’avantage comparatif des agen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Pour les partenai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rtenariats – Financements supplémentaires – Synergi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Définition institutionnel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llègement du cycle de projet et meilleure administration de l’approche-programme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De l’approche-projet à l’approche-programme : Les plateformes-cadres dans le portefeuille du FEM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EF/C.33/6, 21 mars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Objectif glob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arantir un impact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grande échel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durable sur l’environnement mondial en intégrant les objectifs pour l’environnement mondial à de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stratég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et plans nationaux ou régionaux au moyen de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artenariat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ire bénéficier efficacement les pays et régions d’importantes ressources du FEM, avec une responsabilité et une supervision financières  renforcé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3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Élaboration de la plateforme-ca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OPTION 1- Plateforme-cadre existante avec modification :</a:t>
            </a:r>
            <a:r>
              <a:rPr b="0" lang="fr-FR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Programme faisant appel à plusieurs agences et à une agence de coord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probation du descriptif de plateforme-cadre par le Conseil (+ FIP, si elles sont prêtes) : affectation de res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tes les FIP sont approuvées 6 mois après l’approbation du DP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ycle de projet régulier (FIP – ¨financement PPG – validation par le D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lai entre approbation des FIP et validation par le DG  ≤ 18 m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raiement : 9% pour chaque agence particip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is de coordination : au cas par cas (montant indicatif 500 000 doll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7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OPTION 2 – Nouvelle plateforme-cadre : Programme faisant appel à une seule agence qualifi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probation du DPC par le Conseil (affectation des ressour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PC comprend les idées du projet (u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tape relative aux FIP est supprimée – Chaque agence qualifiée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it sa propre préparation de projet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descriptifs de projet sont soumis au Secrétariat du FEM pour validation/approb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lai entre approbation des FIP et validation par le DG : 18 moi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raiement des agences 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rès approbation du DPC, un financement PPG peut être approuvé par le D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8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cp:lastPrinted>2011-02-14T18:07:28Z</cp:lastPrinted>
  <dcterms:modified xsi:type="dcterms:W3CDTF">2011-08-12T15:21:31Z</dcterms:modified>
  <cp:revision>163</cp:revision>
  <dc:subject/>
  <dc:title>Slide Title Here</dc:title>
</cp:coreProperties>
</file>