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4D6B-3F27-47DD-B86E-B2178595A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D26B-769D-421A-B1E8-61DD0FE6B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0D7-5B34-4188-B00F-6AD0AC49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F66-65B9-490D-A7FD-74A3148C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F08-9AA8-474F-B130-C2C4508C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399-90E4-4C5D-A619-BC00E07E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B95-86DB-4319-9FBA-0A4678F8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B48-763F-4284-B1EA-7EF76288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517-BE4C-4792-8F41-72656BCB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837-7313-44CD-9C53-84644708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C60-564B-479C-8930-7E4FCD81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3C4-5D29-49BC-A8C7-C7981A1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476-7F9F-4BEC-A05C-0170F878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CC7-3C56-465A-9A08-EF730BF0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D343-C8DF-4406-8537-258A5179E0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42d"/>
                </a:solidFill>
                <a:latin typeface="Calibri"/>
              </a:rPr>
              <a:t>Mobilisation de ressources par l’intermédiaire des plateformes-cadres</a:t>
            </a:r>
            <a:br>
              <a:rPr sz="3200"/>
            </a:br>
            <a:r>
              <a:rPr b="1" lang="fr-FR" sz="3200" spc="-1" strike="noStrike">
                <a:solidFill>
                  <a:srgbClr val="00642d"/>
                </a:solidFill>
                <a:latin typeface="Calibri"/>
              </a:rPr>
              <a:t>(Approche Program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4"/>
          <p:cNvSpPr/>
          <p:nvPr/>
        </p:nvSpPr>
        <p:spPr>
          <a:xfrm>
            <a:off x="15238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6 – 8 juille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Dakar, Séné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44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Documents clé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04920" y="22093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Descriptif de plateforme-cadr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y compris un cadre de résultats, un scénario de base, une liste des projets contribuant au but et aux objectifs du programme, un suivi, des indicateurs (+budget du suiv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Examen annuel d’avancemen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projets du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3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Principes applicables aux plateformes-cadres du F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plateforme-cadre du FEM est mise en œuvre lorsqu’elle est profondément justifié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Par exemple,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orêts du bassin  du Congo– iles du Pacifiques – énergie en Afr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programme doit s’appuyer sur les priorités nat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rt engagement politique et économ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engagement dans des partenariats nationaux au delà des ministères sectoriels et des ag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cessus ouvert et transparent qui encourage une participation multipart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MERCI DE VOTRE ATTENTION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30481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te web du FEM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Qu’est-ce qu’un programme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5540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cun a sa propre idée de ce qu’un programme doit être ou ne pas ê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Glossaire OCDE des principaux termes relatifs à l’évaluation et la gestion axée sur les résultats ne définit pas les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erme apparaît 24 fois en anglais et 72 fois dans la version trilin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oogle : la définition de programme est axée sur l’informat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Un programme (FEM) es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399960">
              <a:lnSpc>
                <a:spcPct val="100000"/>
              </a:lnSpc>
              <a:spcBef>
                <a:spcPts val="7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cadre visant à faciliter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obtention de résultats selon des règles et des objectifs commu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99960">
              <a:lnSpc>
                <a:spcPct val="100000"/>
              </a:lnSpc>
              <a:spcBef>
                <a:spcPts val="7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 plus grandes possibilités de créer d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ynergi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ntre les domaines d’intervention du FEM et entre les parte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99960">
              <a:lnSpc>
                <a:spcPct val="100000"/>
              </a:lnSpc>
              <a:spcBef>
                <a:spcPts val="7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plateforme-cadre doit être en harmonie avec l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tratégies pour les domaines d’intervention du FEM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afin de maximiser et d’amplifier les bénéfices pour l’environnement mond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99960">
              <a:lnSpc>
                <a:spcPct val="100000"/>
              </a:lnSpc>
              <a:spcBef>
                <a:spcPts val="7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rogrammes du FEM s’articulent sur plusieurs plans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ndial, régional, national, thématique, multisectoriel, unisector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99960">
              <a:lnSpc>
                <a:spcPct val="100000"/>
              </a:lnSpc>
              <a:spcBef>
                <a:spcPts val="7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istinct d’un projet multinational ou d’un projet rég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6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Tous les domaines d’intervention du FEM ont l’expérience des programmes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251460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aux internationales : Partenariats stratégiques sur la pèche en Afrique de l’Ou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égradation des sols : PNP, P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hangement climatique : Programme stratégique sur l’énergie pour l’Afrique de l’Ou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tivités plurisectorielles : Initiative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Coral Triangl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(Biodiversité, Eaux internationales, Changement climatique, Adapt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Gestion durable des forêts : Programme stratégique pour le bassin du Con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25 programmes sur 33 ont été lancés dans le cadre du FEM-4 (1,6 milliard de dollars, qui ont mobilisé 7,9 milliards de dollar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PIS :  Partenariat d’investissement stratég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PNP : Programme national de partenari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PM :  Programme de microfinancem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6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Valeur ajoutée d’une plateforme-ca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Pour le F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aximisation des bénéfices globaux grâce à davantage de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synergies : processus économ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tensification du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ôle catalyseur du FEM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our mobiliser des financements supplémentai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lus grande facilité de suivi et d’évalu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Pour les p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teraction plus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stratégique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avec le FEM, débouchant sur un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processus piloté par les p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ossibilités de mettre en commun les ressources des divers domaines d’intervention du F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ossibilités de mobiliser des financements et des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partenai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Pour les agen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eilleure prévisibilité – Moindres coûts de transa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avantage d’interactions stratégiques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vec les pays, grâce à l’avantage comparatif des agen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Pour les partenai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rtenariats – Financements supplémentaires – Synergi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Définition institutionnel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llègement du cycle de projet et meilleure administration de l’approche-programme,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De l’approche-projet à l’approche-programme : Les plateformes-cadres dans le portefeuille du FEM,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EF/C.33/6, 21 mars 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Objectif glob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arantir un impact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à grande échell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durable sur l’environnement mondial en intégrant les objectifs pour l’environnement mondial à de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stratég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et plans nationaux ou régionaux au moyen de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artenariat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aire bénéficier efficacement les pays et régions d’importantes ressources du FEM, avec une responsabilité et une supervision financières  renforcé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3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58ed5"/>
                </a:solidFill>
                <a:latin typeface="Calibri"/>
              </a:rPr>
              <a:t>Élaboration de la plateforme-ca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OPTION 1- Plateforme-cadre existante avec modification :</a:t>
            </a:r>
            <a:r>
              <a:rPr b="0" lang="fr-FR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Programme faisant appel à plusieurs agences et à une agence de coord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pprobation du descriptif de plateforme-cadre par le Conseil (+ FIP, si elles sont prêtes) : affectation de res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outes les FIP sont approuvées 6 mois après l’approbation du DP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ycle de projet régulier (FIP – ¨financement PPG – validation par le D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lai entre approbation des FIP et validation par le DG  ≤ 18 m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fraiement : 9% pour chaque agence particip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is de coordination : au cas par cas (montant indicatif 500 000 doll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7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OPTION 2 – Nouvelle plateforme-cadre : Programme faisant appel à une seule agence qualifié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pprobation du DPC par le Conseil (affectation des ressour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PC comprend les idées du projet (une p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tape relative aux FIP est supprimée – Chaque agence qualifiée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it sa propre préparation de projet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descriptifs de projet sont soumis au Secrétariat du FEM pour validation/approb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lai entre approbation des FIP et validation par le DG : 18 moi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fraiement des agences :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près approbation du DPC, un financement PPG peut être approuvé par le D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8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cp:lastPrinted>2011-02-14T18:07:28Z</cp:lastPrinted>
  <dcterms:modified xsi:type="dcterms:W3CDTF">2011-08-12T15:21:31Z</dcterms:modified>
  <cp:revision>163</cp:revision>
  <dc:subject/>
  <dc:title>Slide Title Here</dc:title>
</cp:coreProperties>
</file>