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26"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7" name="PlaceHolder 2"/>
          <p:cNvSpPr>
            <a:spLocks noGrp="1"/>
          </p:cNvSpPr>
          <p:nvPr>
            <p:ph type="dt" idx="10"/>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8"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9"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0" name="PlaceHolder 5"/>
          <p:cNvSpPr>
            <a:spLocks noGrp="1"/>
          </p:cNvSpPr>
          <p:nvPr>
            <p:ph type="ftr" idx="11"/>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1" name="PlaceHolder 6"/>
          <p:cNvSpPr>
            <a:spLocks noGrp="1"/>
          </p:cNvSpPr>
          <p:nvPr>
            <p:ph type="sldNum" idx="12"/>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BA01E-35F9-4797-9B33-BAA97DA026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04840" y="696960"/>
            <a:ext cx="4648320" cy="3486240"/>
          </a:xfrm>
          <a:prstGeom prst="rect">
            <a:avLst/>
          </a:prstGeom>
          <a:ln w="0">
            <a:noFill/>
          </a:ln>
        </p:spPr>
      </p:sp>
      <p:sp>
        <p:nvSpPr>
          <p:cNvPr id="15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54C1B-2FE4-4DCC-850F-D470DA743CB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2E51B9-12A5-432F-8C5D-3370AD6A10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592E06-9DE4-4947-AFD6-62778441DE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5FAACE-1C78-498C-B764-CCE5A890BE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ADCD0C-41F8-4F29-BDAC-D3E79F6476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8B435A-F774-495D-BEA7-318DE17997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0CBEE1-865F-4BA2-88FE-FC3EEA8632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F53689-03A1-4A22-8987-6916B7B2CE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08784F-A0EE-4286-B951-0FD0FED8F4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746BDB-19CF-45B0-99D4-D7E793D454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6E8E3E-89E8-4B6A-AC58-78A4936485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087E28-7F95-4D74-BCAA-34496788ED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02BD00-CA18-4744-BF74-D784DC4138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8D8F22-0F21-40B4-8100-77958B4081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4D5186-18A7-4D16-917E-2491721F21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C4776F-3FB1-47AE-BD5C-A71CEF6467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D562D9-071B-4A4E-8573-41BBD14DE1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69EEC6-62AB-4AE3-9AF8-BD59DEECB1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B9CE824-C20B-4E17-B6F4-23C2824C8D9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5EC48A-8433-4FE8-9111-33D090ECF1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55BC58-29F5-49E1-A669-84F73550D6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AE18D2-1F5C-4B65-B65D-6EF95B37CE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9BBF35-6E49-4E89-ADB1-82250B1DC9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A973F2-2BF6-485E-8044-0FED9362C3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450D38-D573-4FD3-BA32-F56C679ED0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AE07C6-62DF-4658-9549-43CEAA6A6E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12E01E-F650-4E86-8A60-D78B69C52F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D23EFF-A914-4377-9A5C-70F4DD1FDB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610AE4-E13D-42E4-B245-7D0356A8EE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276C22C-C2D9-4F0C-BC72-BCA1EC6608C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75B2BA2-B87F-4B26-A06C-EF8F9DA3FAC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FCC40C-4DC6-46F5-BEBB-1F1B6A4725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8B6D57-EC20-49E0-90B8-9561E8B0BC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42B61C-12AE-4416-80E9-5012AF8611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21C30-677E-4280-9E0F-3D1AF933A3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D97FF-4B63-44FD-855A-E0D3C02D89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0E521-C80C-4393-A083-6479245742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08825-DFB2-4FA9-B1C4-4B14070E259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3" descr=""/>
          <p:cNvPicPr/>
          <p:nvPr/>
        </p:nvPicPr>
        <p:blipFill>
          <a:blip r:embed="rId2"/>
          <a:stretch/>
        </p:blipFill>
        <p:spPr>
          <a:xfrm>
            <a:off x="0" y="228600"/>
            <a:ext cx="9144000" cy="99072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F9FC4-5C1A-4F23-8B33-1175B1A0EB7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3" descr=""/>
          <p:cNvPicPr/>
          <p:nvPr/>
        </p:nvPicPr>
        <p:blipFill>
          <a:blip r:embed="rId2"/>
          <a:stretch/>
        </p:blipFill>
        <p:spPr>
          <a:xfrm>
            <a:off x="0" y="5867280"/>
            <a:ext cx="9144000" cy="99072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7"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384D6-433E-41B9-B61E-8402E81F6AF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42d"/>
                </a:solidFill>
                <a:latin typeface="Calibri"/>
              </a:rPr>
              <a:t>Update - GEF Pacific Alliance for Sustainability</a:t>
            </a:r>
            <a:endParaRPr b="0" lang="en-US" sz="4000" spc="-1" strike="noStrike">
              <a:solidFill>
                <a:srgbClr val="000000"/>
              </a:solidFill>
              <a:latin typeface="Calibri"/>
            </a:endParaRPr>
          </a:p>
        </p:txBody>
      </p:sp>
      <p:sp>
        <p:nvSpPr>
          <p:cNvPr id="133" name="PlaceHolder 2"/>
          <p:cNvSpPr>
            <a:spLocks noGrp="1"/>
          </p:cNvSpPr>
          <p:nvPr>
            <p:ph type="subTitle"/>
          </p:nvPr>
        </p:nvSpPr>
        <p:spPr>
          <a:xfrm>
            <a:off x="1066320" y="4038120"/>
            <a:ext cx="6705720" cy="1600200"/>
          </a:xfrm>
          <a:prstGeom prst="rect">
            <a:avLst/>
          </a:prstGeom>
          <a:noFill/>
          <a:ln w="0">
            <a:noFill/>
          </a:ln>
        </p:spPr>
        <p:txBody>
          <a:bodyPr anchor="t">
            <a:noAutofit/>
          </a:bodyPr>
          <a:p>
            <a:pPr indent="0" algn="ctr">
              <a:lnSpc>
                <a:spcPct val="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42d"/>
                </a:solidFill>
                <a:latin typeface="Calibri"/>
              </a:rPr>
              <a:t>GEF Expanded Constituency Workshop</a:t>
            </a:r>
            <a:endParaRPr b="0" lang="en-US" sz="3000" spc="-1" strike="noStrike">
              <a:solidFill>
                <a:srgbClr val="000000"/>
              </a:solidFill>
              <a:latin typeface="Calibri"/>
            </a:endParaRPr>
          </a:p>
          <a:p>
            <a:pPr indent="0" algn="ctr">
              <a:lnSpc>
                <a:spcPct val="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42d"/>
                </a:solidFill>
                <a:latin typeface="Calibri"/>
              </a:rPr>
              <a:t>27 - 29 September 2011</a:t>
            </a:r>
            <a:endParaRPr b="0" lang="en-US" sz="3000" spc="-1" strike="noStrike">
              <a:solidFill>
                <a:srgbClr val="000000"/>
              </a:solidFill>
              <a:latin typeface="Calibri"/>
            </a:endParaRPr>
          </a:p>
          <a:p>
            <a:pPr indent="0" algn="ctr">
              <a:lnSpc>
                <a:spcPct val="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indent="0" algn="ctr">
              <a:lnSpc>
                <a:spcPct val="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42d"/>
                </a:solidFill>
                <a:latin typeface="Calibri"/>
              </a:rPr>
              <a:t>Honiara, Solomon Islands</a:t>
            </a:r>
            <a:endParaRPr b="0" lang="en-US" sz="3000" spc="-1" strike="noStrike">
              <a:solidFill>
                <a:srgbClr val="000000"/>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7" name=""/>
          <p:cNvGraphicFramePr/>
          <p:nvPr/>
        </p:nvGraphicFramePr>
        <p:xfrm>
          <a:off x="380880" y="1295280"/>
          <a:ext cx="8229600" cy="2803680"/>
        </p:xfrm>
        <a:graphic>
          <a:graphicData uri="http://schemas.openxmlformats.org/drawingml/2006/table">
            <a:tbl>
              <a:tblPr/>
              <a:tblGrid>
                <a:gridCol w="1371600"/>
                <a:gridCol w="1371600"/>
                <a:gridCol w="1371600"/>
                <a:gridCol w="1371600"/>
                <a:gridCol w="1219320"/>
                <a:gridCol w="1523880"/>
              </a:tblGrid>
              <a:tr h="223812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066</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tegrated Management of Solid and Hazardous Wastes and POPs </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ok Islands, FSM, MI PNG, Samoa,</a:t>
                      </a:r>
                      <a:endParaRPr b="0" lang="en-US" sz="1600" spc="-1" strike="noStrike">
                        <a:solidFill>
                          <a:srgbClr val="000000"/>
                        </a:solidFill>
                        <a:latin typeface="Calibri"/>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Tuvalu, Palau, Tonga, Kiribati, Niue, Nauru, Vanuatu, Fiji*</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NEP</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500,000</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uncil Approved awaiting CEO Endorsement </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3952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064</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DT Alternatives</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NG, Solomon Islands and Vanuatu </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NEP</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000,000</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ropped</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42d"/>
                </a:solidFill>
                <a:latin typeface="Calibri"/>
              </a:rPr>
              <a:t>GEF-PAS Issues</a:t>
            </a:r>
            <a:endParaRPr b="0" lang="en-US" sz="4000" spc="-1" strike="noStrike">
              <a:solidFill>
                <a:srgbClr val="000000"/>
              </a:solidFill>
              <a:latin typeface="Calibri"/>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 projects under implementation</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mplementation issues and project delays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ordination issue never completed resolved-Lack of Resource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S Benefits and Advantages –(i) Mobilized considerable resources and projects to the region, which prior to the programme the region had not received (ii) Improved the overall understanding of the GEF  amongst Pacific Countrie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 do we move forward  in GEF 5?</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gion can build on GEF-PAS.  GEF is willing to work with region on expanding GEF-PAS, or a new programme.   It is up to region to as to how they want to move forward.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n work together to identify elements of a new programm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ew Guidelines for Programmatic approaches in GEF 5 which address coordination issu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ternative Regional Approaches in light of broadening GEF Partnership- Possibilities regional organizations can be accredited by GEF, and become GEF Project Agency</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42d"/>
                </a:solidFill>
                <a:latin typeface="Calibri"/>
              </a:rPr>
              <a:t>Thank you for your atten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42d"/>
                </a:solidFill>
                <a:latin typeface="Calibri"/>
              </a:rPr>
              <a:t>BACKGROUND</a:t>
            </a:r>
            <a:endParaRPr b="0" lang="en-US" sz="4000" spc="-1" strike="noStrike">
              <a:solidFill>
                <a:srgbClr val="000000"/>
              </a:solidFill>
              <a:latin typeface="Calibri"/>
            </a:endParaRPr>
          </a:p>
        </p:txBody>
      </p:sp>
      <p:sp>
        <p:nvSpPr>
          <p:cNvPr id="13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2 GEF PAS Projects- Total</a:t>
            </a:r>
            <a:r>
              <a:rPr b="1" lang="en-US" sz="3200" spc="-1" strike="noStrike">
                <a:solidFill>
                  <a:srgbClr val="000000"/>
                </a:solidFill>
                <a:latin typeface="Calibri"/>
              </a:rPr>
              <a:t> </a:t>
            </a:r>
            <a:r>
              <a:rPr b="0" lang="en-US" sz="3200" spc="-1" strike="noStrike">
                <a:solidFill>
                  <a:srgbClr val="000000"/>
                </a:solidFill>
                <a:latin typeface="Calibri"/>
              </a:rPr>
              <a:t>Value US$101, 561,873</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 Biodiversity Projects , 9 Climate Change Mitigation Projects, 8 Climate Change Adaptation Projects, 1 International  Waters Project, 4 POPs Projec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22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42d"/>
                </a:solidFill>
                <a:latin typeface="Calibri"/>
              </a:rPr>
              <a:t>Project Status-Biodiversity</a:t>
            </a:r>
            <a:endParaRPr b="0" lang="en-US" sz="2800" spc="-1" strike="noStrike">
              <a:solidFill>
                <a:srgbClr val="000000"/>
              </a:solidFill>
              <a:latin typeface="Calibri"/>
            </a:endParaRPr>
          </a:p>
        </p:txBody>
      </p:sp>
      <p:graphicFrame>
        <p:nvGraphicFramePr>
          <p:cNvPr id="137" name=""/>
          <p:cNvGraphicFramePr/>
          <p:nvPr/>
        </p:nvGraphicFramePr>
        <p:xfrm>
          <a:off x="228600" y="762120"/>
          <a:ext cx="8686800" cy="5019480"/>
        </p:xfrm>
        <a:graphic>
          <a:graphicData uri="http://schemas.openxmlformats.org/drawingml/2006/table">
            <a:tbl>
              <a:tblPr/>
              <a:tblGrid>
                <a:gridCol w="1447920"/>
                <a:gridCol w="1447560"/>
                <a:gridCol w="1447920"/>
                <a:gridCol w="1447920"/>
                <a:gridCol w="1295280"/>
                <a:gridCol w="1600200"/>
              </a:tblGrid>
              <a:tr h="5331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ea typeface="Calibri"/>
                        </a:rPr>
                        <a:t>Project Number</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ea typeface="Calibri"/>
                        </a:rPr>
                        <a:t>Project Name </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ea typeface="Calibri"/>
                        </a:rPr>
                        <a:t>Countries</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ea typeface="Calibri"/>
                        </a:rPr>
                        <a:t>GEF  Agency</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ea typeface="Calibri"/>
                        </a:rPr>
                        <a:t>GEF Finance</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ea typeface="Calibri"/>
                        </a:rPr>
                        <a:t>Current Status</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8384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3626</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Micronesia Challenge</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Marshall Islands, Palau, FSM </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UNEP</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6,000,000</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Under Implementation</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5508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3664</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Invasive Species Management</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Marshall Islands, FSM, PNG, Cook Islands, Kiribati, Samoa, Tonga, Vanuatu, Niue </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UNEP</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3,500,000</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Under Implementation</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2682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3591</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Coral Reef Triangle</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Solomon Islands, PNG, Timor Leste, Vanuatu, FSM, Fiji, Palau</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ADB</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9,500,000</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Under Implementation</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8287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3819</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Forest Protected Area Management</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Fiji, Samoa, Niue and Vanuatu</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FAO</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7,300,000</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Under Implementation</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8" name=""/>
          <p:cNvGraphicFramePr/>
          <p:nvPr/>
        </p:nvGraphicFramePr>
        <p:xfrm>
          <a:off x="457200" y="609480"/>
          <a:ext cx="8229600" cy="5048280"/>
        </p:xfrm>
        <a:graphic>
          <a:graphicData uri="http://schemas.openxmlformats.org/drawingml/2006/table">
            <a:tbl>
              <a:tblPr/>
              <a:tblGrid>
                <a:gridCol w="1371600"/>
                <a:gridCol w="1371600"/>
                <a:gridCol w="1371600"/>
                <a:gridCol w="1371600"/>
                <a:gridCol w="1143000"/>
                <a:gridCol w="1600200"/>
              </a:tblGrid>
              <a:tr h="16830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023</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tegrated Island and Community-based Biodiversity Conservation </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auru, Tuvalu, Cook Island and Tonga</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NEP</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000,000</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dditional information requested from Agency (re co-finance letters)  </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1206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897</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hoenix Island Protected Areas</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iribati</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NEP</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000,000</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oject approved-</a:t>
                      </a:r>
                      <a:endParaRPr b="0" lang="en-US" sz="16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nder Implementation</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61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662</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nabling Activity</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imor Leste</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NDP</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77,200</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Under Implementation</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605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463</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nabling Activity</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uvalu</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NDP</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32,200</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Under Implementation</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1221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714</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nabling Activity</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onga</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NDP</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00,000</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gency/country consultation- Project to be cancelled</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519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42d"/>
                </a:solidFill>
                <a:latin typeface="Calibri"/>
              </a:rPr>
              <a:t>Climate Change Mitigation</a:t>
            </a:r>
            <a:endParaRPr b="0" lang="en-US" sz="2800" spc="-1" strike="noStrike">
              <a:solidFill>
                <a:srgbClr val="000000"/>
              </a:solidFill>
              <a:latin typeface="Calibri"/>
            </a:endParaRPr>
          </a:p>
        </p:txBody>
      </p:sp>
      <p:graphicFrame>
        <p:nvGraphicFramePr>
          <p:cNvPr id="140" name=""/>
          <p:cNvGraphicFramePr/>
          <p:nvPr/>
        </p:nvGraphicFramePr>
        <p:xfrm>
          <a:off x="457200" y="1066680"/>
          <a:ext cx="8381880" cy="4469040"/>
        </p:xfrm>
        <a:graphic>
          <a:graphicData uri="http://schemas.openxmlformats.org/drawingml/2006/table">
            <a:tbl>
              <a:tblPr/>
              <a:tblGrid>
                <a:gridCol w="914400"/>
                <a:gridCol w="2133720"/>
                <a:gridCol w="1218960"/>
                <a:gridCol w="1219320"/>
                <a:gridCol w="1219320"/>
                <a:gridCol w="1676160"/>
              </a:tblGrid>
              <a:tr h="5256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ea typeface="Calibri"/>
                        </a:rPr>
                        <a:t>Project Number</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ea typeface="Calibri"/>
                        </a:rPr>
                        <a:t>Project Name </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ea typeface="Calibri"/>
                        </a:rPr>
                        <a:t>Countries</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ea typeface="Calibri"/>
                        </a:rPr>
                        <a:t>GEF  Agency</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ea typeface="Calibri"/>
                        </a:rPr>
                        <a:t>GEF Finance</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ea typeface="Calibri"/>
                        </a:rPr>
                        <a:t>Current Status</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052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3641</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Promoting Energy Efficiency in the Pacific</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Tonga, Samoa, Vanuatu, and Cook Islands </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ADB</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6,000,000</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CEO Endorsed-Under Implementation </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0508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2568</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Action for the Development of Marshall Islands Renewable Energies</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Marshall Islands</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UNDP</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1,100,000</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Under implementation</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887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2567</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Sustainable Economic Development through RE Applications</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Palau</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UNDP</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1,100,000</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Under Implementation</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0512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4000</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Low Carbon Islands-Accelerating the Use of Renewable Energy Technologies</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Tuvalu, Niue and Nauru</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UNEP</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1,500,000</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 </a:t>
                      </a:r>
                      <a:r>
                        <a:rPr b="0" lang="en-US" sz="1500" spc="-1" strike="noStrike">
                          <a:solidFill>
                            <a:srgbClr val="000000"/>
                          </a:solidFill>
                          <a:latin typeface="Calibri"/>
                          <a:ea typeface="Calibri"/>
                        </a:rPr>
                        <a:t>Awaiting revised CEO endorsement from agency</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1" name=""/>
          <p:cNvGraphicFramePr/>
          <p:nvPr/>
        </p:nvGraphicFramePr>
        <p:xfrm>
          <a:off x="533520" y="304920"/>
          <a:ext cx="8229600" cy="5451480"/>
        </p:xfrm>
        <a:graphic>
          <a:graphicData uri="http://schemas.openxmlformats.org/drawingml/2006/table">
            <a:tbl>
              <a:tblPr/>
              <a:tblGrid>
                <a:gridCol w="1143000"/>
                <a:gridCol w="1600200"/>
                <a:gridCol w="1371600"/>
                <a:gridCol w="1371600"/>
                <a:gridCol w="1066680"/>
                <a:gridCol w="1676520"/>
              </a:tblGrid>
              <a:tr h="11430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4282</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Grid Connected Solar PV Central Station Project</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Kiribati</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WB</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000,000</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PIF Approved- Awaiting Full Project Document </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508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4283</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PNG Energy Development</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Papua New Guinea</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WB</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909,091</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Milestone Extension Approved  August 2011 </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052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4281</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Geothermal Power and Electricity Sector Development</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Vanuatu</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WB</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909,091</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Milestone Extension Awaiting Full Project Document  </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6794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4284</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Development of Community-based Renewable Energy Mini-Grids </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Solomon Islands</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WB</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909,091</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Milestone Extension Awaiting Full Project Document </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256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4131</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Renewable Energy Power Project</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Fiji</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UNDP</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072500</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Under Implementation</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519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42d"/>
                </a:solidFill>
                <a:latin typeface="Calibri"/>
              </a:rPr>
              <a:t>Climate Change Adaptation Projects</a:t>
            </a:r>
            <a:endParaRPr b="0" lang="en-US" sz="2800" spc="-1" strike="noStrike">
              <a:solidFill>
                <a:srgbClr val="000000"/>
              </a:solidFill>
              <a:latin typeface="Calibri"/>
            </a:endParaRPr>
          </a:p>
        </p:txBody>
      </p:sp>
      <p:graphicFrame>
        <p:nvGraphicFramePr>
          <p:cNvPr id="143" name=""/>
          <p:cNvGraphicFramePr/>
          <p:nvPr/>
        </p:nvGraphicFramePr>
        <p:xfrm>
          <a:off x="457200" y="990720"/>
          <a:ext cx="8229600" cy="4732200"/>
        </p:xfrm>
        <a:graphic>
          <a:graphicData uri="http://schemas.openxmlformats.org/drawingml/2006/table">
            <a:tbl>
              <a:tblPr/>
              <a:tblGrid>
                <a:gridCol w="1371600"/>
                <a:gridCol w="1371600"/>
                <a:gridCol w="1371600"/>
                <a:gridCol w="1219320"/>
                <a:gridCol w="1218960"/>
                <a:gridCol w="1676520"/>
              </a:tblGrid>
              <a:tr h="52524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ea typeface="Calibri"/>
                        </a:rPr>
                        <a:t>Project Number</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ea typeface="Calibri"/>
                        </a:rPr>
                        <a:t>Project Name</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ea typeface="Calibri"/>
                        </a:rPr>
                        <a:t>Countries</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ea typeface="Calibri"/>
                        </a:rPr>
                        <a:t>GEF Agency</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ea typeface="Calibri"/>
                        </a:rPr>
                        <a:t>GEF Finance</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ea typeface="Calibri"/>
                        </a:rPr>
                        <a:t>Current Status</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57500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3101</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marL="152280">
                        <a:lnSpc>
                          <a:spcPct val="115000"/>
                        </a:lnSpc>
                        <a:spcBef>
                          <a:spcPts val="374"/>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PACC</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CI,, Fiji, FSM, Nauru, Niue, PNG Samoa, SI, Tonga, Tuvalu, Vanuatu  Palau and MI</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UNDP </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14,822,500 </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Under Implementation</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83744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3694</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Increasing Resilience of Coastal Areas and Community Settlements to Climate Change</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Tuvalu</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UNDP</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3,349,500</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Under Implementation</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5012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3358</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Integrating CC Risks into the Agri and Health Sectors.</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Samoa</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UNDP</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2,000,000</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Under Implementation</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4" name=""/>
          <p:cNvGraphicFramePr/>
          <p:nvPr/>
        </p:nvGraphicFramePr>
        <p:xfrm>
          <a:off x="457200" y="533520"/>
          <a:ext cx="8229600" cy="5402160"/>
        </p:xfrm>
        <a:graphic>
          <a:graphicData uri="http://schemas.openxmlformats.org/drawingml/2006/table">
            <a:tbl>
              <a:tblPr/>
              <a:tblGrid>
                <a:gridCol w="1371600"/>
                <a:gridCol w="1371600"/>
                <a:gridCol w="1371600"/>
                <a:gridCol w="1371600"/>
                <a:gridCol w="1143000"/>
                <a:gridCol w="1600200"/>
              </a:tblGrid>
              <a:tr h="131436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3798</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Increasing Resilience to CC&amp; Natural Hazards</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Vanuatu</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World Bank</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3,000,000</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Milestone Extension Awaiting Submission of CEO Endorsement</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3348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3464</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NAPA Preparation</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imor Leste</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UNDP</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200,000</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Under Implementation</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8732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4226</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Napa Implementation</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Solomon Islands</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World Bank</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4,350,000</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PIF to be  Re-Submitted</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31436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4068</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Increasing Resilience to Climate Variability and Hazards </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Kiribati</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World Bank</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3,300,000</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CEO Endorsed-Under Implementation</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05264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4216</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ICCRIFS</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Samoa</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UNDP</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2,400,000</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CEO Endorsed –Under Implementation3/15/2011</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42d"/>
                </a:solidFill>
                <a:latin typeface="Calibri"/>
              </a:rPr>
              <a:t>International Waters and POPs/Chemicals</a:t>
            </a:r>
            <a:endParaRPr b="0" lang="en-US" sz="2800" spc="-1" strike="noStrike">
              <a:solidFill>
                <a:srgbClr val="000000"/>
              </a:solidFill>
              <a:latin typeface="Calibri"/>
            </a:endParaRPr>
          </a:p>
        </p:txBody>
      </p:sp>
      <p:graphicFrame>
        <p:nvGraphicFramePr>
          <p:cNvPr id="146" name=""/>
          <p:cNvGraphicFramePr/>
          <p:nvPr/>
        </p:nvGraphicFramePr>
        <p:xfrm>
          <a:off x="457200" y="838080"/>
          <a:ext cx="8229600" cy="4994280"/>
        </p:xfrm>
        <a:graphic>
          <a:graphicData uri="http://schemas.openxmlformats.org/drawingml/2006/table">
            <a:tbl>
              <a:tblPr/>
              <a:tblGrid>
                <a:gridCol w="1371600"/>
                <a:gridCol w="1371600"/>
                <a:gridCol w="1371600"/>
                <a:gridCol w="1371600"/>
                <a:gridCol w="1143000"/>
                <a:gridCol w="1600200"/>
              </a:tblGrid>
              <a:tr h="52560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ea typeface="Calibri"/>
                        </a:rPr>
                        <a:t>Project Number</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ea typeface="Calibri"/>
                        </a:rPr>
                        <a:t>Project Name</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ea typeface="Calibri"/>
                        </a:rPr>
                        <a:t>Countries</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ea typeface="Calibri"/>
                        </a:rPr>
                        <a:t>GEF Agency</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ea typeface="Calibri"/>
                        </a:rPr>
                        <a:t>GEF Finance</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ea typeface="Calibri"/>
                        </a:rPr>
                        <a:t>Current Status</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10348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2586</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Implementing Integrated Water Resource and Wastewater  Management in Pacific Island Countries </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CI, FSM, Fiji, Kiribati, Ml, Nauru, Niue, Palau, PNG Samoa, SI,Tonga, Tuvalu, Vanuatu  </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UNDP/UNEP</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10,722,950</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Under Implementation</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78876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3344</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Cooks island  POPs Enabling Activity</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Cook Islands</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UNDP</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290,750</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Under Implementation</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57644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3663</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PAS Supporting the POPs Global Monitoring Plan in the Pacific</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ea typeface="Calibri"/>
                        </a:rPr>
                        <a:t>Fiji, Kiribati, Niue, Samoa, Palau, SI</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UNEP</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517,000</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Under Implementation</a:t>
                      </a:r>
                      <a:endParaRPr b="0" lang="en-US" sz="15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0T19:26:53Z</dcterms:created>
  <dc:creator>wb331348</dc:creator>
  <dc:description/>
  <dc:language>en-US</dc:language>
  <cp:lastModifiedBy>wb350798</cp:lastModifiedBy>
  <dcterms:modified xsi:type="dcterms:W3CDTF">2011-11-01T18:13:16Z</dcterms:modified>
  <cp:revision>46</cp:revision>
  <dc:subject/>
  <dc:title>Broadening of the GEF Partnership</dc:title>
</cp:coreProperties>
</file>