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92FB-29E9-4514-986D-EADA906C052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20DC-F232-4FC3-8089-6BFABC707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38757B-E976-4080-872D-B90DF0249D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F8A6-E3ED-4A91-8639-B9FBF3A4D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9F38-5872-496A-A215-4F75652F5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93BB-E033-4C68-A68E-5C448C967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9786-F0C7-49A9-955C-03BBF116F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4391-91C6-4B9E-9E28-C4E475A50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 10 February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Bujumbura, Burundi</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3-14T21:39:09Z</dcterms:modified>
  <cp:revision>489</cp:revision>
  <dc:subject/>
  <dc:title>Slide 1</dc:title>
</cp:coreProperties>
</file>