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930A-2ADB-4058-87D3-A8A5BC1A0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DB8-2A64-465C-B5D8-0B9342C37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FB2D-808E-4266-B91A-EDE325C80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C59-D5F5-4819-945C-D1129661F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E8E0-1106-41E6-8BFC-29AE98E8A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F7B8-02A4-415D-97A2-C5C4151C4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3FC4962-CC46-443B-984C-C1944A97C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5D8A-2E44-4F32-AB80-2FDE64688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76B-236C-4589-ADDF-2F968E29A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FCFA-F660-4E0F-AE7A-80A2EB00E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8C92-B4D9-4FC8-AF9D-1956168DA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B72-72D8-4443-A697-98108A732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A908-CBA3-4340-BDF4-F3E3CCAB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8 – 10 Févri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ujumbura, Bur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ise au point 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concertée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au poi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on concertée à long terme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f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er la préparation d’un programme à l’appui de la mise en œuvre des P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lans d’action nationaux d’adaptation (P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nférence, les PANA permettent aux pays en développement de « recenser leurs besoins d’adaptation à moyen et long terme et d’élaborer et mettre en œuvre des stratégies pour y satisfaire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ANA dans ces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2-03-14T21:39:30Z</dcterms:modified>
  <cp:revision>624</cp:revision>
  <dc:subject/>
  <dc:title>Slide 1</dc:title>
</cp:coreProperties>
</file>