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54AB-80D6-4753-8AFC-FA15C3DD5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27BF-4D60-439B-A53C-1F0055632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695-296E-42CA-B056-221B858C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733-3DF1-4297-9791-1ADFE09D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89B-6769-4706-95BE-2AD286AB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315-85E7-4391-BF49-A71BD450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ED1-BA00-4C7D-AD61-5A6B863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4AE-FB92-43E2-B2ED-55847FC6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224-8230-49DE-ABC1-8DF34670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8EF-601B-4EBE-8D0E-E24EDD77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BC0-3EB6-4F04-A64F-42C59B6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2D0-23AD-4CBC-99DD-73F05D1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9E3-A9A2-4211-9DE0-9AFFAF4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FB4-7154-48FB-8078-B7972B0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2CA7-2D22-4837-8393-A7CB2F122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e FEM et les con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inancements par accès direct pour les rapports aux conventions : Processus de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iagram 9" descr=""/>
          <p:cNvPicPr/>
          <p:nvPr/>
        </p:nvPicPr>
        <p:blipFill>
          <a:blip r:embed="rId1"/>
          <a:stretch/>
        </p:blipFill>
        <p:spPr>
          <a:xfrm>
            <a:off x="1554120" y="1579680"/>
            <a:ext cx="6194520" cy="415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EM et les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aide financièrement les pays en développement à respecter les objectifs des conventions internationales sur l’environnem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sert de «  mécanisme financier » pour quatre conventions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sur la diversité biologique (CD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-cadre de Nations Unies sur les changements climatiques (CCNU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s Nations Unies sur la lutte contre la désertification (C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 Stockholm sur les polluants organiques persist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143000"/>
          <a:ext cx="8381880" cy="4648320"/>
        </p:xfrm>
        <a:graphic>
          <a:graphicData uri="http://schemas.openxmlformats.org/drawingml/2006/table">
            <a:tbl>
              <a:tblPr/>
              <a:tblGrid>
                <a:gridCol w="4267080"/>
                <a:gridCol w="4114800"/>
              </a:tblGrid>
              <a:tr h="298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1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préservation de la biodiversité, y compris en favorisant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3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égrer la biodiversité aux programmes et stratégies d’élaboration des politiques sectorielles nat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4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capacité nationale à mettre en œuvre la Convention </a:t>
                      </a:r>
                      <a:r>
                        <a:rPr b="1" lang="fr-F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Protocole de Cartagena 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er et deuxième objectifs, voir ci-dessus,  Quatrième objectif : 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quième objectif : Intégrer les obligations de la CDB aux processus nationaux de planification au moyen d’activités habilit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153280" cy="4165560"/>
        </p:xfrm>
        <a:graphic>
          <a:graphicData uri="http://schemas.openxmlformats.org/drawingml/2006/table">
            <a:tbl>
              <a:tblPr/>
              <a:tblGrid>
                <a:gridCol w="4438800"/>
                <a:gridCol w="3714480"/>
              </a:tblGrid>
              <a:tr h="579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5 du Programme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mise en œuvre du troisième objectif de la Convention : appui à l’application du régime international sur l’accès aux ressources génétiques et au partage des avantages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trième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6 du Programme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éger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Améliorer la durabilité des dispositifs d’aires protégées : c) Améliorer l’efficacité de la gestion des aires protégées exis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aine d’intervention des Changements climatiques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ite aux directives</a:t>
            </a:r>
            <a:r>
              <a:rPr b="0" lang="fr-FR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Convention, le FEM a fourni le soutien financier et technique à plus de 150 non-annexe I Parties pour préparer leurs communications nationales initiales, leurs secondes, et dans certains cas leurs troisièmes communications nationales à la Conven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urant le  FEM-3,  FEM a subventionné un programme global pour soutenir les deuxièmes communications nationales de la plupart des pays éligib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Pendant le FEM-5, FEM continuera à  financer les communications nationa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répondre à la décision de COP 2/CP.12, le FEM a lancé un programme stratégique  durant le FEM-4 afin de  promouvoir la réduction d'émissions de GHG d’utilisation des terres, changement d’affectation des terres et foresterie (UTCATF) dans le  domaine d’ intervention  du changement climatiqu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ans  le FEM-5,  FEM a établi l'initiative  transversale de la gestion durable des forêts (GDF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ndant  la COP13, le FEM a été prié d'élaborer un programme stratégique pour augmenter le niveau d'investissement dans le transfert de technologie pour aider des pays en voie de développement `a faire face `a  leurs besoins pour les technologies respectueuses de l'environnement – FEM a établi l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Programme Stratégique Poznan sur le Transfert d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Stratégie d'Adaptation de Changement climatique 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2001, la COP7  `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Convention-Cadr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Nations Unies sur les changem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iques (CCNUCC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 demandé au FEM de financer le pilote d'adaptation et les projets de démonstr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établit l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orité stratégique  sur les≪ projets pilotes d’adaptation au changement climatique ≫ duran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M-3/FEM-4 sous les fonds en fidéicommis de FEM en réponse aux directives du COP. (par exemple la décision 5/CP.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P7 a demandé au FEM de gérer deux fonds adaptation-convergés volontaires, le Fonds pour les pays les moins avances (Fonds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)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 special pour les changements climatique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continue à faire une collecte de fond et remplit le Fond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s special pour les changements climati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réponse aux directives de la Convention et les conclus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rganes subsidiair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NUCC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(par exemple à la 26e séance d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es subsidiaires pour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lusions au SBI 31 ont reconnu les étapes que le FEM a pris pour améliorer le soutien de l'implémentation 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s nationaux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action pour l’adaptation au changement climatiq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Dégradation des sols et directives de la CoP de la C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tant que nouveau mécanisme financier pour la CLD, le FEM examine actuellement comment sa stratégie du domaine d’intervention « Dégradation des sols » contribuera directement à l’application de la CLD, y compris le Cadre de planification stratégique décennal (2008–2018) adopté à la CoP 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’il a élaboré la dernière stratégie du domaine « Dégradation des sols », le Groupe consultatif technique (GCT) a invité un représentant de la CLD, qui a fourni des orientations dans la mesure où le GCT souhaitait accepter l’invitation de la CoP à tenir compte du plan stratégique décennal et à aligner ses opérations en conséquence afin de faciliter l’application effective de la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Polluants organiques persistants » et directives de la Convention de Stockhol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tte stratégie répond aux directives adoptées par la CoP de la Convention de Stockholm, à ses quatre premières réun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rnières directives adoptées par la CoP4 en mai 2009 réaffirment le principe directeur central selon lequel le FEM doit «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enir compte des priorités identifiées par les Parties dans les plans d’application communiqués à la Conférence des Parties »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privilégient la préparation et l’actualisation des plans nationaux de mise en œuvre, les variantes au DDT pour lutter contre les vecteurs de maladies, et l’échange d’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mandat du FEM en tant que mécanisme financier de la Convention de Stockholm veut que la question des produits chimiques nouvellement inscrits par la Convention soit traité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tions de financement pour les rapports aux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60354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23880"/>
                <a:gridCol w="1165320"/>
                <a:gridCol w="1262160"/>
                <a:gridCol w="1263600"/>
                <a:gridCol w="1262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e d’interv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Biosafety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prévention des risques biotechnolog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grammes -cadres du PNUE - Ré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NBSAP and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ational Report on 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- $220,0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ment propo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port - 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biodiversité et plans d’action nationaux pour la biodivers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ment clima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‘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 nat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gradation des 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1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t servir à aligner les programmes d’action et les stratégies nationales sur la stratégie décennale de la C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its chim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2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parer et actualiser les plans nationaux de mis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7:52Z</dcterms:created>
  <dc:creator>wb350798</dc:creator>
  <dc:description/>
  <dc:language>en-US</dc:language>
  <cp:lastModifiedBy>wb350798</cp:lastModifiedBy>
  <dcterms:modified xsi:type="dcterms:W3CDTF">2011-08-12T15:22:04Z</dcterms:modified>
  <cp:revision>80</cp:revision>
  <dc:subject/>
  <dc:title>GEF and the conventions</dc:title>
</cp:coreProperties>
</file>