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BA21-DB83-4713-809C-56B9FDF45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A325-B5C5-4730-818F-685BF0FF8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432-9ADA-42FC-B85E-29EE3FD0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61D-AA74-41FB-A180-35043288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839-E168-47A6-8072-850F627E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926-466A-4909-AB82-FC1FC08B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EAD-B9AE-44A3-A01A-23DD7229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F6A-43AA-4B79-A74D-78786AC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93D-4FDE-404E-B0A0-3753C869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C74-B7BD-454F-9D99-9CCB6B81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425-2100-44BA-85FF-21E64BD5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B2C-E05C-48DD-A5A3-A1A6C8B4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1E7-6A0A-4BC3-A484-76F7D8A4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80E-A2D3-4AA7-8389-FC57B34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E0B2-A485-4E3E-8434-6C30189F2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e FEM et les con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6 – 8 juillet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Dakar, Séné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Financements par accès direct pour les rapports aux conventions : Processus de mise en œuv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Diagram 9" descr=""/>
          <p:cNvPicPr/>
          <p:nvPr/>
        </p:nvPicPr>
        <p:blipFill>
          <a:blip r:embed="rId1"/>
          <a:stretch/>
        </p:blipFill>
        <p:spPr>
          <a:xfrm>
            <a:off x="1554120" y="1579680"/>
            <a:ext cx="6194520" cy="415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EM et les con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FEM aide financièrement les pays en développement à respecter les objectifs des conventions internationales sur l’environnemen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FEM sert de «  mécanisme financier » pour quatre conventions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sur la diversité biologique (CD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-cadre de Nations Unies sur les changements climatiques (CCNU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des Nations Unies sur la lutte contre la désertification (CL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de Stockholm sur les polluants organiques persist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Biodiversité » et directives de la CoP de la C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143000"/>
          <a:ext cx="8381880" cy="4648320"/>
        </p:xfrm>
        <a:graphic>
          <a:graphicData uri="http://schemas.openxmlformats.org/drawingml/2006/table">
            <a:tbl>
              <a:tblPr/>
              <a:tblGrid>
                <a:gridCol w="4267080"/>
                <a:gridCol w="4114800"/>
              </a:tblGrid>
              <a:tr h="298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s du programme 2010-2014 défini par la 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fs stratégiques du FEM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1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a préservation de la biodiversité, y compris en favorisant la durabilité des dispositifs d’aires protég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2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’utilisation durable de la biodiversit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ier objectif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éliorer la durabilité des dispositifs d’aires protég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2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’utilisation durable de la biodiver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3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égrer la biodiversité aux programmes et stratégies d’élaboration des politiques sectorielles nat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uxième objectif: Intégrer la préservation et l’utilisation durable de la biodiversité aux secteurs des paysages/paysages marins 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4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éliorer la capacité nationale à mettre en œuvre la Convention </a:t>
                      </a:r>
                      <a:r>
                        <a:rPr b="1" lang="fr-F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 Protocole de Cartagena 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er et deuxième objectifs, voir ci-dessus,  Quatrième objectif : Renforcer les capacités d’accès aux ressources génétiques et au partage des a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quième objectif : Intégrer les obligations de la CDB aux processus nationaux de planification au moyen d’activités habilita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isième objectif: Renforcer les capacités de mise en œuvre du Protocole de Cartagena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Biodiversité » et directives de la CoP de la C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153280" cy="4165560"/>
        </p:xfrm>
        <a:graphic>
          <a:graphicData uri="http://schemas.openxmlformats.org/drawingml/2006/table">
            <a:tbl>
              <a:tblPr/>
              <a:tblGrid>
                <a:gridCol w="4438800"/>
                <a:gridCol w="3714480"/>
              </a:tblGrid>
              <a:tr h="579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s du programme 2010-2014 défini par la 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fs stratégiques du FEM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5 du Programme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a mise en œuvre du troisième objectif de la Convention : appui à l’application du régime international sur l’accès aux ressources génétiques et au partage des avantages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trième objectif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forcer les capacités d’accès aux ressources génétiques et au partage des a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6 du Programme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éger la biodiver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uxième objectif: Intégrer la préservation et l’utilisation durable de la biodiversité aux secteurs des paysages/paysages marins 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ier objectif : Améliorer la durabilité des dispositifs d’aires protégées : c) Améliorer l’efficacité de la gestion des aires protégées exist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isième objectif: Renforcer les capacités de mise en œuvre du Protocole de Cartagena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maine d’intervention des Changements climatiques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t Direction 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NU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ite aux directives</a:t>
            </a:r>
            <a:r>
              <a:rPr b="0" lang="fr-FR" sz="18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 Convention, le FEM a fourni le soutien financier et technique à plus de 150 non-annexe I Parties pour préparer leurs communications nationales initiales, leurs secondes, et dans certains cas leurs troisièmes communications nationales à la Conven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Durant le  FEM-3,  FEM a subventionné un programme global pour soutenir les deuxièmes communications nationales de la plupart des pays éligib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Pendant le FEM-5, FEM continuera à  financer les communications nationa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répondre à la décision de COP 2/CP.12, le FEM a lancé un programme stratégique  durant le FEM-4 afin de  promouvoir la réduction d'émissions de GHG d’utilisation des terres, changement d’affectation des terres et foresterie (UTCATF) dans le  domaine d’ intervention  du changement climatique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Dans  le FEM-5,  FEM a établi l'initiative  transversale de la gestion durable des forêts (GDF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ndant  la COP13, le FEM a été prié d'élaborer un programme stratégique pour augmenter le niveau d'investissement dans le transfert de technologie pour aider des pays en voie de développement `a faire face `a  leurs besoins pour les technologies respectueuses de l'environnement – FEM a établi le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Programme Stratégique Poznan sur le Transfert d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Stratégie d'Adaptation de Changement climatique et Direction 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NU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2001, la COP7  `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Convention-Cadr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Nations Unies sur les changemen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iques (CCNUCC)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 demandé au FEM de financer le pilote d'adaptation et les projets de démonstr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FEM établit l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orité stratégique  sur les≪ projets pilotes d’adaptation au changement climatique ≫ durant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EM-3/FEM-4 sous les fonds en fidéicommis de FEM en réponse aux directives du COP. (par exemple la décision 5/CP.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P7 a demandé au FEM de gérer deux fonds adaptation-convergés volontaires, le Fonds pour les pays les moins avances (Fonds 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PMA)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Fond special pour les changements climatiques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FEM continue à faire une collecte de fond et remplit le Fond 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PM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Fonds special pour les changements climatiqu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réponse aux directives de la Convention et les conclus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 organes subsidiair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CNUCC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(par exemple à la 26e séance d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es subsidiaires pour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clusions au SBI 31 ont reconnu les étapes que le FEM a pris pour améliorer le soutien de l'implémentation 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s nationaux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’action pour l’adaptation au changement climatiqu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A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818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Dégradation des sols et directives de la CoP de la C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n tant que nouveau mécanisme financier pour la CLD, le FEM examine actuellement comment sa stratégie du domaine d’intervention « Dégradation des sols » contribuera directement à l’application de la CLD, y compris le Cadre de planification stratégique décennal (2008–2018) adopté à la CoP 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orsqu’il a élaboré la dernière stratégie du domaine « Dégradation des sols », le Groupe consultatif technique (GCT) a invité un représentant de la CLD, qui a fourni des orientations dans la mesure où le GCT souhaitait accepter l’invitation de la CoP à tenir compte du plan stratégique décennal et à aligner ses opérations en conséquence afin de faciliter l’application effective de la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Polluants organiques persistants » et directives de la Convention de Stockhol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tte stratégie répond aux directives adoptées par la CoP de la Convention de Stockholm, à ses quatre premières réun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dernières directives adoptées par la CoP4 en mai 2009 réaffirment le principe directeur central selon lequel le FEM doit « 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tenir compte des priorités identifiées par les Parties dans les plans d’application communiqués à la Conférence des Parties »,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privilégient la préparation et l’actualisation des plans nationaux de mise en œuvre, les variantes au DDT pour lutter contre les vecteurs de maladies, et l’échange d’inform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mandat du FEM en tant que mécanisme financier de la Convention de Stockholm veut que la question des produits chimiques nouvellement inscrits par la Convention soit traité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tions de financement pour les rapports aux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762120"/>
          <a:ext cx="8839440" cy="603540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523880"/>
                <a:gridCol w="1165320"/>
                <a:gridCol w="1262160"/>
                <a:gridCol w="1263600"/>
                <a:gridCol w="1262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e d’interve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iversit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Biosafety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ort à la Convention sur la prévention des risques biotechnolog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grammes -cadres du PNUE - Rég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iversit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NBSAP and 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ational Report on Bio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 - $220,000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ment propos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port - $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ort à la Convention sur la biodiversité et plans d’action nationaux pour la biodivers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 ou FSP si plus de $ 500.00 - utilisant les ressources d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ment climat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‘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s nat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 ou FSP si plus de $ 500.00 - utilisant les ressources d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gradation des 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'à 15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ut servir à aligner les programmes d’action et les stratégies nationales sur la stratégie décennale de la C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its chim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'à 25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parer et actualiser les plans nationaux de mise en 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8:07:52Z</dcterms:created>
  <dc:creator>wb350798</dc:creator>
  <dc:description/>
  <dc:language>en-US</dc:language>
  <cp:lastModifiedBy>wb350798</cp:lastModifiedBy>
  <dcterms:modified xsi:type="dcterms:W3CDTF">2011-08-12T15:22:04Z</dcterms:modified>
  <cp:revision>80</cp:revision>
  <dc:subject/>
  <dc:title>GEF and the conventions</dc:title>
</cp:coreProperties>
</file>