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38A0-CB75-489D-A2F1-868D490202F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73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285F-C280-4225-9D3B-F724432F8ED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3"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6C0CA-F876-4D09-BC7D-3B50E57C6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5939E-4604-430A-8026-B6D7A09E3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440C4-0649-45E2-8D18-8B4134970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A281C-0FC0-49EB-AD2F-F5922BA9C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0648C-39CA-4B1A-8BA0-FA912211C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725B-7E22-406A-ADE5-D9C1EDC79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3A17B-F6A6-4FC8-B7D5-8F3EC9C52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1EDCB-FB6D-44BB-92A0-DCFD18450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173E2-46B1-4917-B42B-A66B7C848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9492-18ED-42AE-AC0A-34706CCA5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5DA9-644C-41F3-AC10-D1C25C55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30111-9F82-404D-8AA1-CA6748602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E7B4-67CB-4E2E-99F0-E4757293C5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sp>
        <p:nvSpPr>
          <p:cNvPr id="49" name="Subtitle 4"/>
          <p:cNvSpPr/>
          <p:nvPr/>
        </p:nvSpPr>
        <p:spPr>
          <a:xfrm>
            <a:off x="129528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6 – 8 July, 2011</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Dakar, Senegal</a:t>
            </a:r>
            <a:endParaRPr b="0" lang="en-US" sz="28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08-12T15:21:47Z</dcterms:modified>
  <cp:revision>81</cp:revision>
  <dc:subject/>
  <dc:title>GEF and the conventions</dc:title>
</cp:coreProperties>
</file>