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889B-4E27-47BA-97B8-510182FBB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8154-D857-47F6-A777-F3ECD38B8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358-7C3B-4FE7-BCB4-9A8C0617A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6466F51-0582-4951-8A77-1468E190D1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FAA-3205-4A9C-8A90-E547ACFA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870-91E8-4176-BA64-A6E48281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5D0-0894-4811-B447-7812FF60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1E6-102E-4700-82D7-41BE8DF7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AA4B-5DB6-432D-94BC-8ACD7ED8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616D-7670-4D4E-9CBA-62E62FC0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B566-260E-4B80-8EFB-CF9D82C6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90C3-BEBA-48E4-9156-D3CD44E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7497-888C-44A3-BC7E-F0E66181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DDE9-EEFB-4A54-9A0A-5E361D1B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024-F6AF-4033-AEDA-CAEF189C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EC5-BCE1-4A75-BBA8-92F78BA0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66D0-DA46-463C-B1E5-AC4F9F16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AB56-0516-42E0-8E79-B085186A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B2DF-40C9-4725-9BD6-4536B110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362B-BBD7-46B6-A65E-158BE392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0C00-DA2B-4AB8-820F-CE37221A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7C70-E23F-410F-8C66-582F5909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EBCC-37AF-4E9B-8CBD-5187A8CA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23BE-A1F0-4224-9F2E-90DCB519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5F911-56E1-4B0A-A0E3-D3FEE836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806A-9FC4-4B8D-8045-37588C2E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9A2-FCE5-416C-B9B7-F63E1F86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0707-EBB6-4081-8AAE-B7C83FD2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EF488-9510-4B34-A444-8CBE8A3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46D51-89BE-4F9B-B552-DE14426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E315-669C-4778-8230-B92A1B6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E6B0-9119-44F1-985A-E592FDD7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ABCF-0074-4865-AE3A-A101A8FA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E15D-B4EC-4B9A-8EA1-DECDF5F4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B8F8-C1F5-4CAF-A16F-39E6D26C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37A9-31E9-46FA-93C5-E8695A8C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7503F-9BEE-478F-839F-C4A784C1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F33-7105-4919-A5FF-D9699F94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C9FC-A7AC-4651-852E-3E14B9F0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FC35-559F-4654-9D3C-9F395B41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4848-AB9C-4195-BBF0-AB323B40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03C52-3441-43D3-8C61-FA2EAB7D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D456-DBBA-4C60-BE2C-6DB2BFF9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896EA-A500-43D7-81BE-339DD61C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CDEB8-CD0E-4D98-9B9E-3C91E972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B31B-12FA-4B7F-B9F8-67392DDD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9E89-E355-4B75-B889-9BD54A95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08AC7-CA3C-4338-AB44-CBE7E133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40A-9ECD-4C03-9D6E-94CE40C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06681-2178-4031-BA51-2791DF8B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94821-D5DF-43F7-BAF0-3F8986D9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C4ACD-4166-46CE-97BD-AFFF08B6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04E9-E9AC-4EFA-B9F6-01AE879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64E1D-EB38-471F-9854-972FB0C6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DEEAF-77C5-4F96-B504-B3F87D05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7B208-D84D-4C4C-AD11-281B654A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9C9F1-A2F3-44EF-AEB6-1CB7C327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DB434-5054-4AB0-B113-CF843AC8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1FA23-E383-4016-B20C-486E4CD3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F45-A6D5-4EC6-B76A-815C0D65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646D-91DC-421D-A244-C0F7F756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92A7A-CF9F-493C-A7E9-AA305DD9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F59BE-670C-49C4-9597-40F9BBFD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A87A-3230-4DDA-B703-B3D3EAA2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BB46-6247-4E83-950C-86D90ED2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647EE-5451-455E-A8F0-02F4E55A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28F2-67CB-44E6-B3F9-ADF1FA2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EC7D-017B-46F6-AEDC-6D9DD5F1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D6B2-336F-438B-8ED8-39D21418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4F27-469F-408D-8E6A-5C67173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70B-DE83-438E-9269-547D98C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452E8-E94A-411C-A91A-12B90E17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8CA7E-2636-4638-BF41-D1FFDF7A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2E19F-E12D-42CE-B0F8-E195BA6E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7940D-58C6-4F04-AA15-B0302716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8CB4D-89B5-4447-B36D-57E76B3F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7507-6BCA-4051-A0D3-7578831B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9B57B-8638-4BA1-8896-7DFF3169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460AF-EC75-4936-BDE9-63758FC8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CC1F-9A3C-404B-B9F7-496CCC58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B95AD-AB7D-4D4F-B011-2BED6D6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2AE-0F8D-4D20-BBBE-97806EB9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934A8-A1EA-4DE4-AFFE-AB35C99D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D570E-FF46-4B2E-ACBE-0A0A3B53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28A61-90D9-480A-B95E-D306E8A1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1EF58-6619-4239-AFF9-38C70FE5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BFBD2-4D82-4DB8-87A9-78457FB1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4B40E-17A2-45BC-8ECB-AFE053F4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73821-F383-4E77-BACA-783A6DCB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EC286-14F7-42F8-9BFC-B6D542D3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329AA-828F-4386-BEFA-D3949CC7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E073C-1CB3-4BB6-B30D-E6993A45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7DF-EFA0-482B-9887-F52884B2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AB8FC-3108-4481-8DCD-FFFE2F2D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20A6E-307D-4AE3-AE67-52A35EBC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F99B-5281-4CFF-89B1-4463398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C6022-B575-4840-8AD2-B1B8175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700A7-6254-4CFD-8355-2BDBF1B3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C69E-97F8-4B08-8C40-84D7EED6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C425-D342-4091-9527-A2CF13CA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7DB4-B277-4162-855E-A348314D4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99B6-0177-41F7-B30D-94FBDA2C4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948C-1105-40E4-AB88-8F68BDF54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36A6-8D33-4038-A7D3-2D685CC66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184A-2F4C-47D9-B349-654CF7A8F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F57D-F3AE-4F12-ADC3-4D3E5000C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65B4-858C-4784-BA15-838685B5B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12D0-6853-4A24-BCB2-F1F181DC0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July 19 – 21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08-31T21:27:03Z</dcterms:modified>
  <cp:revision>791</cp:revision>
  <dc:subject/>
  <dc:title>Slide 1</dc:title>
</cp:coreProperties>
</file>