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C1B-13A7-4582-8BE0-A5F752EE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012E-D917-494B-AC48-D39D78B25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D0D-5739-4092-818B-C5785588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EC64C8-138A-497B-B058-C4C814B953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5F7-FEC6-4623-95FF-CF49F296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319-59EE-4095-A907-8198406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9C6-31E6-493D-A5AD-4E25E4D3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412-FEC8-4175-8F61-64838262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3A8-A5A4-42D4-A558-48AD9859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FC1F-D336-4310-8EE4-19C465A7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893-50FA-4152-AA18-1DFECC5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E87-9548-4D97-AACF-57B5746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BF0F-B15E-42DA-8985-7EE9897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5417-23E7-46CC-A2E0-FBE12E72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101E-EC42-4C93-838F-1D1DAFA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862-7477-4ED1-BFA7-569FF75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5674-B70F-4FE8-AFCC-5B95365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B972-E486-4CFE-A707-EE929A8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F09-40DF-4B4C-8471-D22F756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931D-50EB-492E-B7B1-3C41A4C0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A9B9-71CD-4143-8B73-C11F959E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5B09-6DDA-4E5B-B506-670B39A8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86BF-9C78-4946-8D7D-D60C26FD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2814-C4EF-4B09-A866-68B13B74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7570-2D2E-48D5-A814-1F23496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93B8-C5E8-4664-9428-363AB97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1F3-3B3D-4429-9498-8BAE78D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A0C2-3DBC-4F00-B278-8074493C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232A-EDF1-429D-9FBB-1CB4940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39B1-0C4D-4EDB-B266-32C3AF8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BABA-6AD1-406F-942F-376F142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7826-4ADE-4C01-AC41-5FBDC1C0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0333-321A-4342-9201-256B27EC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5308-3DCC-44F3-B150-7563EDB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2DFA-7A4E-46F4-B7FE-C29EB5C0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75E0-1F65-4FFD-8787-208DCD86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E88C-EB29-4CA3-86C9-169E538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EDA-F22A-4210-A774-70D44B8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4C3F-9F6C-4938-A8EC-1366DE0E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5CC1-B4D7-4C50-AD7E-0D88880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5B83-A00B-4B92-B383-D1A1D51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A222-DE15-4326-AB15-4D58977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1268-9059-48DB-A169-4B90A5A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08F5-E1B2-4919-B335-73ADDC9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2DE1-6162-4675-BB5D-772AD912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CF4B-DAE5-4F72-9C1A-FDB6247B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8C8B-DAA1-4BD2-A132-47164BE3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BBE0-AF5A-47ED-8908-3DF52ED9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623-0E80-4543-BBEB-321C693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1FB0-F6D2-4A10-B0E4-AC99833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516C-5C7B-4C20-A95B-682378F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A409-46BE-470D-B599-4EB92C0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792D-9DA9-4F6D-B6D2-D6DE5CA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7569-5616-4437-9CBE-F0E2AEF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6C72-D7A5-4764-B1F3-C74ACA72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1A1E-D2CC-49E7-8C4B-CAED22F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7840-8244-42A4-85F4-EF874A0B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63D26-9C74-4498-AE00-611D287D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7DCA-6FD0-4DF5-83C0-5ACD30C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34B-D388-4E79-9272-059411D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751B-5F10-46CC-B5F3-9FE2CD01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94C0-4467-47BA-9665-19DE293B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3682-8F13-4DA7-8E11-3D3718BB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C997-4ECC-424B-BFBF-0C221D79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ABD1-2B73-49BB-8985-325BDBE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9BAB1-C73A-4FB0-946F-6F26F3BD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511E-9585-4C02-AE57-6176288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B93F-AB58-4FBC-8FB1-2A6E907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34AB7-6797-4A3B-BD6C-921C5BD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13196-37DC-4AD5-99AB-D295D49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B07-9C92-4803-A24A-4B7003AD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6226-3AB2-400A-B9B3-678DB713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EA85-30E7-4276-B859-9991B435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2E87-4E55-4077-86B2-F58991FF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94BA-B716-42AB-A310-6528BF21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D7EA-01D0-42D5-91C5-86C1ED7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0486-81CC-4933-A4F5-440994D4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F5AB-A7AB-4616-A1C3-9982202A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F9A0-CA6A-42F2-AAE8-B691B575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EDF3-81CC-42A2-9D6C-C0E90E46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C3A9-E6EE-46E5-A92D-33B8CA8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A2F-695B-4200-8A83-816975E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B584-357D-4D02-B69B-B41BA80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7D61-8BBB-4D0A-A4BD-B19E962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35BC-4073-41BB-BE89-F8A7BF5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88637-BF09-4F85-97F6-C2D7852A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5643-F7EA-4F91-B126-DBA1D6C3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FF869-4814-4D9E-95ED-CFADD4AE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633FE-D6FE-4678-9285-B752E5D4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315C3-8F33-42AF-B7F7-AA9E6FC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F3EA-93D2-4419-8ACE-5E215F12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DB07A-FD21-468C-BFBC-B1DB00C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BB8-62BB-4592-A058-35516C1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3E773-9BFC-4B6E-8CD4-647562A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FB23D-7216-4F6F-A3D4-7DFE632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8B63-29BA-4C48-8F70-02B99F5C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F2CD-89E9-4023-9610-38D7175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7EAB-CE24-4F3C-A0CA-B164314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22556-5E22-4A33-A404-762286F9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37DE7-EE35-4D70-92CA-E754E5D0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18CB-244F-4132-8252-97C249F4C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3E2F-22FA-486B-A4D9-71C4DBA04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DC7-15C0-4285-92BD-C874AF22A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5D7-58F6-4FA8-B634-EFC081D0A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0A8-3E27-4593-A22D-BE32B5056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F765-153C-48E1-A366-1BB4B1005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DAFD-22F6-4C6A-BA63-C8F194142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48B1-3853-428E-998D-AA2D8BD4D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08-31T21:27:03Z</dcterms:modified>
  <cp:revision>791</cp:revision>
  <dc:subject/>
  <dc:title>Slide 1</dc:title>
</cp:coreProperties>
</file>