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C45-0E9B-486B-A775-BA904033A5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E56D-5016-4E6D-BCC3-1AF5C63CDC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Lima, Per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Glob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en sistemas de producción: zonas agrícolas, forestales y de pasto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habilitantes, a fin de promover la oportuna culminación del proceso de alineación de planes de acción nacionales y presentación de informes por parte de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5:00Z</dcterms:modified>
  <cp:revision>204</cp:revision>
  <dc:subject/>
  <dc:title>Focal Area and Cross Cutting Strategies – Chemicals</dc:title>
</cp:coreProperties>
</file>