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262-DE72-4C11-94D8-BE422B6633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FF82-173D-41FC-9CA4-89DE268718D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17 to 19 Ap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98989"/>
                </a:solidFill>
                <a:latin typeface="Arial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05:25Z</dcterms:modified>
  <cp:revision>138</cp:revision>
  <dc:subject/>
  <dc:title>Focal Area and Cross Cutting Strategies – Chemicals</dc:title>
</cp:coreProperties>
</file>