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56F7-B686-4CF0-B565-725CEBCCC12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4D7B-EFB2-48F8-9837-261D3D0F5CC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9"/>
          <p:cNvGrpSpPr/>
          <p:nvPr/>
        </p:nvGrpSpPr>
        <p:grpSpPr>
          <a:xfrm>
            <a:off x="0" y="152280"/>
            <a:ext cx="9144000" cy="1247760"/>
            <a:chOff x="0" y="152280"/>
            <a:chExt cx="9144000" cy="1247760"/>
          </a:xfrm>
        </p:grpSpPr>
        <p:pic>
          <p:nvPicPr>
            <p:cNvPr id="40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155160"/>
              <a:ext cx="9107640" cy="60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5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68580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UNCCD COP10</a:t>
            </a: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Decisions on Collaboration with the GEF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Subtitle 9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8 – 10 February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Buru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1f497d"/>
                </a:solidFill>
                <a:latin typeface="Calibri"/>
              </a:rPr>
              <a:t>Summary 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to GEF-UNCCD Re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10 Highl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Key elements of the COP Decisions on Collaboration with the G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1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sions on the GEF Collaboration were taken at COP6 (Havana), COP7 (Nairobi), COP8 (Madrid), COP9 (Buenos Air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6 called for a Memorandum of Understanding between the COP and the GEF Counci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U was formally adopted at COP7 and has since being in 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U covers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ctivities between the GEF and UNCCD Secretariats, and the Global Mechan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Reporting to the COP on activities in the Land Degradation Focal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ion in GEF and UNCCD meetings (Council, Assembly, COPs, CRICs, and Reg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support to affected country Parties for implementation of the Con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3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financing through Operational Program on Sustainable Land Management (OP15) in GEF-3, and LD Focal Area in GEF-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instrument was amended by the 3rd GEF Assembly, to include Land Degradation as a focal area, specifically desertification and defores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Council in 2006 agreed to recommend amendment of the GEF Instrument to include UNCC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strument amended in 2010 by the 4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GEF Assembly to say that the GEF is available to serve as a Financial Mechanis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is a Financial Mechanism of the UNCCD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42" name="Subtitle 6"/>
          <p:cNvSpPr/>
          <p:nvPr/>
        </p:nvSpPr>
        <p:spPr>
          <a:xfrm>
            <a:off x="380880" y="3276720"/>
            <a:ext cx="8534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provides financing to eligible affected country Parties for activities that support implementation of the Conven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-5 Replenishment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44 eligible Countries included in the STAR for 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et-aside funds for Enabl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investment focuses o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stainable Land Man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production systems – agriculture, rangelands, and forest landsc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13525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784760" cy="38098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145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Berlin Sans FB Demi"/>
              </a:rPr>
              <a:t>The GEF i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Berlin Sans FB Demi"/>
              </a:rPr>
              <a:t>Financial Mechanism of the UNC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84807"/>
                </a:solidFill>
                <a:uFillTx/>
                <a:latin typeface="Berlin Sans FB Demi"/>
              </a:rPr>
              <a:t>GEF Objectives in the Land Degradation Foc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1 Maintain or improve flow of agro-ecosystem services to sustaining liveli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en-GB" sz="1800" spc="-1" strike="noStrike">
                <a:solidFill>
                  <a:srgbClr val="984807"/>
                </a:solidFill>
                <a:latin typeface="Calibri"/>
              </a:rPr>
              <a:t>Generate sustainable flows of forest ecosystem services in dry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3 Reduce pressures on natural resources from competing land uses in the wider land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4 Increase capacity to apply adaptive management tools in Sustainable Land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the UNCCD Ten-Year Strategy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OP10 Highlight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focus on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ancing implementation of the 10-Year Strategy by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gnment of NAPs with the Strategy and the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porting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 and use of GEF resources by eligible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and assessment of LD and SLM –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mpacts and indicat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COP10 Decision on GEF Collaboration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support for enabling activities to enhance timely completion of NAP alignments and Reporting by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tilization of GEF resources under the STAR by eligible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gible Parties to harness synergies with other GEF funding wind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 for increase allocation to the LD focal area by GEF don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sit the MoU for possible amend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3-14T21:39:56Z</dcterms:modified>
  <cp:revision>134</cp:revision>
  <dc:subject/>
  <dc:title>Focal Area and Cross Cutting Strategies – Chemicals</dc:title>
</cp:coreProperties>
</file>