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214-7FD6-41F7-9587-9F7178F301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4DC-4F1F-4E9B-85A6-5C783BF2BCF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155160"/>
              <a:ext cx="910764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UNCCD COP10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ecisions on Collaboration with the GEF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Subtitle 9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8 – 10 Februar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ur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1f497d"/>
                </a:solidFill>
                <a:latin typeface="Calibri"/>
              </a:rPr>
              <a:t>Summary 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o GEF-UNCCD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10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Key elements of the COP Decisions on Collaboration with the G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1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s on the GEF Collaboration were taken at COP6 (Havana), COP7 (Nairobi), COP8 (Madrid), COP9 (Buenos Ai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6 called for a Memorandum of Understanding between the COP and the GEF Counc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was formally adopted at COP7 and has since being in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U cover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ctivities between the GEF and UNCCD Secretariats, and the Global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Reporting to the COP on activities in the Land Degradation Focal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ion in GEF and UNCCD meetings (Council, Assembly, COPs, CRICs, and Reg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upport to affected country Parties for implementation of the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UNCCD Relations (3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inancing through Operational Program on Sustainable Land Management (OP15) in GEF-3, and LD Focal Area in GEF-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instrument was amended by the 3rd GEF Assembly, to include Land Degradation as a focal area, specifically desertification and defores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Council in 2006 agreed to recommend amendment of the GEF Instrument to include UNC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strument amended in 2010 by the 4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F Assembly to say that the GEF is available to serve as a Financial Mech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is a Financial Mechanism of the UNCCD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Subtitle 6"/>
          <p:cNvSpPr/>
          <p:nvPr/>
        </p:nvSpPr>
        <p:spPr>
          <a:xfrm>
            <a:off x="380880" y="327672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provides financing to eligible affected country Parties for activities that support implementation of the Con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4 eligible Countries included in the STAR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t-aside funds for Enab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investment focuses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stainable Land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roduction systems – agriculture, rangelands, and forest landsc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784760" cy="3809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5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The GEF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Berlin Sans FB Demi"/>
              </a:rPr>
              <a:t>Financial Mechanism of the UN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Berlin Sans FB Demi"/>
              </a:rPr>
              <a:t>GEF Objectives in the Land Degradation Fo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1 Maintain or improve flow of agro-ecosystem services to sustaining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800" spc="-1" strike="noStrike">
                <a:solidFill>
                  <a:srgbClr val="984807"/>
                </a:solidFill>
                <a:latin typeface="Calibri"/>
              </a:rPr>
              <a:t>Generate sustainable flows of forest ecosystem services in dry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3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4 Increase capacity to apply adaptive management tools in Sustainable L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GEF and the UNCCD Ten-Year Strategy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OP10 Highlight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focus 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ing implementation of the 10-Year Strategy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 of NAPs with the Strategy and th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or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and use of GEF resources by eligible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assessment of LD and SL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acts and indic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P10 Decision on GEF Collaboration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support for enabling activities to enhance timely completion of NAP alignments and Reporting by affected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GEF resources under the STAR by eligible country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Parties to harness synergies with other GEF funding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ncrease allocation to the LD focal area by GEF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the MoU for possible amend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3-14T21:39:56Z</dcterms:modified>
  <cp:revision>134</cp:revision>
  <dc:subject/>
  <dc:title>Focal Area and Cross Cutting Strategies – Chemicals</dc:title>
</cp:coreProperties>
</file>