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1080" y="696960"/>
            <a:ext cx="46436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1A6A-5F19-47E6-8C5E-7272D793BE1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59ED-19A9-41B4-93CB-F335218E30E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Header Placeholder 6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96C9-8E18-4DC8-B192-E55A09E1ACD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D2AE-9ED1-48A8-946D-4BA37173891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10</a:t>
            </a:r>
            <a:r>
              <a:rPr b="1" lang="fr-FR" sz="36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Décisions sur la collaboration avec le FE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98989"/>
                </a:solidFill>
                <a:latin typeface="Calibri"/>
              </a:rPr>
              <a:t>17 - 19 avri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98989"/>
                </a:solidFill>
                <a:latin typeface="Calibri"/>
              </a:rPr>
              <a:t>Ouagadougou, Burkina F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7874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ans cette présentatio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Contexte des relations FE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. Faits saillants de la 10e Confé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Points clés des décisions de la Conférence sur s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(La Havane),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Nairobi), la 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Madrid) et la 9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Buenos Aires) ont pris des décisions sur l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a recommandé la signature d’un mémorandum d’accord avec le Conseil du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fficiellement adopté par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, le mémorandum est en vigueur depuis l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 mémorandum traite des questions suivante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ctivités conjointes des Secrétariats du FEM et de la CNULD, et Mécanisme mond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mpte rendu d’activité du FEM dans le domaine d’intervention « dégradation des sols 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articipation aux réunions du FEM et de la Conférence (Conseil, Assemblée, CRIC, Conférence et réunions régional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ide conjointe aux pays-Parties touchés pour favoriser l’application de la Conven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financières du FEM dans le cadre du Programme d’opérations sur la gestion durable des sols (OP15), pendant FEM-3, et du domaine d’intervention           « dégradation des sols », pendant FEM-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’Instrument du FEM a été modifié par la 3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pour inclure la dégradation des sols (plus précisément, la désertification et le déboisement) parmi les domaines d’interven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Conseil du FEM a accepté en 2006 de recommander une modification de l’Instrument du FEM pour y inclur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n 2010, la 4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a modifié l’Instrument pour faire du FEM un mécanisme financier d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00"/>
                </a:solidFill>
                <a:latin typeface="Calibri"/>
              </a:rPr>
              <a:t>Le FEM est un mécanisme financier de la CNUL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1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aide les Parties pouvant prétendre à ses financements à conduire des activités qui facilitent l’application de la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inquième reconstitution des ressources du FEM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144 pays couverts par le STAR pour la dégradation des 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Fonds réservés aux activités habili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concentre ses investissements sur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estion durable des sol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des zones d’activités productives : terres agricoles, pâturage et forê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14479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Berlin Sans FB Demi"/>
              </a:rPr>
              <a:t>Le FEM est un mécanisme financier de la CN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984807"/>
                </a:solidFill>
                <a:uFillTx/>
                <a:latin typeface="Berlin Sans FB Demi"/>
              </a:rPr>
              <a:t>Objectifs du FEM dans le domaine d’intervention «dégradation des sol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1 Maintenir ou amélior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er le flux des services fournis par les agroécosystèmes pour préserver durablement les moyens de subsistance des populations lo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Produire des flux durables de services d’écosystèmes forestiers dans les zones ar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3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 Réduire les pressions exercées sur les ressources naturelles du fait des utilisations concurrentes des sols à l’échelle paysag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4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 Renforcer la capacité à appliquer les outils de gestion évolutive à la gestion durable des s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00"/>
                </a:solidFill>
                <a:latin typeface="Calibri"/>
                <a:ea typeface="Arial"/>
              </a:rPr>
              <a:t>Le FEM et la stratégie décennale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42920" y="990720"/>
            <a:ext cx="4886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Faits saillants de la 10</a:t>
            </a:r>
            <a:r>
              <a:rPr b="1" lang="fr-FR" sz="44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 Conférenc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incipaux thè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suite de la mise en œuvre de la stratégie décennale par les pays-Parties touch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lignement des programmes d’action nationaux sur la stratégie décennale et établissement des quatrièmes rapports nation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ès aux fonds du FEM et utilisation des ressources par les pays-Parties touchés pouvant y prétend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i-évaluation des activités relatives à la dégradation et à la gestion durable des sols :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mpacts et indicate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 de la 10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                 sur la collaboration avec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ide du FEM à l’appui d’activités favorisant l’alignement rapide   des programmes d’action nationaux et  l’établissement des rapports à présenter par les pays-Parties touché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tilisation des ressources du FEM dans le cadre du STAR par les pays-Parties pouvant y prétend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ise à profit par les Parties des synergies existant avec d’autres guichets de financement du F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ppel au FEM et à ses bailleurs de fonds pour augmenter les  ressources allouées au domaine d’intervention « dégradation des sols 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éexamen du mémorandum d’accord en vue d’éventuelles mod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2:10:24Z</dcterms:modified>
  <cp:revision>191</cp:revision>
  <dc:subject/>
  <dc:title>Focal Area and Cross Cutting Strategies – Chemicals</dc:title>
</cp:coreProperties>
</file>