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63BF-9480-4946-AE4A-8A17058FC6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4EA-DA7F-4F8C-8185-50583B31854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F2B1-B0F7-4402-8BA7-5C4AF31B3C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8 – 10 Févri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Bujumbura, Bur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terrains de parcours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35040" y="1380960"/>
            <a:ext cx="43941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14T21:40:21Z</dcterms:modified>
  <cp:revision>186</cp:revision>
  <dc:subject/>
  <dc:title>Focal Area and Cross Cutting Strategies – Chemicals</dc:title>
</cp:coreProperties>
</file>