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1080" y="696960"/>
            <a:ext cx="46436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42EA-DEA7-44F8-BFBE-36276CA615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4481-7E5D-4561-9637-0F79112DA01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36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95604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5F8F-BBBF-4091-8240-27B6B87A18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2"/>
          <p:cNvGrpSpPr/>
          <p:nvPr/>
        </p:nvGrpSpPr>
        <p:grpSpPr>
          <a:xfrm>
            <a:off x="0" y="0"/>
            <a:ext cx="9144000" cy="1295280"/>
            <a:chOff x="0" y="0"/>
            <a:chExt cx="9144000" cy="129528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" descr=""/>
            <p:cNvPicPr/>
            <p:nvPr/>
          </p:nvPicPr>
          <p:blipFill>
            <a:blip r:embed="rId3"/>
            <a:stretch/>
          </p:blipFill>
          <p:spPr>
            <a:xfrm>
              <a:off x="18000" y="2880"/>
              <a:ext cx="9107640" cy="65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10</a:t>
            </a:r>
            <a:r>
              <a:rPr b="1" lang="fr-FR" sz="3600" spc="-1" strike="noStrike" baseline="30000">
                <a:solidFill>
                  <a:srgbClr val="00642d"/>
                </a:solidFill>
                <a:latin typeface="Calibri"/>
              </a:rPr>
              <a:t>e</a:t>
            </a: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 Conférence des parties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écisions sur la collaboration avec le FE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Atelier Elargi pour la Circo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8 – 10 Février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Bujumbura, Buru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title 2"/>
          <p:cNvSpPr/>
          <p:nvPr/>
        </p:nvSpPr>
        <p:spPr>
          <a:xfrm>
            <a:off x="1371600" y="1905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42d"/>
                </a:solidFill>
                <a:latin typeface="Calibri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Des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787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ans cette présentatio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ontexte des relations FE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Faits saillants de la 10e Confé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Points clés des décisions de la Conférence sur s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(La Havane),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Nairobi), la 8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drid) et la 9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Buenos Aires) ont pris des décisions sur la collaboration avec le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6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 a recommandé la signature d’un mémorandum d’accord avec le Conseil du F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fficiellement adopté par la 7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onférence, le mémorandum est en vigueur depuis 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 mémorandum traite des questions suivante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ctivités conjointes des Secrétariats du FEM et de la CNULD, et Mécanisme mond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mpte rendu d’activité du FEM dans le domaine d’intervention « dégradation des sols 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articipation aux réunions du FEM et de la Conférence (Conseil, Assemblée, CRIC, Conférence et réunions régional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conjointe aux pays-Parties touchés pour favoriser l’application de la Co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Relations FEM-CNULD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tributions financières du FEM dans le cadre du Programme d’opérations sur la gestion durable des sols (OP15), pendant FEM-3, et du domaine d’intervention           « dégradation des sols », pendant FEM-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’Instrument du FEM a été modifié par la 3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pour inclure la dégradation des sols (plus précisément, la désertification et le déboisement) parmi les domaines d’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Conseil du FEM a accepté en 2006 de recommander une modification de l’Instrument du FEM pour y inclur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n 2010, la 4</a:t>
            </a:r>
            <a:r>
              <a:rPr b="0" lang="fr-FR" sz="25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Assemblée a modifié l’Instrument pour faire du FEM un mécanisme financier de la CNU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00"/>
                </a:solidFill>
                <a:latin typeface="Calibri"/>
              </a:rPr>
              <a:t>Le FEM est un mécanisme financier de la CNUL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1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aide les Parties pouvant prétendre à ses financements à conduire des activités qui facilitent l’application de la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reconstitution des ressources du F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144 pays couverts par le STAR pour la dégradation des 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Fonds réservés aux activités habili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FEM concentre ses investissements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urable des sol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s zones d’activités productives : terres agricoles, terrains de parcours et forê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14479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Berlin Sans FB Demi"/>
              </a:rPr>
              <a:t>Le FEM est un mécanisme financier de la CN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984807"/>
                </a:solidFill>
                <a:uFillTx/>
                <a:latin typeface="Berlin Sans FB Demi"/>
              </a:rPr>
              <a:t>Objectifs du FEM dans le domaine d’intervention «dégradation des sol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1 Maintenir ou amélior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er le flux des services fournis par les agroécosystèmes pour préserver durablement les moyens de subsistance des populations l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Produire des flux durables de services d’écosystèmes forestiers dans les zones a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 Réduire les pressions exercées sur les ressources naturelles du fait des utilisations concurrentes des sols à l’échelle paysag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84807"/>
                </a:solidFill>
                <a:latin typeface="Calibri"/>
              </a:rPr>
              <a:t>4 </a:t>
            </a:r>
            <a:r>
              <a:rPr b="0" lang="fr-CA" sz="1600" spc="-1" strike="noStrike">
                <a:solidFill>
                  <a:srgbClr val="984807"/>
                </a:solidFill>
                <a:latin typeface="Calibri"/>
              </a:rPr>
              <a:t> Renforcer la capacité à appliquer les outils de gestion évolutive à la gestion durable des 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00"/>
                </a:solidFill>
                <a:latin typeface="Calibri"/>
                <a:ea typeface="Arial"/>
              </a:rPr>
              <a:t>Le FEM et la stratégie décennale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35040" y="1380960"/>
            <a:ext cx="439416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Faits saillants de la 10</a:t>
            </a:r>
            <a:r>
              <a:rPr b="1" lang="fr-FR" sz="44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 Conférenc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thè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suite de la mise en œuvre de la stratégie décennale par les pays-Parties touch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lignement des programmes d’action nationaux sur la stratégie décennale et établissement des quatrièmes rapports nation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ès aux fonds du FEM et utilisation des ressources par les pays-Parties touchés pouvant y prétend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i-évaluation des activités relatives à la dégradation et à la gestion durable des sols :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mpacts et indicat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Décision de la 10</a:t>
            </a:r>
            <a:r>
              <a:rPr b="1" lang="fr-FR" sz="4000" spc="-1" strike="noStrike" baseline="30000">
                <a:solidFill>
                  <a:srgbClr val="1f497d"/>
                </a:solidFill>
                <a:latin typeface="Calibri"/>
              </a:rPr>
              <a:t>e</a:t>
            </a:r>
            <a:r>
              <a:rPr b="1" lang="fr-FR" sz="4000" spc="-1" strike="noStrike">
                <a:solidFill>
                  <a:srgbClr val="1f497d"/>
                </a:solidFill>
                <a:latin typeface="Calibri"/>
              </a:rPr>
              <a:t> Conférence                  sur la collaboration avec le FE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ide du FEM à l’appui d’activités favorisant l’alignement rapide   des programmes d’action nationaux et  l’établissement des rapports à présenter par les pays-Parties touché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tilisation des ressources du FEM dans le cadre du STAR par les pays-Parties pouvant y prétend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à profit par les Parties des synergies existant avec d’autres guichets de financement du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u FEM et à ses bailleurs de fonds pour augmenter les  ressources allouées au domaine d’intervention « dégradation des sols 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Réexamen du mémorandum d’accord en vue d’éventuelles mod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14T21:40:21Z</dcterms:modified>
  <cp:revision>186</cp:revision>
  <dc:subject/>
  <dc:title>Focal Area and Cross Cutting Strategies – Chemicals</dc:title>
</cp:coreProperties>
</file>