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10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0182-8A54-40CD-9D80-766BA780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238A-D11B-4A58-973D-7C90D3A35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6BE8-B12A-47CD-B15A-9517BEE73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17E5-AD6E-4DBD-BDF1-72111E3FC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D687-B2A2-4888-9D1E-AE22D1421B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77CF-004B-46EF-90DE-3A82D4FC2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A410-DA20-4032-9DA8-AD9220057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999-F477-44E0-82E5-8F14F8DB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4CE-5547-467B-8A21-26152BF9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862-E0F9-40B8-87F5-646A53FB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504-F798-488D-BCE1-46726712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A318-D21A-4080-A7BC-5D253FF9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1348-9FE5-4E5B-8A3D-4563AC01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3342-CDFB-4323-B0C7-DFF8E81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E6AC-6F4E-4A1F-A81F-94ED85D4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2C20-739C-4013-9EBF-31C4F830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3C36-F4CB-45FB-B14B-5702A239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9F47-FD6D-4C4A-98A1-B65044C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26A-90CC-4C91-BE90-8A1304DD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5C43-C0FA-4A96-B186-FB6BC88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E848-97A5-4D90-A281-8B39A23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D8A-9C43-4E36-B597-DF1826F6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2AEF-9F7C-44F7-8958-50650C3F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B462-206F-42C9-8D60-DBD1C1A0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E3C66-7BF8-4E67-AC45-444D451EAC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93E4A-8DAE-4FD5-958F-6B8C7C6AC2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D27EE-C917-4A69-B37C-9B7898CF5C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71C8F-7739-4DF2-B4A3-1B3E59EF8E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EADF5-85D5-452D-8DD3-855A76B77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0A8-D50F-4B04-9B0A-3A832954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EB9C4-AE96-42B6-B845-D368A6AF25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1EB18-C618-46C6-BC87-97F809A82F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F70E2-8A5E-4145-8D78-4A00100066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9F79C-EBF2-4AC9-BD3A-E97E717539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80DC1-4162-40E7-B2B4-FB31494826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CC94F-63C6-47FC-BB8F-B3B717EAB1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C5DC1-DC04-4DC7-B467-694662DB5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19E-8852-4906-AD1D-833305D1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A35-83A4-4F10-864F-22B56B96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C7D-3181-4CF6-834E-5AAA665C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CD8-0805-47D5-B5A5-81D25C48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68E-B9F5-4482-A7FF-2B58276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AC7-A17A-4E56-8FE2-E772DFC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A001-DC55-401D-A920-8611D84C318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42CF-484A-4423-8EBC-61A958B66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2515-092F-4152-8524-E4818A45C0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A585-C330-4912-9A7D-4A5AB9DDD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F6F0-4524-42CF-9185-34C0BA10B68E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2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nior Operations Evaluation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rdan, February 15 - 17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nual Monitoring Report (AMR) is the principal reporting instrument of the GEF Secretariat’s monitor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snap shot of the overall health of the GEF’s active portfolio of projects each fisca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is based on Agency PIR submis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94CE-D945-40DC-A6BB-962E06DF910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45720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M&amp;E Policy in GEF 5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-4572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New policy approved by GEF Council in November 2010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FADD-E7E9-466A-BAEF-9E9164FB93A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8562-A09F-4E0B-8DD2-AC76B6FEA52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52968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A0B6-5D02-47EF-A8F0-2152E71B49B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AE27-8276-45AC-A341-788E7442AB8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Knowledge management is a process for improving performance by learning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A15B-306E-4A8A-90AA-5DC265E5E42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63360"/>
          <a:ext cx="9144000" cy="662940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62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rt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ey Roles and Responsibil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Counc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licy making on M&amp;E/ Oversight of M&amp;E functions / Enabling   environment for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Evaluation Offi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ependent GEF evaluation / Oversight of project and program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ersight of the relevance, performance, and overall quality of monitor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ting of minimum requirements for GEF M&amp;E/ Evaluative knowledge sharing and disse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blishing  results frameworks at the focal area and corporate level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portfolio monitoring across Agencies and focal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nd incorporating lessons from portfolio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view of GEF M&amp;E requirements in project and program propos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ordination of  partnership knowledge managemen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operational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itoring of the Agency GEF portfol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gency project, program, and portfolio progress, results, learning, and lessons/ Ensuring monitoring at the project and program level / Adaptive management of project and program implementation/ Systematic involvement of national partners and sharing of project M&amp;E information at the national level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evaluation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and program and/or corporate Agency independent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nstreaming of the GEF into relevant Agency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vise on scientific/technical matters in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to scientific and technical indicators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knowledge management and information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operational focal po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llaboration on M&amp;E at the portfolio, project, and program levels 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stakeholders (ie, NGOs, CSOs, academ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icipation in monitoring activities and mechanis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vision of views and perceptions to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13AD-3362-41E3-9A1E-95CE86B395C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231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4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58F0-50F4-46C3-92AA-75D05BD2805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Is it any good or usefu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get value for money (or efforts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pay or do too muc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246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Resul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Will it la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2AF4-38D2-487D-B658-CAAFA21FB9D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E153-7A7B-4606-9301-99D66F41364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Minimum Requirem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Concrete and fully budgeted M&amp;E plan by CEO endorsement for FSP and CEO approval for M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jects should align with GEF focal area results frame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D931-30E3-43FD-BAA6-A00D98F30A4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process/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fully established and data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D74-393C-431F-BB20-C9481AF58F5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&amp;E minimum requirements 1 &amp;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: data on the evaluation itself (including TORs); basic project data, les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DCF-8688-4039-81E5-F2105245F62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0CEF-8692-43A9-8F3D-CA727931121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volvement of operational focal poi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t the national lev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544E-9F8A-40FB-8020-185E77BAD99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7848-448B-4172-8718-406950B8690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Evaluation planning for GEF-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80AB-D2C5-487A-A16D-24FA830F10EA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ountry Portfolio Evaluations: up to 15 during GEF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mpact Evaluations: main effort on International Waters and additional impact work on other foc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erformance Evaluations: APR continued and strengthened as well as independent process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ematic Evaluations: focal area strategies and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treams of evaluative evidence will enable a timely OPS5 for which less additional work should be needed than for OPS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and RBM in GEF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ing coverage of the reform process: GEF project cycle and modalities, direct access, STAR, paragraph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understanding of the catalytic role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A2F7-A303-4136-80C9-A4DED09B6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 DATABA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2EBB-0369-4712-B436-127A7B4DDB0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CD35-AB72-4356-80DC-E9CE36CD31F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6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Office 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5867280" y="4800600"/>
            <a:ext cx="2971800" cy="64260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nnual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Country Portfolio 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7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Straight Arrow Connector 11"/>
          <p:cNvCxnSpPr>
            <a:stCxn id="298" idx="1"/>
          </p:cNvCxnSpPr>
          <p:nvPr/>
        </p:nvCxnSpPr>
        <p:spPr>
          <a:xfrm flipH="1">
            <a:off x="5333400" y="5124600"/>
            <a:ext cx="533880" cy="1335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93C9-F152-48D6-A79C-65714BFC1A9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305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6861-7E4D-48E7-B35A-7DFA40610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1FEE-CB67-42B8-ACE9-98855E7A4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M&amp;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of evaluation knowledge products would be the most useful for your work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9EA6-E86A-4E7F-A4B4-CA8D44DE516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B990-FAF1-4E49-949A-192DFD8EDCB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one of the main instruments of Results Base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Evalu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a “reality check” on monitoring and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&amp;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E6C2-647D-4E6A-BDCB-6259CA21824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FE2-7930-4FE5-8EE7-9DF72678865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rtfolio lev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racking progress toward achieving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ndardized termin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chieving coherence across Focal A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rning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grating lessons in management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herent framework for improved decision-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4022640"/>
            <a:chOff x="1219320" y="1447920"/>
            <a:chExt cx="7467120" cy="40226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560"/>
              <a:ext cx="191556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800"/>
              <a:ext cx="3994200" cy="1416240"/>
            </a:xfrm>
            <a:prstGeom prst="rightArrow">
              <a:avLst>
                <a:gd name="adj1" fmla="val 50000"/>
                <a:gd name="adj2" fmla="val 705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142080" y="3965760"/>
              <a:ext cx="256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4120" y="445680"/>
              <a:ext cx="3600" cy="5076720"/>
            </a:xfrm>
            <a:prstGeom prst="bentConnector3">
              <a:avLst>
                <a:gd name="adj1" fmla="val 768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794120" y="4991760"/>
              <a:ext cx="21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41240" y="5562720"/>
            <a:ext cx="607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3882-D3F8-4E3B-8D76-CC88DAB92E8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8076960" cy="8413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B91B-77A5-496B-867B-464975899C0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822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Lev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Report on Project Start, Project Delays, Project Cance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Project Implementation Report (PI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Tracking Too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ortfolio Overview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cal Area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to Annual Monitoring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Brace 6"/>
          <p:cNvSpPr/>
          <p:nvPr/>
        </p:nvSpPr>
        <p:spPr>
          <a:xfrm>
            <a:off x="5791320" y="2057400"/>
            <a:ext cx="1066680" cy="220968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2209680"/>
              <a:gd name="textAreaBottom" fmla="*/ 21819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5"/>
                  <a:pt x="10800" y="869"/>
                </a:cubicBezTo>
                <a:lnTo>
                  <a:pt x="10800" y="9931"/>
                </a:lnTo>
                <a:cubicBezTo>
                  <a:pt x="10800" y="10366"/>
                  <a:pt x="16200" y="10800"/>
                  <a:pt x="21600" y="10800"/>
                </a:cubicBezTo>
                <a:cubicBezTo>
                  <a:pt x="16200" y="10800"/>
                  <a:pt x="10800" y="11235"/>
                  <a:pt x="10800" y="11669"/>
                </a:cubicBezTo>
                <a:lnTo>
                  <a:pt x="10800" y="20731"/>
                </a:lnTo>
                <a:cubicBezTo>
                  <a:pt x="10800" y="211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858000" y="2895480"/>
            <a:ext cx="1066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ormation should be made available to Focal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6BA8-C83B-47C0-BDD9-1393F07F79A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2:04:19Z</dcterms:modified>
  <cp:revision>172</cp:revision>
  <dc:subject/>
  <dc:title>Slide 1</dc:title>
</cp:coreProperties>
</file>