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10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035A-6D39-4463-B50C-8DBAA734A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B574-A971-4072-822F-D241E03B8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A6A6-91DB-4E45-8A62-A47B04CFB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A07F-DBB9-4F13-97FB-AC61F9DDC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36A8-4D5F-4A70-94F5-57B191D233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31AD-ACC9-4FC4-A8FA-8C4736184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A052-CE1A-480A-93B8-A8045FEC6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F03-E6CD-44D2-B885-403C024C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32C-3855-4E7C-9A21-FE5D5EAB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5CD-8B0D-410A-AAC8-0D2D1D81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B90-5DC3-4A1C-BCB4-09B27EF4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E9D9-D8C9-414D-BCF5-71B33250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1DFD-3F28-48A5-9915-0B6FBA6A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C3CC-BF28-4D8B-BC07-16C47891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8651-07AE-4995-B771-0BF1610A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DA50-8782-42C5-A4FE-8426051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A831-8876-450F-8EB8-9E80423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80A5-BB31-4647-BBA0-BE831744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6C7-89E9-4DB6-B970-83CBD11E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4C4F-E1E3-4662-907F-8A5F479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09E9-A3CC-442C-8C98-B57B225B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FF8F-4DB0-4355-BCEC-63DF42EC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7FF2-F88B-4536-98AC-90899EF7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300D-C08F-47B4-9637-3D677116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E7E4D-5A02-410E-BBA8-3A34E79D9E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24DA8-6619-46A8-987B-0C910338BB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C0790-79FE-4FF2-9B1A-F313B84095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96AFF-F825-4AC8-92F2-6175C58C5F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38201-78C9-443C-B8F6-D10409391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964-79DB-4F7C-B10F-43E1C1E2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8B4CC-4566-42B0-83BD-9F8C35529C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FC987-2A53-4FAA-BEFD-1963A3C6D3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07EA4-3A59-472A-95AF-7F0E41E9B6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E9A66-DFCA-41D9-8635-8984937FA8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6E195-9249-4B5D-ADF5-AEDA127281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83EBC-1B72-47C5-A22A-6EB0981EC4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6D378-47EB-459D-96B3-5331A38F4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2CE-06B1-4459-9FF4-0D8001A9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D65-5C4C-4D8D-8CD5-775E64F3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6AD-B44C-41B1-A6C4-D6F6352D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E2A-0143-4C60-8D3E-E4DC7BF7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F8C-DE73-4B75-A2D6-801DB6F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6EC-F609-4FEA-8535-729B5305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76C2-5AA6-49FC-99FC-2F4B0CA5BCE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4DF6-66CA-4401-BE9C-72A04F577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A25-91D2-48A8-9847-83A3FA609AA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5E9F-662A-47F7-B165-3684B4034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4D1E-48D6-4FA0-830B-340A116E2863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2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nior Operations Evaluation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rdan, February 15 - 17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nual Monitoring Report (AMR) is the principal reporting instrument of the GEF Secretariat’s monitor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snap shot of the overall health of the GEF’s active portfolio of projects each fisca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is based on Agency PIR submis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8930-D5DE-4180-AE46-FFAFEFEE39E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45720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M&amp;E Policy in GEF 5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-4572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New policy approved by GEF Council in November 2010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30E7-E0A7-4389-8F8E-D0B4F128E77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10AC-FCF0-4C3C-95ED-EA8B368D2A1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52968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9902-C766-4136-8E10-E53B0ADCA67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CDE-1EDF-4141-BA72-4C9360BC109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Knowledge management is a process for improving performance by learning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3CC-36A9-45D5-9029-91AF7112486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63360"/>
          <a:ext cx="9144000" cy="662940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62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rt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ey Roles and Responsibil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Counc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licy making on M&amp;E/ Oversight of M&amp;E functions / Enabling   environment for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Evaluation Offi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ependent GEF evaluation / Oversight of project and program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ersight of the relevance, performance, and overall quality of monitor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ting of minimum requirements for GEF M&amp;E/ Evaluative knowledge sharing and disse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blishing  results frameworks at the focal area and corporate level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portfolio monitoring across Agencies and focal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nd incorporating lessons from portfolio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view of GEF M&amp;E requirements in project and program propos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ordination of  partnership knowledge managemen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operational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itoring of the Agency GEF portfol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orting on Agency project, program, and portfolio progress, results, learning, and lessons/ Ensuring monitoring at the project and program level / Adaptive management of project and program implementation/ Systematic involvement of national partners and sharing of project M&amp;E information at the national level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Agency evaluation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and program and/or corporate Agency independent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nstreaming of the GEF into relevant Agency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vise on scientific/technical matters in M&amp;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to scientific and technical indicators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 knowledge management and information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operational focal po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llaboration on M&amp;E at the portfolio, project, and program levels 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stakeholders (ie, NGOs, CSOs, academ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icipation in monitoring activities and mechanis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vision of views and perceptions to evalu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6115-1F6B-4298-A502-8CD70798E64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231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4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79B2-FD25-4D39-937E-83434F1D8EC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Is it any good or usefu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get value for money (or efforts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Did I pay or do too muc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246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Resul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Calibri"/>
              </a:rPr>
              <a:t>Will it la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0B67-21B2-4A9A-9EE7-AE6435105B1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BDDC-F9BC-4D98-BB68-D6976476F01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Minimum Requirem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Concrete and fully budgeted M&amp;E plan by CEO endorsement for FSP and CEO approval for MS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jects should align with GEF focal area results frame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EAC6-C93E-42A4-A0F7-B787235E635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process/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fully established and data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941E-2EA1-4E45-B2E4-59F00A02221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&amp;E minimum requirements 1 &amp;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: data on the evaluation itself (including TORs); basic project data, les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C746-0FDE-48CB-BE41-E3024620E94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BA04-F4B3-4E1C-AB2F-C5B58CDB286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volvement of operational focal poi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t the national lev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CFF6-D11D-4EED-890F-BD55F24BD16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CF40-5E1F-4DB5-A575-672FC79EE93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Evaluation planning for GEF-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6441-1AF1-450B-81B3-DDB037E45304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ountry Portfolio Evaluations: up to 15 during GEF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mpact Evaluations: main effort on International Waters and additional impact work on other foc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erformance Evaluations: APR continued and strengthened as well as independent process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ematic Evaluations: focal area strategies and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treams of evaluative evidence will enable a timely OPS5 for which less additional work should be needed than for OPS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&amp;E and RBM in GEF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taining coverage of the reform process: GEF project cycle and modalities, direct access, STAR, paragraph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understanding of the catalytic role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1C58-4CEF-4E76-80BA-C60FF4397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 DATABA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0F6-B701-4664-BCEC-F846FE4BB1F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84F3-D37E-442B-8EC6-3686F59CB86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6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Office 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valuation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5867280" y="4800600"/>
            <a:ext cx="2971800" cy="64260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nnual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Country Portfolio 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7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Straight Arrow Connector 11"/>
          <p:cNvCxnSpPr>
            <a:stCxn id="298" idx="1"/>
          </p:cNvCxnSpPr>
          <p:nvPr/>
        </p:nvCxnSpPr>
        <p:spPr>
          <a:xfrm flipH="1">
            <a:off x="5333400" y="5124600"/>
            <a:ext cx="533880" cy="1335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CC29-5D7A-438B-B3C4-29BDA8574F1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305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5BA-6B7B-4CF3-BB55-BF812C0CC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43AE-0BAE-4289-8538-3B87BAC05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M&amp;E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about 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of evaluation knowledge products would be the most useful for your work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240-4E1C-4561-8BF0-FCDB25D2BBE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F731-0769-4A42-A53E-41E2E6EB026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one of the main instruments of Results Base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Evalu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is a “reality check” on monitoring and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Monit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&amp;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RB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A792-A47C-4D59-A473-152E475030C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B4AE-2F39-4C78-B40B-681B488495C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rtfolio lev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racking progress toward achieving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andardized termin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chieving coherence across Focal A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rning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grating lessons in management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herent framework for improved decision-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4022640"/>
            <a:chOff x="1219320" y="1447920"/>
            <a:chExt cx="7467120" cy="40226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560"/>
              <a:ext cx="191556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800"/>
              <a:ext cx="3994200" cy="1416240"/>
            </a:xfrm>
            <a:prstGeom prst="rightArrow">
              <a:avLst>
                <a:gd name="adj1" fmla="val 50000"/>
                <a:gd name="adj2" fmla="val 705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142080" y="3965760"/>
              <a:ext cx="256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56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4120" y="445680"/>
              <a:ext cx="3600" cy="5076720"/>
            </a:xfrm>
            <a:prstGeom prst="bentConnector3">
              <a:avLst>
                <a:gd name="adj1" fmla="val 768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794120" y="4991760"/>
              <a:ext cx="21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41240" y="5562720"/>
            <a:ext cx="607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2ADF-0EE6-480F-99F8-5F6163361C9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8076960" cy="8413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BC4F-001B-4BBD-B02E-8F143CED6D4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822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Lev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Report on Project Start, Project Delays, Project Cance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Project Implementation Report (PI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ubmission of Tracking Too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ortfolio Overview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cal Area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to Annual Monitoring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Brace 6"/>
          <p:cNvSpPr/>
          <p:nvPr/>
        </p:nvSpPr>
        <p:spPr>
          <a:xfrm>
            <a:off x="5791320" y="2057400"/>
            <a:ext cx="1066680" cy="220968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2209680"/>
              <a:gd name="textAreaBottom" fmla="*/ 21819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5"/>
                  <a:pt x="10800" y="869"/>
                </a:cubicBezTo>
                <a:lnTo>
                  <a:pt x="10800" y="9931"/>
                </a:lnTo>
                <a:cubicBezTo>
                  <a:pt x="10800" y="10366"/>
                  <a:pt x="16200" y="10800"/>
                  <a:pt x="21600" y="10800"/>
                </a:cubicBezTo>
                <a:cubicBezTo>
                  <a:pt x="16200" y="10800"/>
                  <a:pt x="10800" y="11235"/>
                  <a:pt x="10800" y="11669"/>
                </a:cubicBezTo>
                <a:lnTo>
                  <a:pt x="10800" y="20731"/>
                </a:lnTo>
                <a:cubicBezTo>
                  <a:pt x="10800" y="211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858000" y="2895480"/>
            <a:ext cx="1066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ormation should be made available to Focal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2BBD-DBFA-4D32-85B4-63F7697B064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2:04:19Z</dcterms:modified>
  <cp:revision>172</cp:revision>
  <dc:subject/>
  <dc:title>Slide 1</dc:title>
</cp:coreProperties>
</file>