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F5C7-D7D8-4310-94AE-493CC6F1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66F0-6C3F-4AA6-9D1D-C84BE07D0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1C79-AB0B-40BC-BC6C-447E024A6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CA75-1D80-498D-BECB-E8755DF17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4540-3299-4CB2-9453-EB3C67E29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4F8-69EE-4571-A763-6A075B329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B289-AB4B-4796-A99F-CDAB05F2A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BFA-E2CA-4ABC-AC05-50D23E057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274-AB26-4703-863C-95A2C60A2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DDD2-38C2-4F1C-9870-6A7554630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E3E-26B4-408D-858E-41F178781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B7FB-5C02-4188-94E2-68AE6BD62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A73-91AB-41C3-A630-CE01741E2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CA1D-20FC-41C5-A4D0-55801684B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865-6354-4A5E-859B-C58CAC20F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55C-9C84-4BAD-A40D-42E4AD96F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404D-8400-4460-84FD-271C6C159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E0A-8949-4DB9-A162-39F2AF9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85B-A368-4D88-84A0-1E2E20E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EC5-BC83-4E6E-A810-713C1422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2DE-6894-4520-916B-486231E0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6B2-96C8-4D1E-9C95-AB4705AE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4D42-4A60-4144-AE6C-C92C447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E05B-BA7D-41B8-B3DB-6A4901FE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7FDE-6C8A-4691-B0F5-715FE78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A66-BC1B-454B-B97E-84687F6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4DD7-3A66-412E-9E41-8EF0ACF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10C-759E-41ED-B09C-A3BF59B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847-E3B7-4C44-8335-C4FBE11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66B4-4365-415A-B5A6-80DA337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AFDA-F057-43F0-B32C-A88DEF0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6DA2-08D5-480F-BB01-A0DEB5A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E5E6-E520-4750-A654-87DDB11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9D0-50D7-46E4-89E1-15507ABB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92C19-2ECF-4C3B-BF54-8472CFC5A6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45494-3B5E-4E98-8A95-9F0A210DB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7EC4C-641E-471E-85C9-7CF614582F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42524-EEC2-4032-BF20-76A9624CB7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47C32-8995-4CF9-8244-E660E3693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DB3-CACC-41AC-BF7A-CA7762B4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A1D83-0EE4-4AD1-BE68-3501C8967C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C57AC-6EBB-4664-8026-8CFBCC1ED1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A5B1F-E1AF-44E1-B83F-7E2B25959A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FFB40-A6E7-44DA-B84F-2B0C484E9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C7EEF-0A9B-4B8D-A8D5-CBB37C8B06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76677-BCC0-4A82-A844-41E4CD031F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05711-8EF4-4340-9190-5C01C61AD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59A-FD54-4CCF-B053-BC7BE14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436-2883-40E5-9539-4927B5B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A08-B980-41B9-A4C5-E47A18C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946-09BD-4107-9064-E5D93DA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5AC-0C90-414B-A424-66B076A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55B-44C0-4C5C-8921-84CD538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DB3-E6D6-45FC-98D4-EF5FC042E4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F10-89EC-45AE-9803-DB544654A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05D-9680-4D9E-A6FB-C4A58D1D5F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C17-5FED-4F56-8FE4-C64B368E7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DCC0-88F2-478E-9E77-DFE0FF275B05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seniya Temnen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nowledge Management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EF6E-43C8-4267-AEEA-19856E7A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A76-4D1E-48BE-9863-6E1075B00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3B74-4535-45A8-92C9-2CA284C05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D8B-11CB-4500-836F-186525F39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36C-A572-4240-A49C-C2D2BD393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8A61-C274-4A34-867F-823CBA236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B086-1FB9-46EA-A0C6-E9358939B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365-2933-454C-BE89-0ABC0D293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6B3-D0DD-4A68-8A81-7573EE96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BC4-D5F5-446C-A23C-E637D2317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739A-AB6F-40F8-B7A6-E70D5CF113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S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more would be need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s e-survey su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from OPS4 – governa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nd regional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ACA-B9B4-43AA-8392-6B2706D71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617C-3F7C-4046-BB15-ADB20F3F7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084320"/>
          <a:ext cx="7467480" cy="550224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BD, 64 CC, 22 IW, 19 LD, 35 MF, 21 POPs, 16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Active,  62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128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Active,  3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7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93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1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1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Co Financing   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menia, Azerbaijan, Belarus, Kazakhstan, Kyrgyz Republic, Kyrgyzstan, Russian Federation, Tajikistan, Turkmenistan, Uzbekist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5F0-37D7-4252-A470-5E5B1CB4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6A8-9301-4C84-BCF4-13A78F20A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44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412-C097-4DC5-A52F-123D75F26F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D8FC-FBE1-4FDE-8185-C34AC86EF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FDD-602E-447A-9484-7530BED48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 of communication of evaluation findings is the most useful for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9474-C895-4EF3-BFF8-EB4D96A7A0E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6D97-7315-4C85-B74A-9FEDB3C85E42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D341-A7C0-4252-9C26-0D3E3B71E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359A-3DB0-4A0D-BCEC-B6F69CA58B1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84E-1C08-4B0D-ADE4-640A4556E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386-D56F-4C47-A9E9-DA79DBD879A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8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C33-FA52-4244-B7F2-4BF174F0C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FA0-5C2F-428D-88B9-87BBB636C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BA8-770E-4179-8B91-905536F1C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36:57Z</dcterms:modified>
  <cp:revision>179</cp:revision>
  <dc:subject/>
  <dc:title>Slide 1</dc:title>
</cp:coreProperties>
</file>