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45AE-5B5A-44EE-B65A-3D9FE063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32E-B21D-4DDB-A8E3-530328842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BB22-3CE3-46D9-8876-7B3C9645A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DD2F-9E5B-4E03-82C0-2C5EC9319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DED1-072C-4EFC-986E-07FF129B7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2D25-C27D-440A-8E64-3A495EE65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A718-4176-41FE-8950-312ACFFFE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667-A2A4-4813-A39E-1B11AEBC2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C276-1BB2-4403-B7D2-189223AA2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2512-9465-49E7-8E77-3423CC8235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BECA-FE11-4C1D-83E2-5C8C08922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A925-05C4-44B2-8DDB-239ADFDE3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0AEF-8F0E-430F-8FCC-98EB897EF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D73C-E0EC-4B95-B5A9-9388E8555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9723-D2F6-4980-9131-D09AE4E0C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racking results at the program, focal area, overall GEF portfolio level. Annual Monitoring Report presents a synthesis of this information to the Counc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2D24-9C34-42F1-9FB7-E8912AE6D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D70-9D0A-4093-BBCC-9F87FA161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656-A06E-4569-AB76-78E4DDFD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D0F-EB7A-4AFF-81CF-CDD4942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B9A-0480-4D85-BD9E-10C3A395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685-18B6-49AA-B07C-954103C3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70C8-A68D-4C69-A62D-8C095D18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848-10D3-4F5C-B063-7211C0B4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0597-51BA-4A6E-9088-565DD5D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D832-1640-4278-B051-336BF1A2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6164-406E-4AF4-A99C-4C49C9B0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C403-6346-4F98-A363-A81B96D4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26D7-20FF-45B5-ABF7-1ECD262F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E24-52BE-4266-9633-9918541A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845-BDC4-4F50-85C6-75C554C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33E0-972F-4890-BA68-BF8B1F9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F84C-54CD-43BA-846C-DC8DC62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06BF-0B62-43EF-9357-3EFFBAD1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62B3-9FEA-44F5-BDD3-A56B13B1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315EF-B461-4AFE-A6F0-8CE3947581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1E1B0-F3AC-43EA-8074-234CF2C8BC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553C8-0914-4129-8EAC-F99C2B4E90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B0A10-B71B-4644-93FB-6D62479601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2F1C6-CBC9-41E0-92AA-0EE7FC372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651-AA85-44E0-BB15-20D618E6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7FF75-8915-4F88-AC3C-2919D4AE5B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5EA52-6751-41F1-8820-147C5BD9EC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E73DF-28F5-4B0C-81A0-37049A225A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AAD72-4139-4FCB-99C8-677D05919F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A2945-9932-4276-9864-96D6AEB514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CE6D4-AFFC-4889-9E7C-E64132C700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5CEB2-2667-4299-AA25-6DF920CA6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171-5AC9-48E9-8D99-522F426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0CC-A891-45CB-989A-E17EB29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D34-6A0C-4AA0-AA4B-6D39612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297-2CD5-440C-9F04-41D620EC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0A7-BAD5-4A29-9C8F-1794DEF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D2E-B073-4AFC-B98F-D4DA0B1F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611A-5077-47F6-B805-F294F62E85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1F0-2AFC-487B-A016-D469CC172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6841-BA22-4F79-8845-A1BA5FA7D1E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52C6-1C10-42A0-841A-529B99FAC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223A-269F-4710-B39F-6CE2FF26819D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175248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76b4c"/>
                </a:solidFill>
                <a:latin typeface="Calibri"/>
              </a:rPr>
              <a:t>МиО в ГЭФ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74320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сения Темнен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фис  оценк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минар ГЭФ для стран-чл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438120" y="1859040"/>
            <a:ext cx="7956720" cy="501156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D08-D86E-441B-A62E-D2AE3D28B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375080" y="1146600"/>
            <a:ext cx="4821480" cy="5767200"/>
            <a:chOff x="4375080" y="1146600"/>
            <a:chExt cx="4821480" cy="5767200"/>
          </a:xfrm>
        </p:grpSpPr>
        <p:sp>
          <p:nvSpPr>
            <p:cNvPr id="203" name="Rectangle 5"/>
            <p:cNvSpPr/>
            <p:nvPr/>
          </p:nvSpPr>
          <p:spPr>
            <a:xfrm rot="19314600">
              <a:off x="4723920" y="1371240"/>
              <a:ext cx="1270800" cy="1570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тдел по оценке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 rot="19361400">
              <a:off x="5694480" y="2606400"/>
              <a:ext cx="1257120" cy="1643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тдел по оценке ГЭФ, партнеры по оценк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 rot="19306800">
              <a:off x="6686640" y="3900960"/>
              <a:ext cx="1214280" cy="1523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Секретариат ГЭФ, агентства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 rot="19392600">
              <a:off x="7605000" y="5041800"/>
              <a:ext cx="1209960" cy="1676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Страны-партнеры, НГО, частный сектор, сообше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Flowchart: Decision 10"/>
          <p:cNvSpPr/>
          <p:nvPr/>
        </p:nvSpPr>
        <p:spPr>
          <a:xfrm>
            <a:off x="1600200" y="1066680"/>
            <a:ext cx="1981080" cy="12193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ffffff"/>
                </a:solidFill>
                <a:latin typeface="Calibri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80880" y="990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Благоприятные 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9907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Надз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3124080" y="914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Политика МИ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7772400" y="2895480"/>
            <a:ext cx="106668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6781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циальная рекация менеджмента требуется на все отчеты, представленные Офисом по оценке ГЭФ перед Советом ГЭ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принятии решений Совет ГЭФ принимает во внимание и оценку и официальную реакцию менеджм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с по оценке ГЭФ ежегодно отчитывается о выполении решений по итогам оценки (Отчет о мерах, принятых менеджментом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лучае оценок портфелей проектов на уровне страны, страны имеют возможность представить свое мнение Сове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13B-6157-403A-9D27-B509D227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аботка планов по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ый план по МиО полностью обеспеченный бюджетом за подписью Исполнительного Директора (в случае ПМП) и утвержденный Исполнительным Директором (в случае СМП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ические рамки проектов должны быть в согласовании с результатами ГЭФ в тематических областях.   Планы по МиО должны включа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ндикаторы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сходные данные по МиО за подписью Исполнительн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проведнию промежуточных обзоров проекта (если они необходимы или предусмотрены планом) и планы по проведению окончательной оцен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онная структура и бюджет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E2C6-7B9E-400D-9215-C97EFFB1C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изация планов по М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и надзор за программой и проектом включает в себя реализацию плана по М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по процессу и реализации проекта /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 результа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ходные данные проекта полностью собраны и данные собираются для оценки прогресс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Организационная структура по МиО работает и средства расходуются по пл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4A46-26AF-49F7-BE09-B33F2EE73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ценка проектов/программ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Все полномасштабные проекты  и программы должны пройти оценку в конц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Оценка должна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ься независимо от руководства проектом или результаты проверяются отделом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ть нормы и стандарты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ить, как минимум, промежуточные результаты, среднесрочные результаты, вероятность устойчивости, а также выполенение минимальных требования 1 и 2 к М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ь основные проектные данные и уроки, извлеченные из оценки (включая ТЗ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предоставлена в Офис по оценке ГЭФ в течении 12 месяцев по окончании проекта / програм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нстпукции по проведению оценки СМП и ЕА будут разрбот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27A2-9701-4E2D-A1E0-4720B062B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090440" y="268200"/>
            <a:ext cx="816948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астие оперативных коориднатор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374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МиО должны указывать, каким образом операционные координаторы будут участвовать в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ционные координаторы должны быть проинформированы о МиО, в том числе о промежуточных обзорах  и заключительных оценках, должны получать проекты отчетов для комментариев и окончательные версии от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тивные коордираторы приглашаются принять участие в формулировке офицальной реакции менеджмента (если это примени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и-исполнители ГЭФ следят за выполнением этого требования по своим проектам и программам финансируемым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31B8-08EB-4551-957A-EEF36DCB3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тслеживать деятельность, поддерживаемую ГЭФ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формировать и проводить консультации с заинтересованными сторона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оводу планов, реализации и результатов деятельности ГЭФ в ст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ю  по МиО, продвигая использование рекомендаций по оценке и извлеченных ур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могать Офису по оценк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частве первого контакта со страно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Определять, кто является основными заинтересованными сторонам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встреч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Помогать в составлении повести дн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 составление официальной реакции страны на эти оценк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134-AA5C-478B-94D9-14566C196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огоотраслевая стратегия развития ГЭФ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ятый компонент: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укрепление потенциала для мониторинга и оценки экологических результатов и тенденций.  Укрепление должно быть определено как приоритет в Плане дейстий по наращиванию потенци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лан по наращиванию потенциала должен быть составлен как среднемасштабный проект, или должен быть включен в более широкое предложение, которое будет составлено как среднемасштабный или полномасштабный проект – если в рамках СМП – финансирование должно осуществляться в пропорции 1: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Развитие региональных партнерств будет принятно во вним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$44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 миллиона зарезервировано на наращивание потенциала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1D9A-4B3C-4FD9-A9CA-3545AB023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D36E-19E7-4844-888A-CFBE3C56F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438200" y="201600"/>
            <a:ext cx="7712280" cy="749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портфеля программ на уровне старны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5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 время ГЭФ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влияни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еждународные воды, изменение климата и другие тематические на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 деятельност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годовой отчет по оценке деятельности, а также независимые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ематические оценк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траслевые стратегии и их адап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1212840" y="109440"/>
            <a:ext cx="7937640" cy="1017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у и оценку результатов и прогресса в направлении достижения долгосрочных результа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роцесса реформ: проектный цикл ГЭФ и методы, прямой доступ,Система прозрачного распределения ресурсов, параграф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внимания к роли ГЭФ в качестве катал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, как страны провлют собственность и иници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 в глобальных экологических проблемах и соотвествие ГЭФ конвен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глубокий взгляд на стратегии основных тематических областей, включая относительно устойчивого управления лесными ресур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шее осмысление долгосрочных результат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6269-53D1-4407-B5AB-AD6354552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ониторинг и оценка (МиО) и управление по результатам (УпР)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литика по МиО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иО: минимальные требова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частие национальных координаторов в МиО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ланирование по оценке для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База данных по оценк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в области изменения климата (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mate-Ev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85F5-7212-47FA-8F6B-5AF4263C4DE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152360" y="109440"/>
            <a:ext cx="8131320" cy="1017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цикла проек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ность принятия решений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:  семинары ГЭФ для стран-член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тся ли они как постоянный консультационный процес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Что будет нужно для такой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Будет ли достаточно электронного опроса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, поднятые в Общем обзоре деятельности ГЭФ4 – управление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752-F2F6-4D03-8647-8DFB10E01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DA47-0F24-47F1-A0C6-47EC65639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084320"/>
          <a:ext cx="7467480" cy="616752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твержденные проекты: активные и заверш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024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иоразнообрази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64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нения клмимат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2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дунарожные вод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9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градация земе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35 MF, 2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имические вещест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6 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ы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6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циональ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рант и ко-финанс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272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37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484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860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ьны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41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обаль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мения, Азербайджан, Беларусь, Казахстан, Респубилка Кыргызстан, Российская Федерация, Таджикистан, Туркменистан, Узбекис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212840" y="146160"/>
            <a:ext cx="7937640" cy="87768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EE77-00F1-4E11-B9B2-98BB4E8D0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50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-19080"/>
            <a:ext cx="7785000" cy="101916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785-9CD2-4E1E-BD94-92C376F76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55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56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CD63-0E66-490A-8964-A2CE28D6C4F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-152280" y="347760"/>
            <a:ext cx="8223120" cy="828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4110-6CDC-4EF1-8320-3230F066F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6CA9-E7E6-4274-B0A9-7C4C4FEA6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ние знаниями в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лучаете ли Вы оценки ГЭФ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Какой формат передачи результатов по оценке наиболее подходит для Вас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863C-7D52-4687-9AD9-9C194CF9F57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Calibri"/>
              </a:rPr>
              <a:t>Спасиб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E1A-8717-4C06-BD93-22C40BA05391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E056-D667-49C8-B277-45F7059D7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 по результата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, обучение и принятие ре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пР реальн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, особенно мониторинг, показывает, находится ли организация на пути к достижению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 движется ли организация верным курс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Две основные цели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отчет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достижении целей ГЭФ, с помощью оценки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результатов, эффективности, процессов и деятель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ртнеров, вовлеченных в деятельность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учению, обратной связи и обмену з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 результатах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извлеченных уроках между ГЭФ и партнерами в качестве основы для принятия решений по мерам политики, стратегиям, управлению программами и проектами; а также для пополн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нан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улучш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7272-3F2D-4F06-9E7D-D9DC3CFECA6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365120" y="171360"/>
            <a:ext cx="7785360" cy="120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минание  управления по результатам (УпР) в ГЭ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ольше внимания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обмену зн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бучен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очнение ролей и обязаннос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роли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ациональных координаторов  ГЭФ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и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программ и совместно реализуемых проект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ходные данные для Ми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аются подписью Исполнительного Дирек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овое минимальное требование: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 в МиО проектов и програ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2B6F-17FD-4A26-9616-3544B5019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304920" y="1447920"/>
            <a:ext cx="8000640" cy="4418640"/>
            <a:chOff x="304920" y="1447920"/>
            <a:chExt cx="800064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067040" y="4265280"/>
              <a:ext cx="16383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ерацион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низу вверх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304920" y="1779120"/>
              <a:ext cx="24764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ституциональ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9000" y="1447920"/>
              <a:ext cx="4876560" cy="4418640"/>
              <a:chOff x="342900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900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620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105160" y="2896560"/>
                <a:ext cx="149436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Цели в конкрет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4877640" y="1559160"/>
                <a:ext cx="182844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3024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800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конкретны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44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52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40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лияние ГЭ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межут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раткоср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304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304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724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724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0317-7A5A-429F-B6B9-F82F2DF26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90720" y="145584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аботка проекта 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736800" y="1455840"/>
            <a:ext cx="24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256440" y="1455840"/>
            <a:ext cx="24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3659040" y="1606680"/>
            <a:ext cx="608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5996160" y="1606680"/>
            <a:ext cx="60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79600" y="2084400"/>
            <a:ext cx="191592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истема результа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лан МИ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782800" y="3502080"/>
            <a:ext cx="3994200" cy="1415880"/>
          </a:xfrm>
          <a:prstGeom prst="rightArrow">
            <a:avLst>
              <a:gd name="adj1" fmla="val 50000"/>
              <a:gd name="adj2" fmla="val 1278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040200" y="3973680"/>
            <a:ext cx="27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, мониторинг и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824280" y="2084400"/>
            <a:ext cx="217188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ониторинг прогресс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 необходимости, в середине процесса вносятся корректив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429240" y="2084400"/>
            <a:ext cx="21718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кончательная оце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военные уро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AutoShape 15"/>
          <p:cNvCxnSpPr>
            <a:endCxn id="182" idx="2"/>
          </p:cNvCxnSpPr>
          <p:nvPr/>
        </p:nvCxnSpPr>
        <p:spPr>
          <a:xfrm rot="10800000">
            <a:off x="2436120" y="2523240"/>
            <a:ext cx="5259960" cy="29631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 Box 16"/>
          <p:cNvSpPr/>
          <p:nvPr/>
        </p:nvSpPr>
        <p:spPr>
          <a:xfrm>
            <a:off x="4335480" y="499896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военные уроки, оптимальная 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231640" y="5562720"/>
            <a:ext cx="561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EDF2-BB4F-43F1-9C3F-E8A96B56D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0"/>
          <p:cNvSpPr/>
          <p:nvPr/>
        </p:nvSpPr>
        <p:spPr>
          <a:xfrm flipV="1">
            <a:off x="7696080" y="27432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О способствует накомле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Выводы и извлеченные уроки должны быть доступны целевым аудиториям в доходчивом и поня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четы по оценке должны диманично распространя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получать пользу от уроков, извлеченных на практ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одвижение культуры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именение усвоенных ур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братная связь о нов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7148-DB44-4D9C-A726-C9D618D5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1079640" y="268200"/>
            <a:ext cx="8192880" cy="1494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CF58-02FC-405D-B12E-19C9E2EE4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8864640" cy="407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55:50Z</dcterms:modified>
  <cp:revision>252</cp:revision>
  <dc:subject/>
  <dc:title>Slide 1</dc:title>
</cp:coreProperties>
</file>