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698-3135-4710-B13A-ACDAED89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706-5050-4AE8-A26E-3A03649D1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CA7-B316-4DB2-85CB-8D3714EC6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E0C1-66E1-4D30-BFA2-D6403B3E2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F6CB-04A6-4301-9BFA-4B5046798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172-676E-4B03-AC03-70192812A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B89F-8C6F-40A6-9D0D-5A8C3F9DF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E65A-1D95-4D3C-A878-1C4652B22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600-9DEC-4A34-A6E9-2FF98AA68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B0D-BB6D-450F-9491-8CECDF895F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123B-76CD-41EF-A72D-62C534280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958C-CB17-4B66-9671-D91DEE09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6A1-B690-4DCE-9742-0A848419F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1DC7-71EC-4E07-9FE7-6883B5B8E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8E71-DA99-49CB-AF84-D0D19EDAB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racking results at the program, focal area, overall GEF portfolio level. Annual Monitoring Report presents a synthesis of this information to the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BC9D-971D-4887-84FE-9B8545D70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FF9-FE37-4944-AD67-FFDF6B3BB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B09-6A7A-432B-92F9-B3D6C511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9FE-B395-4302-9685-84F60F3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547-A818-4468-8903-970B36B2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A83-33A4-48A5-8072-836EDBDE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E1A-B687-42CC-9F85-BBC97AA9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4208-A7D5-4A6D-A2AC-48E437E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01C3-CB04-45A9-9A7D-D2A7DCD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C5F-9784-4B65-936B-09384A4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D010-5217-4585-97A0-2039F87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27A9-4056-41C2-92BB-EB967C6E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BE3-7098-41E0-8D9B-30B31AE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A78-3447-4A93-A666-AAD4728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DCA0-5FED-43CA-AEE6-A0E958AE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277B-4772-438A-852C-84579E1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7D42-56E7-4D4D-BFB1-E8A7A276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94D7-EE45-4E1F-B299-E2B26CDE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5E39-3A04-4611-BA3A-353EE00E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115CB-DA7E-4190-AEB3-88BA2EE455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490B5-6BCC-4DE2-BD5A-325A823432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A8402-483A-4DEE-9D65-2820BECC35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2F197-5F00-4C9E-97E6-45D2F898E5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BBAAD-9676-4B71-A72C-40A21CE15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E80-CA2A-4949-9313-B2BBB6EB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C7152-EB10-4E02-9817-29F1F8E235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F9D9A-6EF2-4572-B126-3DE0BE9CDA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CBCCE-2B35-4B14-8897-322B958B5F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28A93-0A6C-4289-ADD0-0C1C2C7889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5CE25-702B-485D-AD95-7FCF526B2E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ADD33-BB62-4B0E-8BD8-EA84246071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C8BDB-A9E4-428E-A273-2D83BBA85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CA8-A68D-471E-9B8A-D4BAB671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7DA-62FC-4CCA-A86C-3D6C21C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030-0C0C-4CD8-88C2-204649D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29A-BE08-4008-8A76-39EB70B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2D1-E5D6-41D2-976B-4BDC27A3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6FA-4690-4C13-905D-A383880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E39F-F6A0-4CB1-9553-FD91AA763A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2DE-A876-4F66-AFC4-0B005C644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2DB5-E329-4664-835E-72F20D17B5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7DD-238A-4F85-AF22-16A0E99AD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2B3B-8A0D-4E6C-AF3C-CAD566F2D8A1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17524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76b4c"/>
                </a:solidFill>
                <a:latin typeface="Calibri"/>
              </a:rPr>
              <a:t>МиО в ГЭФ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сения Темн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фис  оценк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минар ГЭФ для стран-чл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438120" y="1859040"/>
            <a:ext cx="7956720" cy="50115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ECD-1B65-4D93-9CB0-F3C01B6A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375080" y="1146600"/>
            <a:ext cx="4821480" cy="5767200"/>
            <a:chOff x="4375080" y="1146600"/>
            <a:chExt cx="4821480" cy="5767200"/>
          </a:xfrm>
        </p:grpSpPr>
        <p:sp>
          <p:nvSpPr>
            <p:cNvPr id="203" name="Rectangle 5"/>
            <p:cNvSpPr/>
            <p:nvPr/>
          </p:nvSpPr>
          <p:spPr>
            <a:xfrm rot="19314600">
              <a:off x="4723920" y="1371240"/>
              <a:ext cx="1270800" cy="1570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тдел по оценке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9361400">
              <a:off x="5694480" y="2606400"/>
              <a:ext cx="1257120" cy="1643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тдел по оценке ГЭФ, партнеры по оцен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9306800">
              <a:off x="6686640" y="3900960"/>
              <a:ext cx="1214280" cy="1523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Секретариат ГЭФ, агентства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19392600">
              <a:off x="7605000" y="5041800"/>
              <a:ext cx="1209960" cy="1676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Страны-партнеры, НГО, частный сектор, сообше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Flowchart: Decision 10"/>
          <p:cNvSpPr/>
          <p:nvPr/>
        </p:nvSpPr>
        <p:spPr>
          <a:xfrm>
            <a:off x="1600200" y="1066680"/>
            <a:ext cx="1981080" cy="12193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880" y="990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Благоприятные 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9907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3124080" y="914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Политика М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7772400" y="2895480"/>
            <a:ext cx="106668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6781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циальная рекация менеджмента требуется на все отчеты, представленные Офисом по оценке ГЭФ перед Советом ГЭ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принятии решений Совет ГЭФ принимает во внимание и оценку и официальную реакцию менеджм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с по оценке ГЭФ ежегодно отчитывается о выполении решений по итогам оценки (Отчет о мерах, принятых менеджмент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лучае оценок портфелей проектов на уровне страны, страны имеют возможность представить свое мнение Сове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E9A-D30C-4AC7-B1B7-8A2490247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ка планов по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ый план по МиО полностью обеспеченный бюджетом за подписью Исполнительного Директора (в случае ПМП) и утвержденный Исполнительным Директором (в случае СМП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ические рамки проектов должны быть в согласовании с результатами ГЭФ в тематических областях.   Планы по МиО должны включа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ндикаторы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сходные данные по МиО за подписью Исполнительн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проведнию промежуточных обзоров проекта (если они необходимы или предусмотрены планом) и планы по проведению окончательной оцен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онная структура и бюджет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21A-94E2-4214-9B1D-22127909D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изация планов по М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и надзор за программой и проектом включает в себя реализацию плана по М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по процессу и реализации проекта /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 результа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ходные данные проекта полностью собраны и данные собираются для оценки прогресс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рганизационная структура по МиО работает и средства расходуются по пл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90BE-74E0-46AB-838C-3DA9CF2A9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ценка проектов/программ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Все полномасштабные проекты  и программы должны пройти оценку в конц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Оценка должна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ься независимо от руководства проектом или результаты проверяются отделом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ть нормы и стандарты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ить, как минимум, промежуточные результаты, среднесрочные результаты, вероятность устойчивости, а также выполенение минимальных требования 1 и 2 к М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ь основные проектные данные и уроки, извлеченные из оценки (включая ТЗ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предоставлена в Офис по оценке ГЭФ в течении 12 месяцев по окончании проекта / програм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стпукции по проведению оценки СМП и ЕА будут разрбот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E32-9273-4006-8E0D-80CA6045F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090440" y="268200"/>
            <a:ext cx="816948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астие оперативных коориднатор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374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МиО должны указывать, каким образом операционные координаторы будут участвовать в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ционные координаторы должны быть проинформированы о МиО, в том числе о промежуточных обзорах  и заключительных оценках, должны получать проекты отчетов для комментариев и окончательные версии от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тивные коордираторы приглашаются принять участие в формулировке офицальной реакции менеджмента (если это примени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и-исполнители ГЭФ следят за выполнением этого требования по своим проектам и программам финансируемым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19C-9CBF-4489-AEDF-DCA28C30E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тслеживать деятельность, поддерживаемую ГЭФ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формировать и проводить консультации с заинтересованными сторона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оводу планов, реализации и результатов деятельности ГЭФ в ст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ю  по МиО, продвигая использование рекомендаций по оценке и извлеченных ур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могать Офису по оценк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астве первого контакта со страно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Определять, кто является основными заинтересованными сторонам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встреч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Помогать в составлении повести дн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 составление официальной реакции страны на эти оценк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7F8-B650-4BB9-B212-7CC00A47F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оотраслевая стратегия развития ГЭФ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ятый компонент: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укрепление потенциала для мониторинга и оценки экологических результатов и тенденций.  Укрепление должно быть определено как приоритет в Плане дейстий по наращиванию потенц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лан по наращиванию потенциала должен быть составлен как среднемасштабный проект, или должен быть включен в более широкое предложение, которое будет составлено как среднемасштабный или полномасштабный проект – если в рамках СМП – финансирование должно осуществляться в пропорции 1: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Развитие региональных партнерств будет принятно во вним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$44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 миллиона зарезервировано на наращивание потенциала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5EF-38D4-4599-9AF3-7013A1E58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34F-AA79-468D-B3AE-A702DAB9E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438200" y="201600"/>
            <a:ext cx="7712280" cy="749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портфеля программ на уровне старны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5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 время ГЭФ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влияни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ждународные воды, изменение климата и другие тематические на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 деятельност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годовой отчет по оценке деятельности, а также независимые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ематические оценк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раслевые стратегии и их адап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212840" y="1094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у и оценку результатов и прогресса в направлении достижения долгосрочных результа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роцесса реформ: проектный цикл ГЭФ и методы, прямой доступ,Система прозрачного распределения ресурсов, параграф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внимания к роли ГЭФ в качестве катал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, как страны провлют собственность и иници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 в глобальных экологических проблемах и соотвествие ГЭФ конвен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глубокий взгляд на стратегии основных тематических областей, включая относительно устойчивого управления лесными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е осмысление долгосрочных результат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414F-E8DF-40A4-9B4E-34A2F2262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ониторинг и оценка (МиО) и управление по результатам (УпР)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литика по МиО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иО: минимальные требова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частие национальных координаторов в МиО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ланирование по оценке для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База данных по оценк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в области изменения климата (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mate-Ev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C81-EE6D-44C3-A691-19A3B28AA97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152360" y="109440"/>
            <a:ext cx="8131320" cy="1017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цикла про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ность принятия решений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:  семинары ГЭФ для стран-член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тся ли они как постоянный консультационный процес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Что будет нужно для такой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Будет ли достаточно электронного опроса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, поднятые в Общем обзоре деятельности ГЭФ4 – управление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13CF-4922-4C4D-B2ED-4C1A97F3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B4CC-5FBC-492E-A9BF-2A22AB4CD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084320"/>
          <a:ext cx="7467480" cy="616752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твержденные проекты: активные и заверш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024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разнообрази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64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нения клмимат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2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жные во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9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градация земе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35 MF, 2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имические вещест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6 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ы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6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циональ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рант и ко-финанс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272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3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484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860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ьны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41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обаль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мения, Азербайджан, Беларусь, Казахстан, Респубилка Кыргызстан, Российская Федерация, Таджикистан, Туркменистан, Узбекис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212840" y="146160"/>
            <a:ext cx="7937640" cy="87768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B421-DF86-4D0C-A4FE-2DD2431A9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50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-19080"/>
            <a:ext cx="7785000" cy="10191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40B-364F-48ED-8493-1D7C766A8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55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56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500-95BB-4D96-AF3B-8B01BBE23F0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-152280" y="347760"/>
            <a:ext cx="8223120" cy="828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CF5E-B4A6-4837-BA5D-4A9F365CB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2A74-90F5-4BB9-9BD9-827826021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ние знаниями в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учаете ли Вы оценки ГЭФ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кой формат передачи результатов по оценке наиболее подходит для Вас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721-12E5-46CF-8962-A6F80A43C6C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Calibri"/>
              </a:rPr>
              <a:t>Спасиб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6DB-8060-4A98-9CB6-62867BC447B8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25A1-CEB6-4F18-A6B7-F5DB502DD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 по результата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, обучение и принятие ре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пР реальн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, особенно мониторинг, показывает, находится ли организация на пути к достижению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 движется ли организация верным курс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Две основные цели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тчет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достижении целей ГЭФ, с помощью оценки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результатов, эффективности, процессов и деятель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ртнеров, вовлеченных в деятельность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учению, обратной связи и обмену з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 результатах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извлеченных уроках между ГЭФ и партнерами в качестве основы для принятия решений по мерам политики, стратегиям, управлению программами и проектами; а также для пополн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нан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улучш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3D3-3B91-45DC-9285-90290ABCAAB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365120" y="171360"/>
            <a:ext cx="7785360" cy="120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минание  управления по результатам (УпР) в ГЭ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ольше внимания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обмену зн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буче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очнение ролей и обязанно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роли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ациональных координаторов  ГЭФ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и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программ и совместно реализуемых проект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ходные данные для Ми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аются подписью Исполнительного Дирек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овое минимальное требование: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 в МиО проектов и програ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051-127E-4A7A-8016-1F1778585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304920" y="1447920"/>
            <a:ext cx="8000640" cy="4418640"/>
            <a:chOff x="304920" y="1447920"/>
            <a:chExt cx="800064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067040" y="4265280"/>
              <a:ext cx="1638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ерацион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низу вверх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304920" y="1779120"/>
              <a:ext cx="24764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ституциональ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9000" y="1447920"/>
              <a:ext cx="4876560" cy="4418640"/>
              <a:chOff x="342900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900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620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105160" y="2896560"/>
                <a:ext cx="149436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Цели в конкрет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4877640" y="1559160"/>
                <a:ext cx="18284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3024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800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конкретны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44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52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40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лияние ГЭ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межут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раткоср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304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304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724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724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3404-81FD-44A5-A218-E3F35EAA5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90720" y="145584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аботка проекта 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736800" y="1455840"/>
            <a:ext cx="24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256440" y="1455840"/>
            <a:ext cx="24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659040" y="160668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996160" y="1606680"/>
            <a:ext cx="60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79600" y="2084400"/>
            <a:ext cx="19159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истема результа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лан МИ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782800" y="3502080"/>
            <a:ext cx="3994200" cy="1415880"/>
          </a:xfrm>
          <a:prstGeom prst="rightArrow">
            <a:avLst>
              <a:gd name="adj1" fmla="val 50000"/>
              <a:gd name="adj2" fmla="val 1278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040200" y="3973680"/>
            <a:ext cx="27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, мониторинг и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824280" y="2084400"/>
            <a:ext cx="217188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ониторинг прогресс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необходимости, в середине процесса вносятся корректив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29240" y="2084400"/>
            <a:ext cx="21718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кончательная оце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военные уро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AutoShape 15"/>
          <p:cNvCxnSpPr>
            <a:endCxn id="182" idx="2"/>
          </p:cNvCxnSpPr>
          <p:nvPr/>
        </p:nvCxnSpPr>
        <p:spPr>
          <a:xfrm rot="10800000">
            <a:off x="2436120" y="2523240"/>
            <a:ext cx="5259960" cy="29631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16"/>
          <p:cNvSpPr/>
          <p:nvPr/>
        </p:nvSpPr>
        <p:spPr>
          <a:xfrm>
            <a:off x="4335480" y="499896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военные уроки, оптимальная 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231640" y="5562720"/>
            <a:ext cx="561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26B3-91E7-46B6-A5EB-4D34B8BEC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0"/>
          <p:cNvSpPr/>
          <p:nvPr/>
        </p:nvSpPr>
        <p:spPr>
          <a:xfrm flipV="1">
            <a:off x="7696080" y="27432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О способствует накомле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ыводы и извлеченные уроки должны быть доступны целевым аудиториям в доходчивом и поня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четы по оценке должны диманично распространя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получать пользу от уроков, извлеченных на прак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одвижение культуры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именение усвоенных ур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братная связь о нов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CE1F-829C-4D6B-9735-F52C4715E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1079640" y="268200"/>
            <a:ext cx="8192880" cy="1494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61C9-6AF0-4292-BA60-9FB0608C3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886464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55:50Z</dcterms:modified>
  <cp:revision>252</cp:revision>
  <dc:subject/>
  <dc:title>Slide 1</dc:title>
</cp:coreProperties>
</file>