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E6B-44B1-4C6D-9F53-2D22CD7D1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C874-9E11-4ABC-B397-05FE00306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6641-11A0-4C87-B09B-C7DF9F5FF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618-7FF4-4AFD-8130-A7E4EA8E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04F-9C16-464F-9A67-11634386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923-254F-41E1-9B32-50BF681D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143-57C1-41B8-93B0-09751ECC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2FE-92E6-44E0-914E-4A6EDC42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005-AA22-42D3-8ADE-F336DE67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C48-5381-4F58-8BC8-FB1A2B93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BA3-3C82-46D9-81B1-9E7B73AD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C57-DC76-4DE2-B84E-92F4A1A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DF2-0218-4FF9-8CE6-9E7B8AA5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084-0746-4E75-B43D-01AD5FCB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53F-8AE1-4DF6-BB3E-D2DD4FB5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C64B-9CAD-4922-B4F2-2E6C1457A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6576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focus on production 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- agriculture rangelands, and forest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029200" y="525780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295280"/>
            <a:ext cx="61722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15242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30492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8086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56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tional Socio-economic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11-01T20:37:47Z</dcterms:modified>
  <cp:revision>46</cp:revision>
  <dc:subject/>
  <dc:title>Focal Area and Cross Cutting Strategies – Land Degradation</dc:title>
</cp:coreProperties>
</file>