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CE58-B076-4BD6-836F-B1A0F3131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0DCB-0059-4621-A188-98BD42232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6CD6-F2C7-414D-8950-10B5752F4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958-50E2-47A8-8783-633CE413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BBC-D9E4-4290-B79F-C8FBB385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8B0-E1B6-41BE-8BDE-B843F0A8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E2F-09A0-485C-BF41-7DAFA6C3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C41-E679-4B8C-990B-BF8E1CF8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0B0-C245-4DB7-A827-4F2B8B1C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B99-1D27-4F36-8B9D-A00CE906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54B-039E-44E7-96DF-1EA620DF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656-B243-4776-95AC-3CAA5796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56D-6DAE-4173-85CB-53F6423F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C4B-50F0-49E5-A087-B96524E0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64E-EC35-4017-806F-0F78DB66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7912-89BF-4894-A99E-653F358CA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Land Degra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143000" y="36576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Questions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Land Degradation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Focal Area Strategy</a:t>
            </a:r>
            <a:br>
              <a:rPr sz="5400"/>
            </a:b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(Combating Desertification and Defor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0020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and LD portfolio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4 eligible countries through inclusion of LD into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three ma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ivers of ecosystem degrad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us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-sustainable natural resources management and consumption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mate chang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abling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rt to UNCC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mplementation of 10-year strateg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focus on production syste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- agriculture rangelands, and forest landsca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F-5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5238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jective 1: Maintain or improve flows of agro-ecosystem services to sustain livelihoods of local comm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enabling environment within the agricultur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agriculture management and sustainable flow of services in agro-eco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investments in S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029200" y="5257800"/>
            <a:ext cx="4114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2280" y="1295280"/>
            <a:ext cx="61722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2: Generate sustainable flows of forest ecosystem services in arid, semi-arid and sub-humid zones, including sustaining livelihoods of forest-dependen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enabling environment within the forest sector in drylands domina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d forest management and sustained flows of forest ecosystem services in dryla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SFM in dryland forest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400800" y="210996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12193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ve 3: Reduce pressures on natural resources from competing land uses in the wider landsc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cross-sector enabling environment for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ed landscape management practices adopted by local commun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7010280" y="1752480"/>
            <a:ext cx="152424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304920" y="114300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4: Increase capacity to apply adaptive management tools in S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s-monitoring of UNCCD ac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streaming synergies and best practices for Natural Resour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guidelines and tools for assessing ecosystem stability, resilience and maintenance of regula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80866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56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ed provision of agro-ecosystem and forest ecosystem goods and serv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GHG emissions from agriculture, deforestation and forest degradation and increased carbon seque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vulnerability of agro-ecosystem and forest ecosystems to climate change and other human-induced impa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731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ational Socio-economic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stained livelihoods for people dependent on the use and management of natural resources (land, water, and biodiversit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duced vulnerability to impacts of CC of people dependent on the use and management of natural resources in agricultural and forest ecosys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6324480" y="421020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illen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Developm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6"/>
          <p:cNvSpPr/>
          <p:nvPr/>
        </p:nvSpPr>
        <p:spPr>
          <a:xfrm>
            <a:off x="541008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324480" y="1523880"/>
            <a:ext cx="2316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wb350798</cp:lastModifiedBy>
  <dcterms:modified xsi:type="dcterms:W3CDTF">2011-11-01T20:37:47Z</dcterms:modified>
  <cp:revision>46</cp:revision>
  <dc:subject/>
  <dc:title>Focal Area and Cross Cutting Strategies – Land Degradation</dc:title>
</cp:coreProperties>
</file>