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D9F-FEF9-4460-B9EC-BF8440DF9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609-09C7-4A3D-BFD5-7A0B0A010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BB7F-B09F-44F5-AAE2-3F2728CF6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889-ECF2-4ECE-A785-2A7342F3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535-B4AA-4DEF-9C9D-25FDF8B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46D-F532-43AB-9C1F-BE629775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205-B7CD-4E89-B2DC-59F55BD9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1A1-9600-411F-B9F9-AE7D8BCF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7F7-BC5F-431D-8DF3-20522949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58F-AC02-4A2F-97B5-393B9F2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2C0-5B78-4B16-9510-F8E84AC0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700-C263-40AC-95CE-51CB99F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781-64FA-40E6-B1B5-265BA0B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BA5-C1F5-478E-86C1-CEC9497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A94-B239-4E7B-BFF5-A6CB060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B881-867A-476C-928E-917A85295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17T16:20:34Z</dcterms:modified>
  <cp:revision>49</cp:revision>
  <dc:subject/>
  <dc:title>Focal Area and Cross Cutting Strategies – Land Degradation</dc:title>
</cp:coreProperties>
</file>