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D3FB-058E-4C96-BD66-A3BA04F1AB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F9E5-9F0F-4258-9FCB-DD5681F7BA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6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9EF9-3E8E-439B-819A-3C5DC9A009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1B42-AB6B-45A8-94DB-1B6C38611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8E49-41F1-439B-96F3-AD3F953C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44EF-4B85-49EF-BBDC-6295C9368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65F6-F52A-4605-968E-4AF7C645D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BF25-68AA-4D07-9B44-F6F59235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67A2-B201-470E-8822-1B8AF414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16F8-8576-4AF9-AAEE-E37EF45D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0577-5F1F-455C-BB3B-EE0A7A0D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F3FA-9686-4BB3-9BE2-245BCBC9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7C35-25DA-4B8D-B34F-C85ED7E5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6895-486D-43D5-A6ED-8843D489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5816-70D3-40ED-BB75-E372EAFA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86E2-5937-4780-8B07-387149B8A0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Focal Area and Cross Cutting Strategies – Land Degrad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50" name="Subtitle 4"/>
          <p:cNvSpPr/>
          <p:nvPr/>
        </p:nvSpPr>
        <p:spPr>
          <a:xfrm>
            <a:off x="1143000" y="3657600"/>
            <a:ext cx="6705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25 – 27 October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Nairobi, Keny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Questions?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58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Land Degradation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Focal Area Strategy</a:t>
            </a:r>
            <a:br>
              <a:rPr sz="5400"/>
            </a:b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(Combating Desertification and Deforest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600200" y="1066320"/>
            <a:ext cx="7315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pand LD portfolio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44 eligible countries through inclusion of LD into ST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ress three mai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rivers of ecosystem degrad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nd use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-sustainable natural resources management and consumption, 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mate chang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 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abling frame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pport to UNCC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implementation of 10-year strateg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 focus on production system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- agriculture rangelands, and forest landsca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EF-5 Prior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0" y="1600200"/>
            <a:ext cx="1676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and Degradation Objectiv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920" y="1523880"/>
            <a:ext cx="8534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bjective 1: Maintain or improve flows of agro-ecosystem services to sustain livelihoods of local communit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d enabling environment within the agricultural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d agriculture management and sustainable flow of services in agro-eco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d investments in SL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71440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5029200" y="5257800"/>
            <a:ext cx="4114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and Degradation Objectiv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152280" y="1295280"/>
            <a:ext cx="617220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ive 2: Generate sustainable flows of forest ecosystem services in arid, semi-arid and sub-humid zones, including sustaining livelihoods of forest-dependent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hanced enabling environment within the forest sector in drylands dominated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d forest management and sustained flows of forest ecosystem services in drylan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d investments in SFM in dryland forest eco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ts val="1397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6400800" y="2109960"/>
            <a:ext cx="242568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and Degradation Objectiv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4920" y="1219320"/>
            <a:ext cx="6705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bjective 3: Reduce pressures on natural resources from competing land uses in the wider landsca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hanced cross-sector enabling environment for integrated landscap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grated landscape management practices adopted by local communit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d investments in integrated landscap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7010280" y="1752480"/>
            <a:ext cx="1524240" cy="33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and Degradation Objective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ontent Placeholder 2"/>
          <p:cNvSpPr/>
          <p:nvPr/>
        </p:nvSpPr>
        <p:spPr>
          <a:xfrm>
            <a:off x="304920" y="1143000"/>
            <a:ext cx="8458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ive 4: Increase capacity to apply adaptive management tools in S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s-monitoring of UNCCD action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streaming synergies and best practices for Natural Resourc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of guidelines and tools for assessing ecosystem stability, resilience and maintenance of regulating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533520" y="4038480"/>
            <a:ext cx="808668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bal Environmental Benef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04560" y="11430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mproved provision of agro-ecosystem and forest ecosystem goods and servi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duced GHG emissions from agriculture, deforestation and forest degradation and increased carbon sequestr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duced vulnerability of agro-ecosystem and forest ecosystems to climate change and other human-induced impac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914400" y="4572000"/>
            <a:ext cx="731520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ational Socio-economic Benef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676160"/>
            <a:ext cx="4794120" cy="3809880"/>
          </a:xfrm>
          <a:prstGeom prst="rect">
            <a:avLst/>
          </a:prstGeom>
          <a:noFill/>
          <a:ln w="66600">
            <a:solidFill>
              <a:srgbClr val="77933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ustained livelihoods for people dependent on the use and management of natural resources (land, water, and biodiversity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duced vulnerability to impacts of CC of people dependent on the use and management of natural resources in agricultural and forest ecosyste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6324480" y="4210200"/>
            <a:ext cx="2438640" cy="11912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Millenn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Development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81" name="Right Arrow 6"/>
          <p:cNvSpPr/>
          <p:nvPr/>
        </p:nvSpPr>
        <p:spPr>
          <a:xfrm>
            <a:off x="5410080" y="4648320"/>
            <a:ext cx="762120" cy="76176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6324480" y="1523880"/>
            <a:ext cx="2316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3:57Z</dcterms:created>
  <dc:creator>wb350798</dc:creator>
  <dc:description/>
  <dc:language>en-US</dc:language>
  <cp:lastModifiedBy>wb350798</cp:lastModifiedBy>
  <dcterms:modified xsi:type="dcterms:W3CDTF">2011-11-17T16:20:34Z</dcterms:modified>
  <cp:revision>49</cp:revision>
  <dc:subject/>
  <dc:title>Focal Area and Cross Cutting Strategies – Land Degradation</dc:title>
</cp:coreProperties>
</file>