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CB58-DBD1-46EC-BFDD-F06D1E876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14C6-F00E-4F26-B1DC-F58A44CC48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DCEE-73CD-4143-8C61-1EF447FC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B141-A0F6-422A-9284-833886E9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2929-A2D4-4551-8A40-026AE91E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8356-C311-4DF1-B85C-9B6B3B04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3172-640B-47A6-B31F-FB62C3DC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A74E-B116-4D88-AC73-DB0FA9FE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3CAE-9141-426D-893D-3AC82341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7CA6-7B38-4A1E-9930-E18EAB62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F6CC-3A27-4B9F-8B77-C53C310E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3AB1-F2D3-4D60-B907-CFE1C5D1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FB8-67CB-434F-8CB4-2E3A19D0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B95-4B6D-420B-9568-66184115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FB84-9B26-435F-9DF7-D6C461715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Land Degrad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762120" y="3809880"/>
            <a:ext cx="7467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July 6 – 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Dakar, Sen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Questions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Land Degradation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Focal Area Strategy</a:t>
            </a:r>
            <a:br>
              <a:rPr sz="5400"/>
            </a:b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(Combating Desertification and Defores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600200" y="13716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and LD portfolio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ll 144 eligible countries through inclusion of LD into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 three ma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ivers of ecosystem degrad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nd use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-sustainable natural resources management and consumption,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mate chang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abling fram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pport to UNCC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mplementation of 10-year strateg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 rol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griculture and forest management in production landsca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F-5 Pri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1600200"/>
            <a:ext cx="1676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d Degradation Objectiv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137124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jective 1: Maintain or improve flows of agro-ecosystem services to sustain livelihoods of local communitie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nhanced enabling environment within the agricultural sect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pacity development to improve decision mak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licy develop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mproved agriculture management and sustainable flow of services in agro-ecosys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roving community-based agricultural management including participatory decision making &amp; gender-related issu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roduction of SL/WM practi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uilding of technical and institutional capacities to monitor and reduce GHG emissions from agricultural activiti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roving management of impacts of climate chan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mproving rangeland management and sustainable pastoralis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creased investments in SL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ecuring innovative financing mechanism based on valuation of environmental services (e.g. PES and other market-based mechanism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5029200" y="5257800"/>
            <a:ext cx="4114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d Degradation Objectiv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52280" y="1295280"/>
            <a:ext cx="617220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jective 2: Generate sustainable flows of forest ecosystem services in arid, semi-arid and sub-humid zones, including sustaining livelihoods of forest-dependen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nhanced enabling environment within the forest sector in drylands dominated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pacity development: Forest policy and related legal and regulatory frame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mproved forest management and sustained flows of forest ecosystem services in drylan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stainable management practices of forests and trees outside forests for timber and non-timber produ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orestation and use of local species, including agro-fore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anagement of impacts of climate change on forest lands, practices and choice of species used for reforest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creased investments in SFM in dryland forest eco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echanisms to scale up and out good practices through e.g. private sector, community-based organizations, extension services, and med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versify the financial resource base (PES, carbon-financ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6400800" y="2109960"/>
            <a:ext cx="242568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d Degradation Objectiv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560" y="1219320"/>
            <a:ext cx="6172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jective 3: Reduce pressures on natural resources from competing land uses in the wider landsca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nhanced cross-sector enabling environment for integrated landscape manag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60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pacity development to improve decision-making in management of production landscap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60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licy developme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60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tegrated landscape management practices adopted by local communiti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60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mproving management of agricultural activities within the vicinity of protected area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60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grated watershed management, including transboundary areas where SLM interventions can improve hydrological functions and services for agro-ecosystem productivity (crop and livestock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60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creased investments in integrated landscape manag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60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ing innovative financing mechanisms such as Paying for ecosystems Servic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6629400" y="1752480"/>
            <a:ext cx="152388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d Degradation Objectiv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304920" y="1447920"/>
            <a:ext cx="8458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jective 4: Increase capacity to apply adaptive management tools in S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ults-monitoring of UNCCD actio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streaming synergies and best practices for Natural Resourc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of guidelines and tools for assessing ecosystem stability, resilience and maintenance of regulating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533520" y="3733920"/>
            <a:ext cx="80866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lobal Environmental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1440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mproved provision of agro-ecosystem and forest ecosystem goods and servi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duced GHG emissions from agriculture, deforestation and forest degradation and increased carbon sequestr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duced vulnerability of agro-ecosystem and forest ecosystems to climate change and other human-induced impac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914400" y="4237200"/>
            <a:ext cx="73152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ational Socio-economic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76160"/>
            <a:ext cx="4794120" cy="3809880"/>
          </a:xfrm>
          <a:prstGeom prst="rect">
            <a:avLst/>
          </a:prstGeom>
          <a:noFill/>
          <a:ln w="66600">
            <a:solidFill>
              <a:srgbClr val="77933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stained livelihoods for people dependent on the use and management of natural resources (land, water, and biodiversity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duced vulnerability to impacts of CC of people dependent on the use and management of natural resources in agricultural and forest ecosyste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6324480" y="4210200"/>
            <a:ext cx="2438640" cy="1191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Millen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Development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81" name="Right Arrow 6"/>
          <p:cNvSpPr/>
          <p:nvPr/>
        </p:nvSpPr>
        <p:spPr>
          <a:xfrm>
            <a:off x="5410080" y="4648320"/>
            <a:ext cx="762120" cy="7617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6324480" y="1523880"/>
            <a:ext cx="2316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3:57Z</dcterms:created>
  <dc:creator>wb350798</dc:creator>
  <dc:description/>
  <dc:language>en-US</dc:language>
  <cp:lastModifiedBy>wb350798</cp:lastModifiedBy>
  <dcterms:modified xsi:type="dcterms:W3CDTF">2011-08-12T15:28:31Z</dcterms:modified>
  <cp:revision>39</cp:revision>
  <dc:subject/>
  <dc:title>Focal Area and Cross Cutting Strategies – Land Degradation</dc:title>
</cp:coreProperties>
</file>