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E42-F1E3-489B-9F22-A41AE7D4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2F4-6610-4228-ACDE-FFBC4B7FF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88B-89BB-44BB-B3C3-9F3E7341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EED-A1D1-45A5-B541-125EAF8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B0F-3629-4A74-A8C2-E20A7055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BA8-F291-4CE3-AB99-14D1E01D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ADF-6F3D-41D2-8241-B479CC11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637-9E97-4B84-A3EF-02C24C2D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026-8861-437F-9C83-4183420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966-801B-430B-950B-F6FF10C2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53A-3080-4BC7-87A2-D8A45912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732-F235-4166-99BD-1757220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DE6-985C-4B9B-8CC4-89A68594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B34-EB59-4722-AF8A-23FB4AA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0E92-7335-417A-994D-89598686A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July 6 – 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Dakar, Sen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ll 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rol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riculture and forest management in production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37124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development to improve decision ma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 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roving community-based agricultural management including participatory decision making &amp; gender-related iss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roduction of SL/WM pract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of technical and institutional capacities to monitor and reduce GHG emissions from agricultural activ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roving management of impacts of climate chan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mproving rangeland management and sustainable pastorali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curing innovative financing mechanism based on valuation of environmental services (e.g. PES and other market-based mechanism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acity development: Forest policy and related legal and regulatory frame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stainable management practices of forests and trees outside forests for timber and non-timber produ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orestation and use of local species, including agro-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anagement of impacts of climate change on forest lands, practices and choice of species used for refores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chanisms to scale up and out good practices through e.g. private sector, community-based organizations, extension services, and m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ersify the financial resource base (PES, carbon-financ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21932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acity development to improve decision-making in management of production landscap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licy develop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roving management of agricultural activities within the vicinity of protected are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d watershed management, including transboundary areas where SLM interventions can improve hydrological functions and services for agro-ecosystem productivity (crop and livestock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ing innovative financing mechanisms such as Paying for ecosystems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629400" y="1752480"/>
            <a:ext cx="15238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4479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80866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2372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ational Socio-economic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08-12T15:28:31Z</dcterms:modified>
  <cp:revision>39</cp:revision>
  <dc:subject/>
  <dc:title>Focal Area and Cross Cutting Strategies – Land Degradation</dc:title>
</cp:coreProperties>
</file>