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294-4D8E-405D-8E86-724A4DC5734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9C7-EB1E-434D-902F-1F539929C9D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07F-1814-4371-B2D3-B0C58CB5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99D-CAF1-438E-8303-68DC759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3FA-4658-468F-90C8-F8E2C081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D6D-481C-4A1B-A322-79128448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C68-CE28-455B-8794-F61286D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A07-5666-4AB5-B660-2D7BB92F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FBF-C397-47F1-826B-B21A063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A7A-7E90-4679-9E36-4308928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D7F-8257-42CF-A831-676A6E5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531-5D51-434E-AFFF-2F54CB3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5D7-2431-4F67-A47B-F4CBEAD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0BE-3873-437D-84A0-0A86458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0D27-9C7B-412F-8FBB-8D4BD5815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omaine et Stratégie d’intervention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égradation des S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Est-ce que vous avez des 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Je vous reme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Dégradation des Sols</a:t>
            </a:r>
            <a:br>
              <a:rPr sz="4900"/>
            </a:b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Stratégie   </a:t>
            </a:r>
            <a:br>
              <a:rPr sz="54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Lutte contre la désertification et déforest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 le portefeuille de la dégradation des sols (DS) à tous les 144 pays éligibles par l'inclusion de DS dans le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ois principaux facteurs de la dégradation des écosystè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d'affectation des terr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sation e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somm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n durable des ressources naturell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climati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éliorer le cadre d’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tenir la Convention des Nations Unies pour Lutter Contre la Désertification (Mise en œuvre du plan stratégique sur 10 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rôle de la gestion de l'agriculture et des forêts dans les paysages producti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riorités du FEM-5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égradation des Sols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 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3712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if 1: Maintenir ou améliorer le flux des services fournis par les agroécosystèmes pour préserver durablement les moyens de subsistance des populations loc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méliorer l’environnement porteur dans le secteur agric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méliorer la gestion de l’agriculture et les flux soutenu des services dans les agroécosystè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ugmentation des investissements en matière de G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05720" y="5719680"/>
            <a:ext cx="24382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égradation des Sols Objectif 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676520"/>
            <a:ext cx="6553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 2:  Générer des flux durables de services des écosystèmes forestiers dans les zones arides, semi-arides et subhumides en préservant durablement les moyens de subsistance des populations tributaires des forê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se en place d’un environnement porteur dans le secteur forestier des pays essentiellement 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 la gestion forestière et flux soutenu des services dans les écosystèmes forestiers,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F dans les écosystèmes forestiers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718320" y="190512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égradation des Sols Objectif 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8284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 3:  Réduire les pressions exercées sur les ressources naturelles du fait de la compétition entre les usages des sols à l’échelle des pay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 l’environnement porteur multisectoriel pour la gestion intégrée des paysag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doption des pratiques de gestion intégrée du paysage par les populations lo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estion intégrée du pay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523880" cy="33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61722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gradation des Sols Objectif 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533520" y="13716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 4:  Renforcer les capacités à appliquer les outils de gestion évolutive à la gestion durable des sols (G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sultats de suivi des programmes d'action de la Convention des Nations Unies sur la lutte Contre la Dés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égration des synergies et des meilleures actions pour la gestion des ressources natur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veloppement de lignes directrices et des outils pour évaluer la stabilité des écosystèmes, la résilience et le maintien de la réglementation d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08668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Bénéfices pour l'environnement mond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2189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fourniture des biens et services assurés par les agroécosystèmes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ire les émissions de gaz à effet de serre de l’agriculture, du déboisement et de la dégradation des forêts, améliorer le stockage du carb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des agroécosystèmes et des écosystèmes forestiers face au changement climatique et à d’autres effets des activités anthropique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847728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énéfices socio-économiques nation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iabilité à long terme des modes de subsistance des populations tributaires de l’utilisation et de la gestion des ressources naturelles (sols, eau, biodiversité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aux effets du changement climatique des populations tributaires de l’utilisation et de la gestion des ressources naturelles dans l’agriculture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41972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bjectifs du Millénaire pour le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17T16:33:13Z</dcterms:modified>
  <cp:revision>148</cp:revision>
  <dc:subject/>
  <dc:title>Focal Area and Cross Cutting Strategies – Land Degradation</dc:title>
</cp:coreProperties>
</file>