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06280" y="698400"/>
            <a:ext cx="46465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87480" rIns="8748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14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884A3-490C-4A63-8FD2-5CBC7C0DA6BA}" type="slidenum">
              <a:rPr b="0" lang="en-US" sz="11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Slide Number Placeholder 3"/>
          <p:cNvSpPr/>
          <p:nvPr/>
        </p:nvSpPr>
        <p:spPr>
          <a:xfrm>
            <a:off x="388476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073C8-391E-4E1F-BB40-B105F9D8145F}" type="slidenum">
              <a:rPr b="0" lang="en-US" sz="11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Date Placeholder 4"/>
          <p:cNvSpPr/>
          <p:nvPr/>
        </p:nvSpPr>
        <p:spPr>
          <a:xfrm>
            <a:off x="3884760" y="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Footer Placeholder 5"/>
          <p:cNvSpPr/>
          <p:nvPr/>
        </p:nvSpPr>
        <p:spPr>
          <a:xfrm>
            <a:off x="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Header Placeholder 6"/>
          <p:cNvSpPr/>
          <p:nvPr/>
        </p:nvSpPr>
        <p:spPr>
          <a:xfrm>
            <a:off x="0" y="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2E975-053B-49DA-9CEC-6CC25F9DE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ABFC3-ED62-489B-8169-A40DCF618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0D6EE-3627-45DA-A698-3B3EF19E8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23965-143D-461F-94B1-BAFE3B7FE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AEEF0-6B84-4FF2-900D-6FB4105FA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28E6D-4259-44EF-A445-CEE638C0E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4B9D0-9383-4E71-B35D-C2A013077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BD6FE-B420-41BE-B3D9-CE587C38D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BFB76-E4DF-40ED-997F-7C7916B78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0CD0F-D429-4E88-9CAC-E2CAE6029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41E0B-85F5-4F39-868D-93DB59691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DAED4-FA16-41C5-B417-FC0E68064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BFB3C-FED3-49F8-9551-E1E2474211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520" y="1676160"/>
            <a:ext cx="84582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42d"/>
                </a:solidFill>
                <a:latin typeface="Calibri"/>
              </a:rPr>
              <a:t>Domaine et Stratégie d’intervention 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00642d"/>
                </a:solidFill>
                <a:latin typeface="Calibri"/>
              </a:rPr>
              <a:t>Dégradation des Sol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Subtitle 4"/>
          <p:cNvSpPr/>
          <p:nvPr/>
        </p:nvSpPr>
        <p:spPr>
          <a:xfrm>
            <a:off x="16002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642d"/>
                </a:solidFill>
                <a:latin typeface="Calibri"/>
                <a:ea typeface="Arial"/>
              </a:rPr>
              <a:t>Atelier Élargi pour la Circonscri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642d"/>
                </a:solidFill>
                <a:latin typeface="Calibri"/>
                <a:ea typeface="Arial"/>
              </a:rPr>
              <a:t>25 au 27 Octobre 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642d"/>
                </a:solidFill>
                <a:latin typeface="Calibri"/>
                <a:ea typeface="Arial"/>
              </a:rPr>
              <a:t>Nairobi, Keny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300" spc="-1" strike="noStrike">
                <a:solidFill>
                  <a:srgbClr val="00642d"/>
                </a:solidFill>
                <a:latin typeface="Calibri"/>
                <a:ea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3" descr=""/>
          <p:cNvPicPr/>
          <p:nvPr/>
        </p:nvPicPr>
        <p:blipFill>
          <a:blip r:embed="rId1"/>
          <a:srcRect l="0" t="17650" r="0" b="0"/>
          <a:stretch/>
        </p:blipFill>
        <p:spPr>
          <a:xfrm>
            <a:off x="0" y="0"/>
            <a:ext cx="91440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42d"/>
                </a:solidFill>
                <a:latin typeface="Calibri"/>
              </a:rPr>
              <a:t>Est-ce que vous avez des questions?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642d"/>
                </a:solidFill>
                <a:latin typeface="Calibri"/>
              </a:rPr>
              <a:t>Je vous remerci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3" descr=""/>
          <p:cNvPicPr/>
          <p:nvPr/>
        </p:nvPicPr>
        <p:blipFill>
          <a:blip r:embed="rId1"/>
          <a:srcRect l="0" t="17650" r="0" b="0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520" y="358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r>
              <a:rPr b="0" lang="fr-FR" sz="4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fr-FR" sz="4900" spc="-1" strike="noStrike">
                <a:solidFill>
                  <a:srgbClr val="000000"/>
                </a:solidFill>
                <a:latin typeface="Calibri"/>
              </a:rPr>
              <a:t>Dégradation des Sols</a:t>
            </a:r>
            <a:br>
              <a:rPr sz="4900"/>
            </a:br>
            <a:r>
              <a:rPr b="1" lang="fr-FR" sz="4900" spc="-1" strike="noStrike">
                <a:solidFill>
                  <a:srgbClr val="000000"/>
                </a:solidFill>
                <a:latin typeface="Calibri"/>
              </a:rPr>
              <a:t>Stratégie   </a:t>
            </a:r>
            <a:br>
              <a:rPr sz="5400"/>
            </a:br>
            <a:r>
              <a:rPr b="0" lang="fr-FR" sz="2500" spc="-1" strike="noStrike">
                <a:solidFill>
                  <a:srgbClr val="000000"/>
                </a:solidFill>
                <a:latin typeface="Calibri"/>
              </a:rPr>
              <a:t>(Lutte contre la désertification et déforestation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1676520" y="1294920"/>
            <a:ext cx="73152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Développer le portefeuille de la dégradation des sols (DS) à tous les 144 pays éligibles par l'inclusion de DS dans le STA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Trois principaux facteurs de la dégradation des écosystème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hangement d'affectation des terres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tilisation et 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consommation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non durable des ressources naturelles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hangement climatiqu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méliorer le cadre d’interven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Soutenir la Convention des Nations Unies pour Lutter Contre la Désertification (Mise en œuvre du plan stratégique sur 10 an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Le rôle de la gestion de l'agriculture et des forêts dans les paysages productif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s Priorités du FEM-5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0" y="1600200"/>
            <a:ext cx="1676520" cy="28954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2"/>
          <a:srcRect l="0" t="17650" r="0" b="0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3" descr=""/>
          <p:cNvPicPr/>
          <p:nvPr/>
        </p:nvPicPr>
        <p:blipFill>
          <a:blip r:embed="rId1"/>
          <a:srcRect l="0" t="17650" r="0" b="0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Dégradation des Sols </a:t>
            </a: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Objectif 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152280" y="13712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0000"/>
                </a:solidFill>
                <a:latin typeface="Calibri"/>
              </a:rPr>
              <a:t>Objectif 1: Maintenir ou améliorer le flux des services fournis par les agroécosystèmes pour préserver durablement les moyens de subsistance des populations locale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Améliorer l’environnement porteur dans le secteur agricol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Améliorer la gestion de l’agriculture et les flux soutenu des services dans les agroécosystèm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Augmentation des investissements en matière de GD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3" descr=""/>
          <p:cNvPicPr/>
          <p:nvPr/>
        </p:nvPicPr>
        <p:blipFill>
          <a:blip r:embed="rId2"/>
          <a:stretch/>
        </p:blipFill>
        <p:spPr>
          <a:xfrm>
            <a:off x="6705720" y="5719680"/>
            <a:ext cx="2438280" cy="11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3" descr=""/>
          <p:cNvPicPr/>
          <p:nvPr/>
        </p:nvPicPr>
        <p:blipFill>
          <a:blip r:embed="rId1"/>
          <a:srcRect l="0" t="17650" r="0" b="0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000000"/>
                </a:solidFill>
                <a:latin typeface="Calibri"/>
              </a:rPr>
              <a:t>Dégradation des Sols Objectif 2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Rectangle 7"/>
          <p:cNvSpPr/>
          <p:nvPr/>
        </p:nvSpPr>
        <p:spPr>
          <a:xfrm>
            <a:off x="152280" y="1676520"/>
            <a:ext cx="6553440" cy="36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Objectif 2:  Générer des flux durables de services des écosystèmes forestiers dans les zones arides, semi-arides et subhumides en préservant durablement les moyens de subsistance des populations tributaires des forê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Mise en place d’un environnement porteur dans le secteur forestier des pays essentiellement ari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Amélioration de la gestion forestière et flux soutenu des services dans les écosystèmes forestiers, en zones arid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Augmentation des investissements en matière de GDF dans les écosystèmes forestiers en zones arid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2"/>
          <a:stretch/>
        </p:blipFill>
        <p:spPr>
          <a:xfrm>
            <a:off x="6718320" y="1905120"/>
            <a:ext cx="2425680" cy="36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000000"/>
                </a:solidFill>
                <a:latin typeface="Calibri"/>
              </a:rPr>
              <a:t>Dégradation des Sols Objectif 3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304920" y="1828440"/>
            <a:ext cx="62481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Objectif 3:  Réduire les pressions exercées sur les ressources naturelles du fait de la compétition entre les usages des sols à l’échelle des paysag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Amélioration de l’environnement porteur multisectoriel pour la gestion intégrée des paysage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Adoption des pratiques de gestion intégrée du paysage par les populations local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Augmentation des investissements en matière de gestion intégrée du paysag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6705720" y="1981080"/>
            <a:ext cx="1523880" cy="33022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" descr=""/>
          <p:cNvPicPr/>
          <p:nvPr/>
        </p:nvPicPr>
        <p:blipFill>
          <a:blip r:embed="rId2"/>
          <a:srcRect l="0" t="17650" r="0" b="0"/>
          <a:stretch/>
        </p:blipFill>
        <p:spPr>
          <a:xfrm>
            <a:off x="0" y="6172200"/>
            <a:ext cx="91440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Dégradation des Sols Objectif 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Content Placeholder 2"/>
          <p:cNvSpPr/>
          <p:nvPr/>
        </p:nvSpPr>
        <p:spPr>
          <a:xfrm>
            <a:off x="533520" y="1371600"/>
            <a:ext cx="822960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Objectif 4:  Renforcer les capacités à appliquer les outils de gestion évolutive à la gestion durable des sols (GD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Résultats de suivi des programmes d'action de la Convention des Nations Unies sur la lutte Contre la Désert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Intégration des synergies et des meilleures actions pour la gestion des ressources naturel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Développement de lignes directrices et des outils pour évaluer la stabilité des écosystèmes, la résilience et le maintien de la réglementation des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533520" y="3886200"/>
            <a:ext cx="8086680" cy="18097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" descr=""/>
          <p:cNvPicPr/>
          <p:nvPr/>
        </p:nvPicPr>
        <p:blipFill>
          <a:blip r:embed="rId2"/>
          <a:srcRect l="0" t="17650" r="0" b="0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Calibri"/>
              </a:rPr>
              <a:t>Bénéfices pour l'environnement mondial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304560" y="1218960"/>
            <a:ext cx="830556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Améliorer la fourniture des biens et services assurés par les agroécosystèmes et les écosystèmes forestier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Réduire les émissions de gaz à effet de serre de l’agriculture, du déboisement et de la dégradation des forêts, améliorer le stockage du carbon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Réduction de la vulnérabilité des agroécosystèmes et des écosystèmes forestiers face au changement climatique et à d’autres effets des activités anthropiques.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304920" y="3886200"/>
            <a:ext cx="8477280" cy="14479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3" descr=""/>
          <p:cNvPicPr/>
          <p:nvPr/>
        </p:nvPicPr>
        <p:blipFill>
          <a:blip r:embed="rId2"/>
          <a:srcRect l="0" t="17650" r="0" b="0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Bénéfices socio-économiques nationaux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6840" y="1676160"/>
            <a:ext cx="4794120" cy="3809880"/>
          </a:xfrm>
          <a:prstGeom prst="rect">
            <a:avLst/>
          </a:prstGeom>
          <a:noFill/>
          <a:ln w="66600">
            <a:solidFill>
              <a:srgbClr val="77933c"/>
            </a:solidFill>
            <a:miter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Viabilité à long terme des modes de subsistance des populations tributaires de l’utilisation et de la gestion des ressources naturelles (sols, eau, biodiversité).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Réduction de la vulnérabilité aux effets du changement climatique des populations tributaires de l’utilisation et de la gestion des ressources naturelles dans l’agriculture et les écosystèmes forestier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extBox 3"/>
          <p:cNvSpPr/>
          <p:nvPr/>
        </p:nvSpPr>
        <p:spPr>
          <a:xfrm>
            <a:off x="6324480" y="4419720"/>
            <a:ext cx="2438640" cy="119124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Objectifs du Millénaire pour le développ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ight Arrow 6"/>
          <p:cNvSpPr/>
          <p:nvPr/>
        </p:nvSpPr>
        <p:spPr>
          <a:xfrm>
            <a:off x="5410080" y="4648320"/>
            <a:ext cx="762120" cy="761760"/>
          </a:xfrm>
          <a:prstGeom prst="rightArrow">
            <a:avLst>
              <a:gd name="adj1" fmla="val 50000"/>
              <a:gd name="adj2" fmla="val 50024"/>
            </a:avLst>
          </a:prstGeom>
          <a:solidFill>
            <a:srgbClr val="9537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3" descr=""/>
          <p:cNvPicPr/>
          <p:nvPr/>
        </p:nvPicPr>
        <p:blipFill>
          <a:blip r:embed="rId1"/>
          <a:stretch/>
        </p:blipFill>
        <p:spPr>
          <a:xfrm>
            <a:off x="6324480" y="1523880"/>
            <a:ext cx="2316240" cy="25146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3" descr=""/>
          <p:cNvPicPr/>
          <p:nvPr/>
        </p:nvPicPr>
        <p:blipFill>
          <a:blip r:embed="rId2"/>
          <a:srcRect l="0" t="17650" r="0" b="0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8T15:43:57Z</dcterms:created>
  <dc:creator>wb350798</dc:creator>
  <dc:description/>
  <dc:language>en-US</dc:language>
  <cp:lastModifiedBy>wb350798</cp:lastModifiedBy>
  <dcterms:modified xsi:type="dcterms:W3CDTF">2011-11-17T16:33:13Z</dcterms:modified>
  <cp:revision>148</cp:revision>
  <dc:subject/>
  <dc:title>Focal Area and Cross Cutting Strategies – Land Degradation</dc:title>
</cp:coreProperties>
</file>