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16CD-DC0A-4EE0-A216-CC8FF05A2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980C-F9DF-4325-8B50-4F6B502ED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AA5-CEBD-4DBF-AA6E-C157F4B7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DA0-4921-464D-885B-B18FA40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4EF-1813-41CE-8726-B7B2E0E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C34-CEDB-4F00-8F0E-877294DE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44E-030F-4814-81B7-92EBFB1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1D7-E218-403E-B38F-1D27C7DF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E3F-4774-42D1-B47D-2098E9F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02E-27D5-4043-8340-9A338F4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514-DC43-485E-9112-DC479A82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036-816B-4826-A939-9B3E0D02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F64-B029-421C-8028-A3BBD57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426-EB09-482F-B317-16F278B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3339-0F23-4C7B-AB05-DC7E249BC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omaine et Stratégie d’intervention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égradation des S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Est-ce que vous avez des 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Je vous reme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Dégradation des Sols</a:t>
            </a:r>
            <a:br>
              <a:rPr sz="4900"/>
            </a:b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Stratégie   </a:t>
            </a:r>
            <a:br>
              <a:rPr sz="54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Lutte contre la désertification et déforest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r le portefeuille de la dégradation des sols (DS) à tous les 144 pays éligibles par l'inclusion de DS dans le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ois principaux facteurs de la dégradation des écosystè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d'affectation des terr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sation e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somm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on durable des ressources naturell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climati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éliorer le cadre d’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utenir la Convention des Nations Unies pour Lutter Contre la Désertification (Mise en œuvre du plan stratégique sur 10 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rôle de la gestion de l'agriculture et des forêts dans les paysages producti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riorités du FEM-5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 1: Maintenir ou améliorer le flux des services fournis par les agroécosystèmes pour préserver durablement les moyens de subsistance des populations loc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er l’environnement porteur dans le secteur agri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veloppement des capacités pour améliorer la prise de dé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aboration des polit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er la gestion de l’agriculture et les flux soutenu des services dans les agroécosystè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ation de la gestion communautaire agricole, y compris des systèmes de décision participatifs et des questions liées au gen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roduction de pratiques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Gestion Durable de l’Eau et du S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nforcement des capacités techniques et institutionnelles pour contrôler et réduire les émissions de GES provenant des activités agrico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gestion des impacts du changement cli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gestion des pâturages et la durabilité du pastoralis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ssurer des mécanismes de financement innovants basés sur la valorisation des services environnementaux (PSE et autres mécanismes fondés sur le march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05720" y="5719680"/>
            <a:ext cx="24382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708660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 2:  Générer des flux durables de services des écosystèmes forestiers dans les zones arides, semi-arides et subhumides en préservant durablement les moyens de subsistance des populations tributaires des forê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817640"/>
            <a:ext cx="655344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ise en place d’un environnement porteur dans le secteur forestier des pays essentiellement a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ment des capacités: politique forestière, cadres juri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ation de la gestion forestière et flux soutenu des services dans les écosystèmes forestiers,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atiques de gestion durable des forêts et des arbres en dehors des forêts pour les produits ligneux et non-ligneu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boisement et utilisation d'espèces locales, y compris agroforeste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des impacts du changement climatique sur les terres forestières, les pratiques et le choix des espèces utilisées pour le rebois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DF dans les écosystèmes forestiers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smes pour amplifier et diffuser  les bonnes pratiques (par exemple à travers le secteur privé, les organisations communautaires, les services de vulgarisation et les médi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spcBef>
                <a:spcPts val="3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versifier la base des ressources financières (mécanismes de rémunération des services écologiques,  financement carbone, 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718320" y="190512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 3:  Réduire les pressions exercées sur les ressources naturelles du fait de la compétition entre les usages des sols à l’échelle des pay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99036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mélioration de l’environnement porteur multisectoriel pour la gestion intégrée des paysag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ment des capacités pour améliorer les systèmes de décision dans la gestion des paysages de prod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éveloppement des poli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option des pratiques de gestion intégrée du paysage par les populations loc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méliorer  la gestion des activités agricoles à proximité des aires protégé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intégrée des bassins versants, y compris les zones transfrontalières où les interventions de GDS peuvent améliorer les fonctions et les services hydrologiques  pour la productivité des agro-écosystèmes (cultures et élevag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estion intégrée du pay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95360" indent="-954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r des mécanismes de financement innovants (P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1523880" cy="33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61722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 4 Dégradation des S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 4:  Renforcer les capacités à appliquer les outils de gestion évolutive à la gestion durable des sols (G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sultats de suivi des programmes d'action de la Convention des Nations Unies sur la lutte Contre la Déser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tégration des synergies et des meilleures actions pour la gestion des ressources natur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ment de lignes directrices et des outils pour évaluer la stabilité des écosystèmes, la résilience et le maintien de la réglementation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6520" y="3657600"/>
            <a:ext cx="8086680" cy="203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énéfices pour l'environnement mond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676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fourniture des biens et services assurés par les agroécosystèmes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ire les émissions de gaz à effet de serre de l’agriculture, du déboisement et de la dégradation des forêts, améliorer le stockage du carb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des agroécosystèmes et des écosystèmes forestiers face au changement climatique et à d’autres effets des activités anthropique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14400" y="4237200"/>
            <a:ext cx="7315200" cy="124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énéfices socio-économiques nation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iabilité à long terme des modes de subsistance des populations tributaires de l’utilisation et de la gestion des ressources naturelles (sols, eau, biodiversité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aux effets du changement climatique des populations tributaires de l’utilisation et de la gestion des ressources naturelles dans l’agriculture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41972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Objectifs du Millénaire pour le 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08-12T15:28:46Z</dcterms:modified>
  <cp:revision>122</cp:revision>
  <dc:subject/>
  <dc:title>Focal Area and Cross Cutting Strategies – Land Degradation</dc:title>
</cp:coreProperties>
</file>