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2040" cy="36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50FA9-03F1-4224-B24D-5EC17151CB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DBC2D-F216-4A98-983E-5006FF8E32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Date Placeholder 4"/>
          <p:cNvSpPr/>
          <p:nvPr/>
        </p:nvSpPr>
        <p:spPr>
          <a:xfrm>
            <a:off x="4143240" y="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Footer Placeholder 5"/>
          <p:cNvSpPr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Header Placeholder 6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795AC-E09D-4E4C-A7D1-1EBB71191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4E38D-0105-4D8A-A1B2-CA2921D25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20F55-4841-4BD1-B9D7-63233A0EA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83643-D0FC-4230-9249-1B16C78BD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C3BF9-8121-4605-9C02-5811EE4B3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7E49C-9305-40C7-95A9-955CC32D7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06487-5C72-4CB2-AE10-E899897B3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C9809-E05B-432B-9A46-14A6818E9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04BB5-3966-4D40-B2DC-13135A135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D72ED-0158-4051-B4AE-E54E021E3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27997-BA06-4486-89C8-DA990A2F8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E3078-3035-4A70-A10F-BA3286E3B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AFE73-6524-4904-B4F2-C9D8092692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520" y="1676160"/>
            <a:ext cx="84582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42d"/>
                </a:solidFill>
                <a:latin typeface="Calibri"/>
              </a:rPr>
              <a:t>Domaine et Stratégie d’intervention 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00642d"/>
                </a:solidFill>
                <a:latin typeface="Calibri"/>
              </a:rPr>
              <a:t>Dégradation des Sol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Subtitle 4"/>
          <p:cNvSpPr/>
          <p:nvPr/>
        </p:nvSpPr>
        <p:spPr>
          <a:xfrm>
            <a:off x="16002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642d"/>
                </a:solidFill>
                <a:latin typeface="Calibri"/>
                <a:ea typeface="Arial"/>
              </a:rPr>
              <a:t>Atelier Élargi pour la Circonscri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642d"/>
                </a:solidFill>
                <a:latin typeface="Calibri"/>
                <a:ea typeface="Arial"/>
              </a:rPr>
              <a:t>6 – 8 juillet 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642d"/>
                </a:solidFill>
                <a:latin typeface="Calibri"/>
                <a:ea typeface="Arial"/>
              </a:rPr>
              <a:t>Dakar, Sénég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300" spc="-1" strike="noStrike">
                <a:solidFill>
                  <a:srgbClr val="00642d"/>
                </a:solidFill>
                <a:latin typeface="Calibri"/>
                <a:ea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3" descr=""/>
          <p:cNvPicPr/>
          <p:nvPr/>
        </p:nvPicPr>
        <p:blipFill>
          <a:blip r:embed="rId1"/>
          <a:srcRect l="0" t="17650" r="0" b="0"/>
          <a:stretch/>
        </p:blipFill>
        <p:spPr>
          <a:xfrm>
            <a:off x="0" y="0"/>
            <a:ext cx="91440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42d"/>
                </a:solidFill>
                <a:latin typeface="Calibri"/>
              </a:rPr>
              <a:t>Est-ce que vous avez des questions?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642d"/>
                </a:solidFill>
                <a:latin typeface="Calibri"/>
              </a:rPr>
              <a:t>Je vous remerci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3" descr=""/>
          <p:cNvPicPr/>
          <p:nvPr/>
        </p:nvPicPr>
        <p:blipFill>
          <a:blip r:embed="rId1"/>
          <a:srcRect l="0" t="17650" r="0" b="0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520" y="358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r>
              <a:rPr b="0" lang="fr-FR" sz="4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fr-FR" sz="4900" spc="-1" strike="noStrike">
                <a:solidFill>
                  <a:srgbClr val="000000"/>
                </a:solidFill>
                <a:latin typeface="Calibri"/>
              </a:rPr>
              <a:t>Dégradation des Sols</a:t>
            </a:r>
            <a:br>
              <a:rPr sz="4900"/>
            </a:br>
            <a:r>
              <a:rPr b="1" lang="fr-FR" sz="4900" spc="-1" strike="noStrike">
                <a:solidFill>
                  <a:srgbClr val="000000"/>
                </a:solidFill>
                <a:latin typeface="Calibri"/>
              </a:rPr>
              <a:t>Stratégie   </a:t>
            </a:r>
            <a:br>
              <a:rPr sz="5400"/>
            </a:br>
            <a:r>
              <a:rPr b="0" lang="fr-FR" sz="2500" spc="-1" strike="noStrike">
                <a:solidFill>
                  <a:srgbClr val="000000"/>
                </a:solidFill>
                <a:latin typeface="Calibri"/>
              </a:rPr>
              <a:t>(Lutte contre la désertification et déforestation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1676520" y="1294920"/>
            <a:ext cx="73152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Développer le portefeuille de la dégradation des sols (DS) à tous les 144 pays éligibles par l'inclusion de DS dans le STA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Trois principaux facteurs de la dégradation des écosystème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hangement d'affectation des terres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tilisation et 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consommation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non durable des ressources naturelles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hangement climatiqu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méliorer le cadre d’interven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Soutenir la Convention des Nations Unies pour Lutter Contre la Désertification (Mise en œuvre du plan stratégique sur 10 an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Le rôle de la gestion de l'agriculture et des forêts dans les paysages productif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s Priorités du FEM-5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0" y="1600200"/>
            <a:ext cx="1676520" cy="28954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2"/>
          <a:srcRect l="0" t="17650" r="0" b="0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3" descr=""/>
          <p:cNvPicPr/>
          <p:nvPr/>
        </p:nvPicPr>
        <p:blipFill>
          <a:blip r:embed="rId1"/>
          <a:srcRect l="0" t="17650" r="0" b="0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Objectif 1: Maintenir ou améliorer le flux des services fournis par les agroécosystèmes pour préserver durablement les moyens de subsistance des populations local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04920" y="167616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Améliorer l’environnement porteur dans le secteur agrico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0720" indent="-271440">
              <a:lnSpc>
                <a:spcPts val="1397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Développement des capacités pour améliorer la prise de décis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0720" indent="-271440">
              <a:lnSpc>
                <a:spcPts val="1397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laboration des politiqu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0720" indent="-271440">
              <a:lnSpc>
                <a:spcPts val="1397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Améliorer la gestion de l’agriculture et les flux soutenu des services dans les agroécosystèm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0720" indent="-271440">
              <a:lnSpc>
                <a:spcPts val="1397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Amélioration de la gestion communautaire agricole, y compris des systèmes de décision participatifs et des questions liées au genr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0720" indent="-271440">
              <a:lnSpc>
                <a:spcPts val="1397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Introduction de pratiques</a:t>
            </a:r>
            <a:r>
              <a:rPr b="0" lang="fr-FR" sz="1800" spc="-1" strike="noStrike">
                <a:solidFill>
                  <a:srgbClr val="ff0000"/>
                </a:solidFill>
                <a:latin typeface="Calibri"/>
              </a:rPr>
              <a:t> 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de Gestion Durable de l’Eau et du So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0720" indent="-271440">
              <a:lnSpc>
                <a:spcPts val="1397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Renforcement des capacités techniques et institutionnelles pour contrôler et réduire les émissions de GES provenant des activités agricole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0720" indent="-271440">
              <a:lnSpc>
                <a:spcPts val="1397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Améliorer la gestion des impacts du changement climatiqu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0720" indent="-271440">
              <a:lnSpc>
                <a:spcPts val="1397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Améliorer la gestion des pâturages et la durabilité du pastoralis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0720" indent="-271440">
              <a:lnSpc>
                <a:spcPts val="1397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Augmentation des investissements en matière de GD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0720" indent="-271440">
              <a:lnSpc>
                <a:spcPts val="1397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Assurer des mécanismes de financement innovants basés sur la valorisation des services environnementaux (PSE et autres mécanismes fondés sur le marché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3" descr=""/>
          <p:cNvPicPr/>
          <p:nvPr/>
        </p:nvPicPr>
        <p:blipFill>
          <a:blip r:embed="rId2"/>
          <a:stretch/>
        </p:blipFill>
        <p:spPr>
          <a:xfrm>
            <a:off x="6705720" y="5719680"/>
            <a:ext cx="2438280" cy="11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3" descr=""/>
          <p:cNvPicPr/>
          <p:nvPr/>
        </p:nvPicPr>
        <p:blipFill>
          <a:blip r:embed="rId1"/>
          <a:srcRect l="0" t="17650" r="0" b="0"/>
          <a:stretch/>
        </p:blipFill>
        <p:spPr>
          <a:xfrm>
            <a:off x="0" y="7086600"/>
            <a:ext cx="9144000" cy="106668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Objectif 2:  Générer des flux durables de services des écosystèmes forestiers dans les zones arides, semi-arides et subhumides en préservant durablement les moyens de subsistance des populations tributaires des forê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Rectangle 7"/>
          <p:cNvSpPr/>
          <p:nvPr/>
        </p:nvSpPr>
        <p:spPr>
          <a:xfrm>
            <a:off x="152280" y="1817640"/>
            <a:ext cx="6553440" cy="44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Mise en place d’un environnement porteur dans le secteur forestier des pays essentiellement ari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449280">
              <a:lnSpc>
                <a:spcPts val="1397"/>
              </a:lnSpc>
              <a:spcBef>
                <a:spcPts val="300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Développement des capacités: politique forestière, cadres juridiqu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449280">
              <a:lnSpc>
                <a:spcPts val="1397"/>
              </a:lnSpc>
              <a:spcBef>
                <a:spcPts val="3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Amélioration de la gestion forestière et flux soutenu des services dans les écosystèmes forestiers, en zones arid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449280">
              <a:lnSpc>
                <a:spcPts val="1397"/>
              </a:lnSpc>
              <a:spcBef>
                <a:spcPts val="300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Pratiques de gestion durable des forêts et des arbres en dehors des forêts pour les produits ligneux et non-ligneux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449280">
              <a:lnSpc>
                <a:spcPts val="1397"/>
              </a:lnSpc>
              <a:spcBef>
                <a:spcPts val="300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Reboisement et utilisation d'espèces locales, y compris agroforesteri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449280">
              <a:lnSpc>
                <a:spcPts val="1397"/>
              </a:lnSpc>
              <a:spcBef>
                <a:spcPts val="300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Gestion des impacts du changement climatique sur les terres forestières, les pratiques et le choix des espèces utilisées pour le reboisemen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449280">
              <a:lnSpc>
                <a:spcPts val="1397"/>
              </a:lnSpc>
              <a:spcBef>
                <a:spcPts val="3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Augmentation des investissements en matière de GDF dans les écosystèmes forestiers en zones arid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449280">
              <a:lnSpc>
                <a:spcPts val="1397"/>
              </a:lnSpc>
              <a:spcBef>
                <a:spcPts val="300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Mécanismes pour amplifier et diffuser  les bonnes pratiques (par exemple à travers le secteur privé, les organisations communautaires, les services de vulgarisation et les médias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449280">
              <a:lnSpc>
                <a:spcPts val="1397"/>
              </a:lnSpc>
              <a:spcBef>
                <a:spcPts val="300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Diversifier la base des ressources financières (mécanismes de rémunération des services écologiques,  financement carbone, et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2"/>
          <a:stretch/>
        </p:blipFill>
        <p:spPr>
          <a:xfrm>
            <a:off x="6718320" y="1905120"/>
            <a:ext cx="2425680" cy="36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Objectif 3:  Réduire les pressions exercées sur les ressources naturelles du fait de la compétition entre les usages des sols à l’échelle des paysag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380520" y="990360"/>
            <a:ext cx="62485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5400" indent="-954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95400" indent="-95400"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Amélioration de l’environnement porteur multisectoriel pour la gestion intégrée des paysage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95360" indent="-95400">
              <a:spcBef>
                <a:spcPts val="400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Développement des capacités pour améliorer les systèmes de décision dans la gestion des paysages de productio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95360" indent="-95400">
              <a:spcBef>
                <a:spcPts val="400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Développement des politiqu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95360" indent="-95400"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Adoption des pratiques de gestion intégrée du paysage par les populations local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95360" indent="-95400">
              <a:spcBef>
                <a:spcPts val="400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Améliorer  la gestion des activités agricoles à proximité des aires protégé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95360" indent="-95400">
              <a:spcBef>
                <a:spcPts val="400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Gestion intégrée des bassins versants, y compris les zones transfrontalières où les interventions de GDS peuvent améliorer les fonctions et les services hydrologiques  pour la productivité des agro-écosystèmes (cultures et élevage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95360" indent="-95400"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Augmentation des investissements en matière de gestion intégrée du paysag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95360" indent="-95400">
              <a:spcBef>
                <a:spcPts val="400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Développer des mécanismes de financement innovants (PSE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6629400" y="1752480"/>
            <a:ext cx="1523880" cy="33022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" descr=""/>
          <p:cNvPicPr/>
          <p:nvPr/>
        </p:nvPicPr>
        <p:blipFill>
          <a:blip r:embed="rId2"/>
          <a:srcRect l="0" t="17650" r="0" b="0"/>
          <a:stretch/>
        </p:blipFill>
        <p:spPr>
          <a:xfrm>
            <a:off x="0" y="6172200"/>
            <a:ext cx="91440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Objectif 4 Dégradation des So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Content Placeholder 2"/>
          <p:cNvSpPr/>
          <p:nvPr/>
        </p:nvSpPr>
        <p:spPr>
          <a:xfrm>
            <a:off x="533520" y="1600200"/>
            <a:ext cx="822960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Objectif 4:  Renforcer les capacités à appliquer les outils de gestion évolutive à la gestion durable des sols (GD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Résultats de suivi des programmes d'action de la Convention des Nations Unies sur la lutte Contre la Désertif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Intégration des synergies et des meilleures actions pour la gestion des ressources naturel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Développement de lignes directrices et des outils pour évaluer la stabilité des écosystèmes, la résilience et le maintien de la réglementation des servi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506520" y="3657600"/>
            <a:ext cx="8086680" cy="20383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" descr=""/>
          <p:cNvPicPr/>
          <p:nvPr/>
        </p:nvPicPr>
        <p:blipFill>
          <a:blip r:embed="rId2"/>
          <a:srcRect l="0" t="17650" r="0" b="0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Bénéfices pour l'environnement mondi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380880" y="1676160"/>
            <a:ext cx="830592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Améliorer la fourniture des biens et services assurés par les agroécosystèmes et les écosystèmes forestier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Réduire les émissions de gaz à effet de serre de l’agriculture, du déboisement et de la dégradation des forêts, améliorer le stockage du carbon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Réduction de la vulnérabilité des agroécosystèmes et des écosystèmes forestiers face au changement climatique et à d’autres effets des activités anthropiques.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914400" y="4237200"/>
            <a:ext cx="7315200" cy="12492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3" descr=""/>
          <p:cNvPicPr/>
          <p:nvPr/>
        </p:nvPicPr>
        <p:blipFill>
          <a:blip r:embed="rId2"/>
          <a:srcRect l="0" t="17650" r="0" b="0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Bénéfices socio-économiques nationaux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6840" y="1676160"/>
            <a:ext cx="4794120" cy="3809880"/>
          </a:xfrm>
          <a:prstGeom prst="rect">
            <a:avLst/>
          </a:prstGeom>
          <a:noFill/>
          <a:ln w="66600">
            <a:solidFill>
              <a:srgbClr val="77933c"/>
            </a:solidFill>
            <a:miter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Viabilité à long terme des modes de subsistance des populations tributaires de l’utilisation et de la gestion des ressources naturelles (sols, eau, biodiversité).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Réduction de la vulnérabilité aux effets du changement climatique des populations tributaires de l’utilisation et de la gestion des ressources naturelles dans l’agriculture et les écosystèmes forestier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extBox 3"/>
          <p:cNvSpPr/>
          <p:nvPr/>
        </p:nvSpPr>
        <p:spPr>
          <a:xfrm>
            <a:off x="6324480" y="4419720"/>
            <a:ext cx="2438640" cy="119124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Objectifs du Millénaire pour le développ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ight Arrow 6"/>
          <p:cNvSpPr/>
          <p:nvPr/>
        </p:nvSpPr>
        <p:spPr>
          <a:xfrm>
            <a:off x="5410080" y="4648320"/>
            <a:ext cx="762120" cy="761760"/>
          </a:xfrm>
          <a:prstGeom prst="rightArrow">
            <a:avLst>
              <a:gd name="adj1" fmla="val 50000"/>
              <a:gd name="adj2" fmla="val 50024"/>
            </a:avLst>
          </a:prstGeom>
          <a:solidFill>
            <a:srgbClr val="9537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3" descr=""/>
          <p:cNvPicPr/>
          <p:nvPr/>
        </p:nvPicPr>
        <p:blipFill>
          <a:blip r:embed="rId1"/>
          <a:stretch/>
        </p:blipFill>
        <p:spPr>
          <a:xfrm>
            <a:off x="6324480" y="1523880"/>
            <a:ext cx="2316240" cy="25146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3" descr=""/>
          <p:cNvPicPr/>
          <p:nvPr/>
        </p:nvPicPr>
        <p:blipFill>
          <a:blip r:embed="rId2"/>
          <a:srcRect l="0" t="17650" r="0" b="0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8T15:43:57Z</dcterms:created>
  <dc:creator>wb350798</dc:creator>
  <dc:description/>
  <dc:language>en-US</dc:language>
  <cp:lastModifiedBy>wb350798</cp:lastModifiedBy>
  <dcterms:modified xsi:type="dcterms:W3CDTF">2011-08-12T15:28:46Z</dcterms:modified>
  <cp:revision>122</cp:revision>
  <dc:subject/>
  <dc:title>Focal Area and Cross Cutting Strategies – Land Degradation</dc:title>
</cp:coreProperties>
</file>