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0C55-96ED-4790-8F23-F34F167F3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C0F9-2F28-4694-8F39-F739E1A29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188A-2498-4CEE-9E65-79A9EF0F4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D639-2DF8-4A6F-BFB3-980D4C937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7C4B-6ED7-43E4-BBA0-8C3BE3B3D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976F-B1A1-474E-8798-4345F8506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1A4B-C43C-4B4D-9E12-CE99ECFED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53BB-0EA1-4C65-9A58-35D3DA503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7A1C-4CDD-42D2-9014-B522D6871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2E8E-AA0A-4787-BC9B-73CE09633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0EE-F9A0-4A8A-B31F-B6FBE08E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0D1-5230-4989-B708-8D6A0AD6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8B7-296B-4CD3-91A6-5CB892FC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E67-EB28-472D-90DE-38BB1C15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8F3-1BD1-46AC-9EE0-C64A7625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485F-7E35-473B-8FA2-8487D70B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A86-68C8-4044-BE41-18A88133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4E9-658F-4C14-AAEA-64AA25A2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52E-E389-4922-95B3-C5253A9C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41A-5F77-424C-9DAD-AE49038F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DF4-4FA4-4D2A-B0AF-654D102A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89DB-AA7D-4C92-B921-7979FAC0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E372-EF2C-4E24-8A00-66A493482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Стратегии по</a:t>
            </a:r>
            <a:br>
              <a:rPr sz="3600"/>
            </a:b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тематическим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и сквозным областям деятельности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–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Деградация земел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066680" y="44197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Семинар для членов ГЭ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1700" spc="-1" strike="noStrike">
                <a:solidFill>
                  <a:srgbClr val="00642d"/>
                </a:solidFill>
                <a:latin typeface="Calibri"/>
              </a:rPr>
              <a:t>11 – 13</a:t>
            </a: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 октября </a:t>
            </a:r>
            <a:r>
              <a:rPr b="1" lang="en-US" sz="1700" spc="-1" strike="noStrike">
                <a:solidFill>
                  <a:srgbClr val="00642d"/>
                </a:solidFill>
                <a:latin typeface="Calibri"/>
              </a:rPr>
              <a:t>2011</a:t>
            </a: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Стратегия по тематической области 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деградация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земель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4900"/>
            </a:b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тратегия предотвращения опустынивания и обезлесивания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82844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сширение портфеля проектов в  – 144 отвечающих соответствующим требованиям стран за счет включения проблематики ДЗ в СТ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мягчение последствий действия трех основных причин деградации экосисте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характера землеполь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рациональное использование и потребление природных ресур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клима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здание благоприятных услов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казание поддержки в реализации Конвенции ООН по борьб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опустыниванием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ализация стратегии на десятилетний период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внимания к производственным системам – пастбищным угодьям и лесным ландшафт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оритеты ГЭФ-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тематической област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градаци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ДЕРЖКА И РАСШИРЕНИЕ ПРИТОКА УСЛУГ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СЕЛЬСКОХОЗЯЙСТВЕННЫХ ЭКОСИСТЕМ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В ЦЕЛЯХ ПОДДЕРЖАНИЯ ИСТОЧНИКО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ДОХОДО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СТНОГО НАС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ращивание потенциал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в целях совершенствования процесса принятия решений по вопросам рационального использования продуктивных ландшафт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сельскохозяйственного производства силами общин, в том числе путем вовлечения местного населения в процесс принятия решений и обеспечения гендерного равенств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ование технических и институциональных возможностей для мониторинга и сокращения выбросов парниковых газов в связи с сельскохозяйственным производство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нейтрализации последствий изменения клима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недрение инновационного механизма финансирования, основанного на оценке стоимости экологических услуг (ПЭУ и другие рыночные механизмы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управления пастбищными угодьями и устойчивое пастбищное животноводств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33520" y="1295280"/>
            <a:ext cx="800100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ОБЕСПЕЧЕНИЕ УСТОЙЧИВОГО ПРИТО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ЛУГ ЛЕСНЫХ ЭКОСИСТЕМ В ЗАСУШЛИВЫХ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ПОЛУЗАСУШЛИВЫХ И СЛАБООРОШАЕМЫ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ЙОНАХ, 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М ЧИСЛЕ В ЦЕЛЯ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ПОДДЕРЖАНИЯ ИСТОЧНИКОВ ДОХОДО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ЛЕСОЗАВИСИМОГО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аращивание потенциал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литика в отношении лесных ресурсов и связанная с ней нормативно-правовая основ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стойчивое использова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лесов и деревьев вн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лесных массивов для получения древесины и недревесно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дукции лес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осстановление лесных массивов и использование местных видов, в том числ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агролесоводств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Совершенствова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 управления воздействие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зменения климата на лесные земли, практик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лесовозобновления и выбор видов для этих ц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еханизмы совершенствования и более широкого внедрения передовой практики при помощи частного сектора, общинных организаций, служб распространения знаний и средств массовой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5238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СНИЖЕНИЕ НАГРУЗКИ НА ПРИРОДНЫ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РЕСУРСЫ, ВЫЗЫВАЕМОЙ КОНКУРИРУЮЩИМ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ВИДАМИ ЗЕМЛЕПОЛЬЗОВАНИЯ В МАСШТАБА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ЛАНДШАФТА В ЦЕЛ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ращивание потенциал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в целях совершенствования процесса принятия решений по вопросам рационального использования продуктивных ландшафт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работка инновационных механизмов финансирования, таких как плата за экосистемные услуг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сельскохозяйственного производства в непосредственной близости от охраняемых районо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мплексное управление водными и земельными ресурсами водосборных бассейнов, в том числе в трансграничных зонах, где устойчивое управление земельными ресурсами может повысить эффективность гидрологических функций и служб, способствующих повышени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</a:rPr>
              <a:t>продуктивности агроэкосисте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растениеводст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 животноводст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НАРАЩИВАНИЕ ПОТЕНЦИАЛА ПРИ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МЕХАНИЗМОВ АДАПТИВНОГО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В СФЕРЕ УЗ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ониторинг результатов в рамках программ, реализуемых в соответствии с Конвенцией ООН по борьбе с опустынивание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огласова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национальных докладов с пересмотренными программами действий КООНБО в свете её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10-летней стратег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недрение синергии и примеров оптимальной практик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ационального использования природных ресурсов сред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региональных центров/сетей передового опы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руководящих указаний и инструменто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ля оценки стабильности экосистем, их гибкост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 способности обеспечивать регулирующие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обальные экологические бла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20574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деятельности, направленной на создание глобальных благ, связанных с агроэкосистемами и лесными экосистем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кращение выбросов парниковых газов в процессе сельскохозяйственного производства, в результате обезлесивания и деградации лесных ресурсов сельском хозяйстве, а также связывание углер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нижение уязвимости агроэкосистем и лесных экосистем от изменения климата и других последствий деятельности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3526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циально-экономические бла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14800" y="1676520"/>
            <a:ext cx="45720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c3d69b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еспечени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средств к существованию для населения, зависящего от использования и управления природными ресурсами (земля, вода и биоразнообразие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ижение уязвимости к последствиям изменения климата населения, зависящего от использования и управления природными ресурсами, в частности, от сельского хозяйства и экосистем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5257800" y="4876920"/>
            <a:ext cx="2362320" cy="7038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f2f2f2"/>
                </a:solidFill>
                <a:latin typeface="Calibri"/>
              </a:rPr>
              <a:t>Цели Развития Тысячеле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77" name="Right Arrow 6"/>
          <p:cNvGrpSpPr/>
          <p:nvPr/>
        </p:nvGrpSpPr>
        <p:grpSpPr>
          <a:xfrm>
            <a:off x="5962680" y="4078440"/>
            <a:ext cx="876240" cy="718920"/>
            <a:chOff x="5962680" y="4078440"/>
            <a:chExt cx="876240" cy="718920"/>
          </a:xfrm>
        </p:grpSpPr>
        <p:pic>
          <p:nvPicPr>
            <p:cNvPr id="78" name="Right Arrow 6" descr=""/>
            <p:cNvPicPr/>
            <p:nvPr/>
          </p:nvPicPr>
          <p:blipFill>
            <a:blip r:embed="rId2"/>
            <a:stretch/>
          </p:blipFill>
          <p:spPr>
            <a:xfrm>
              <a:off x="5962680" y="4078440"/>
              <a:ext cx="8762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rot="5400000">
              <a:off x="6172200" y="415296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2460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6:04:58Z</dcterms:created>
  <dc:creator/>
  <dc:description/>
  <dc:language>en-US</dc:language>
  <cp:lastModifiedBy/>
  <dcterms:modified xsi:type="dcterms:W3CDTF">2011-11-01T20:57:18Z</dcterms:modified>
  <cp:revision>1</cp:revision>
  <dc:subject/>
  <dc:title/>
</cp:coreProperties>
</file>