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FFB1-CFCD-420C-B68F-ACA901CA9B4F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6D0B-5439-4F28-8E16-B6FBC0B51230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9877-C7E0-4A53-9620-3EFA636D8689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27C9-46B7-494C-82A7-6BE1CEA0BA72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</a:t>
            </a:r>
            <a:r>
              <a:rPr b="0" lang="arn-CL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A057-B1EB-4D25-9536-2A204F8BE2A7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9CD5-A8E4-47A2-BDAF-5DAB75B1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015-3F67-4E20-BC92-8CECB806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544-413C-46B3-ADC9-00FC24DE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FB6-D54E-4A7A-9161-5FEF8923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F5EC-FB2C-4B88-B74F-D5162697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E61F-6EBF-4EEA-9BEF-C555D61D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F2C7-F9BE-4A53-B122-8A830FB3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E580-0B93-4FA5-B3E3-C158822B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4F02-CEB1-457D-956C-E71583A2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ECF6-C5B8-40C3-9B42-CA0DF58D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DF22-FD6D-488B-A3DA-F6811453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6F5-F644-425B-ABE7-69FE729B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026B-7932-403A-8371-A675900D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A4CC-15CE-4F4D-8D9E-C1A80020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7B94-2A0F-4AD3-8CEF-35DF4809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F548-1D0E-4C1F-8BA8-77652723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1494-C698-4B1C-8C2E-941FA5A5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88546-9753-4944-AAC5-9E53FE53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6B5A0-051D-46DA-8B2E-8EC2777F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E970C-315F-4F13-ACEE-BBBFC2CD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12C8-4DB9-4CCA-B7D0-3DD34D1C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5EECC-BC5E-42B6-A35C-7556C872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22A-F431-4591-9E7E-E6D179AF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C87D7-B225-4B9E-9BE4-63CE9A2D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E412E-3A1B-43E6-93EE-C2A067B6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90E91-541C-4ED2-9C53-B5292DA9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82A7-775B-441E-A0C8-B68751FD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BBB8-B3DC-49B6-86DB-9D9AD5A0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0CCE2-7BC8-4DE1-9C15-693F5E88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D778-7E98-4B5F-BE00-2A3F63BA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065D5-61A4-4D87-9B67-4E684147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7FB0E-9A06-405E-8A60-80F56107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92282-7488-43D4-BFFD-CA1B2C2F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7B03-8FBC-456B-B155-89D32CC1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18C26-A693-4F22-A229-A5892956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9B3CD-5620-4B95-97EC-4CDA76F2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66628-702D-4965-8A09-279BEF75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12044-CA53-4611-BA44-2D227F6D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FC6B5-165B-4736-98E2-8D1E2CB6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FB8AB-DEE5-48BA-8F5E-8D2C2B59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673C5-FB84-439B-8845-46B9C14A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94597-7B39-44D0-A517-3F19FECA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62DFD-F505-4A41-9F55-AF872DD0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28886-EDE1-4FE2-8BC6-7016A5E6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8D1-650B-4191-8705-E00E1E36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7A0A3-5142-4FAF-BE6D-B33F7A8C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48D54-8A7F-4BF8-8AB6-C0A3CC44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173FB-250E-4C51-989C-72B28ED6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86F5F-1F9A-43EC-A94E-6CB11D4C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46683-8681-4E62-87D8-CA3A2EDF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78140-377C-43D0-91F0-9D0DDC36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11858-773A-4E87-BF72-CF6A34EB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2CCC2-50DB-420D-800F-9D1286F2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160F1-B7B1-447F-B0A4-0C146A36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E0EA7-789A-4129-A86D-50376E08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6BA-FE69-45CD-A9FC-AEA692D1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95C45-084C-404C-924F-1B327046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86F-DBFA-4EA4-9B09-4E363A8C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0E6-C0DB-4CCA-AC2B-BDDE0B13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14C-CD84-4631-8C18-E727AD96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E704-B2A6-4B48-BD2C-EC287638C14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FCCE-8971-462D-ACF6-4F17A83155A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D5F9-285F-445E-92A7-63DEC3A5E7E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CBEE-F47E-453F-AF05-F44D6BC6828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AF48-6A02-4EF5-B5DA-1351EE249AB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مجال التركيز والإستراتيجيات الشاملة ــ المياه الدولية</a:t>
            </a: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2952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-30168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تحفيز التعاون بين مختلف الدول لإحداث توازن بين الاستخدامات المتضاربة للمياه في أحواض المياه السطحية والجوفية العابرة للحدود مع أخذ التغيرات والتقلبات المناخية في الحسبان في الوقت نفس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 algn="r" rtl="1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إحداث المزيد من التطوير في السياسات والتدابير الإقليمية المحددة في برامج العمل الإستراتيجي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ع العمل على الجدية في تنفيذه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648320" y="1494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55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:  تحفيز التعاون بين مختلف الدول لإعادة بناء مصائد الأسماك البحرية والحد من تلوث الشواطئ والنظم الإيكولوجية البحرية الكبيرة مع أخذ التغيرات والتقلبات المناخية في الحسبا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فيذ برامج العمل الإستراتيجي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ع إدخال إصلاحات وعمل استثمارات تعمل على تحقيق النتائج المرجوة ــ إصلاحات قانونية ومؤسسية وعلى مستوى السياسات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دخال إصلاحات وإبرام شراكات إستراتيجية بين الهيئات والوكالات المعن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:  تدعيم بناء القدرات الأساسية، وحفز التعلم، ومساندة الاحتياجات البحثية المستهدفة من أجل الإدارة المشتركة المستندة إلى النظم الإيكولوجية للأنظمة المائية العابرة للحدو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 algn="r" rtl="1"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ساهم اللجان الوطنية المشتركة بين الوزارات في إعداد وتطوير برامج العمل الإستراتيجي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لإنشاء أو تعزيز المؤسسات من أجل الإدارة المشتركة بين مختلف الدول واتخاذ ما يلزم من إجراءات تبعاً ل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Object 3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تشجيع الإدارة الفعالة للمناطق البحرية خارج نطاق الولاية الوطنية (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ABNJ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طوير واختبار التكنولوجيا وترتيبات الإدارة من أجل بيئات المحيطات وأعماق البحار والجبال البحرية التي لا تصل سطح الماء أو المساعدة في تقليل ما يتم صيده من أسماك </a:t>
            </a:r>
            <a:r>
              <a:rPr b="1" lang="ar-LB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ونا وغيرها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نحو غير مناسب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عملية الخامسة لتجديد موارد صندوق البيئة العالمية فيما يتعلق بالمياه الدول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-380880" y="1447920"/>
            <a:ext cx="4930560" cy="4114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نهج صندوق البيئة العالمية المستند إلى النظم الإيكولوجية إزاء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إدارة متعددة النطاق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114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نظومة إيكولوجية بحرية كبي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منظومة إيكولوجية بحرية كبيرة في بحر جنوب الصين ــ برنامج الأمم المتحدة للبيئة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لديات الساحل/النطاق الإقليمي للإدارة المتكاملة للسواحل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دان نانغ، فييتنام، برنامج الأمم المتحدة الإنمائي ــ الشراكات المعنية بالإدارة البيئية لبحار شرق آسيا ــ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UNDP PEMSEA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طاق ربط الأحواض النهر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حوض/دلتا نهر الميكونغ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PA Mekong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 ــ البنك الدولي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واقع إرشادية                                                                                                                        في مجتمعات مح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hu Quoc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Fish Refugia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Arial"/>
              </a:rPr>
              <a:t> فيتنام ــ برنامج الأمم المتحدة للبيئة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مؤشرات الرصد والتقييم لمتابعة نتائج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مشروعات المياه العابرة للحدو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8284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ات العمليات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ـ اعتماد العمليات والإصلاحات المتفق عليها على المستوى الإقليمي والوطني لقطاع محد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ات الحد من الضغوط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ـ تنفيذ التدابير الفعلية التي تعمل على الحد من الضغوط والتوت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ات الموقف البيئي وموقف موارد المياه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ـ التحسين الفعلي في موارد المياه/بيئة المياه/الظروف الاقتصادية والاجتما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فز التعلم، وتبادل الخبرات ــ </a:t>
            </a:r>
            <a:r>
              <a:rPr b="0" lang="ar-EG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ة المعارف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iwlearn.net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أية أسئلة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Lisa</cp:lastModifiedBy>
  <dcterms:modified xsi:type="dcterms:W3CDTF">2012-04-22T23:46:23Z</dcterms:modified>
  <cp:revision>35</cp:revision>
  <dc:subject/>
  <dc:title>Focal Area and Cross Cutting Strategies – International Waters</dc:title>
</cp:coreProperties>
</file>