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1E6E-1D75-49DA-A70F-F4E9108669EF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0604-516C-446F-B19A-70FF004EC3EB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7D8D-FD80-4F35-8E5E-7BAE0B556392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CE14-34E0-4039-B913-113DC654098C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</a:t>
            </a: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DE27-01D7-42E5-8674-66506F2796F6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705-CF00-41F3-8549-337C3BB7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D86-3365-404B-90E7-481EE6E3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6EF-255C-441D-851B-7205F839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A7F-4B8E-43D7-94EE-273904DA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2BD4-EC29-4DBA-9F3B-B043C321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4AB3-9D15-460D-AD8B-2407E095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378D-3573-4406-A281-9F8DB67E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00CB-3AD0-4908-A2FB-54F04D03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0487-14EA-4D84-97B2-FEDD11DE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53AE-179D-4C3F-B0F7-3BDB0BA7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42C9-4A8C-4B26-894C-B231B1FB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945-A2B6-4840-99FA-7E972CED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7894-E5DF-438A-97D7-4E022C9B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D331-6CE4-4FC2-8ED0-822AE5B4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B101-01B5-4161-B831-5BE0DB3F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37DF-A25D-4294-82C1-2EE141EF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9BA0-0C28-4428-A0FB-A45F65CF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D0D3B-27A5-42FB-9E9E-9CA99334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D39DA-155D-4E1E-AA52-6D77DEB3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FE5CC-D5B2-4DEE-B498-6368A4EF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C931C-9D66-4D80-865D-F65DB7A4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E4ED0-3F46-42E0-93CE-2D5F400D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4DA-E929-40FD-97B1-D43C64A0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A67F4-0025-49C0-A370-AFE92DCD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C7DDF-C23D-4B65-9B0F-CC2A3B70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EAF05-8A1E-47AE-ACD9-B6BB5AF0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E8514-CC29-41B6-8C62-046C60C1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3A32B-4EDE-46D5-9DF2-00D23676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EC70-9DB3-487D-8C1E-9F777698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D62B-3F5A-416A-ABD7-2EFA358A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E057E-F0B7-48AB-B091-935C3409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C80FA-F3B2-45B1-920F-1D89C5C2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6C555-DCF0-4692-B38B-09DEB7A2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119-1668-40DF-A695-94C5C277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ADAA0-01FB-407E-BA5B-71208A1A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99BBB-EFCA-4F2B-AA67-9B3B18DA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74771-BDF1-4DA0-8950-371677CE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7A390-34E7-4119-B70C-D3A5D1D4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1D9E1-44A9-4F7F-A200-9E324B29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B33B3-1357-4F35-A390-D43BBFFF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F1F99-45F7-4F43-9372-C49CEA7B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59439-EF9C-4DCE-B6B3-024DBF8D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4D1EC-8E55-4D04-BBC5-AF84E57B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EE24D-5FFC-46A9-8AE8-54CF3BD1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57A-0663-450B-AB0E-D08B9E32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1EC47-0A08-430D-917E-714FA6B9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35AE1-2AE9-48E7-A96C-DD5990E7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1F687-44BF-4DB6-8608-DF6C3263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93BC0-4DDE-40CE-A3C8-AAF5CE50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DA8EF-723A-458B-BCD7-125FFEBC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40466-0341-494C-9CD2-1DBBF9C5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49477-4ABF-4C01-928E-747969F9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83887-6017-4660-9B6C-5DFAAFE4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BF406-1169-4715-B78F-5CEA7070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7E9CE-181F-4FF5-8B5F-082CA240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EEA-C789-4F1D-B8B8-348B4795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37DC9-BDEA-4AEF-B1DC-4141E70B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7BB-8048-4CC4-AE34-CA331996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8E3-CDAC-436E-B903-6CB68819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9A6-5C11-4066-8DBC-A1539AE9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94F0-3DE8-4B90-A8B1-D45D8F8F5E3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5538-043E-4C18-B555-DBD2889B363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DD4D-F5B4-444A-961C-24A0D6D67DB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D756-ED27-4CE2-B20F-AEEAED48248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E4F1-51FF-4715-A1C4-A488C76D4BC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مجال التركيز والإستراتيجيات الشاملة ــ المياه الدولية</a:t>
            </a: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2952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-30168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حفيز التعاون بين مختلف الدول لإحداث توازن بين الاستخدامات المتضاربة للمياه في أحواض المياه السطحية والجوفية العابرة للحدود مع أخذ التغيرات والتقلبات المناخية في الحسبان في الوقت نفس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 algn="r" rtl="1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إحداث المزيد من التطوير في السياسات والتدابير الإقليمية المحددة في برامج العمل الإستراتيجي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ع العمل على الجدية في تنفيذه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648320" y="1494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55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:  تحفيز التعاون بين مختلف الدول لإعادة بناء مصائد الأسماك البحرية والحد من تلوث الشواطئ والنظم الإيكولوجية البحرية الكبيرة مع أخذ التغيرات والتقلبات المناخية في الحسبا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فيذ برامج العمل الإستراتيجي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ع إدخال إصلاحات وعمل استثمارات تعمل على تحقيق النتائج المرجوة ــ إصلاحات قانونية ومؤسسية وعلى مستوى السياسات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دخال إصلاحات وإبرام شراكات إستراتيجية بين الهيئات والوكالات المعن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:  تدعيم بناء القدرات الأساسية، وحفز التعلم، ومساندة الاحتياجات البحثية المستهدفة من أجل الإدارة المشتركة المستندة إلى النظم الإيكولوجية للأنظمة المائية العابرة للحدو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 algn="r" rtl="1"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ساهم اللجان الوطنية المشتركة بين الوزارات في إعداد وتطوير برامج العمل الإستراتيجي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لإنشاء أو تعزيز المؤسسات من أجل الإدارة المشتركة بين مختلف الدول واتخاذ ما يلزم من إجراءات تبعاً ل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Object 3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تشجيع الإدارة الفعالة للمناطق البحرية خارج نطاق الولاية الوطنية (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ABNJ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طوير واختبار التكنولوجيا وترتيبات الإدارة من أجل بيئات المحيطات وأعماق البحار والجبال البحرية التي لا تصل سطح الماء أو المساعدة في تقليل ما يتم صيده من أسماك </a:t>
            </a:r>
            <a:r>
              <a:rPr b="1" lang="ar-LB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ونا وغيرها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نحو غير مناسب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-380880" y="1447920"/>
            <a:ext cx="4930560" cy="4114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نهج صندوق البيئة العالمية المستند إلى النظم الإيكولوجية إزاء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إدارة متعددة النطاق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114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نظومة إيكولوجية بحرية كبي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منظومة إيكولوجية بحرية كبيرة في بحر جنوب الصين ــ برنامج الأمم المتحدة للبيئة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لديات الساحل/النطاق الإقليمي للإدارة المتكاملة للسواحل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دان نانغ، فييتنام، برنامج الأمم المتحدة الإنمائي ــ الشراكات المعنية بالإدارة البيئية لبحار شرق آسيا ــ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UNDP PEMSEA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طاق ربط الأحواض النهر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حوض/دلتا نهر الميكونغ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PA Mekong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 ــ البنك الدولي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واقع إرشادية                                                                                                                        في مجتمعات مح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hu Quoc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Fish Refugia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 فيتنام ــ برنامج الأمم المتحدة للبيئة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مؤشرات الرصد والتقييم لمتابعة نتائج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مشروعات المياه العابرة للحدو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8284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ات العمليات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ـ اعتماد العمليات والإصلاحات المتفق عليها على المستوى الإقليمي والوطني لقطاع محد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ات الحد من الضغوط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ـ تنفيذ التدابير الفعلية التي تعمل على الحد من الضغوط والتوت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ات الموقف البيئي وموقف موارد المياه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ـ التحسين الفعلي في موارد المياه/بيئة المياه/الظروف الاقتصادية والاجتما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فز التعلم، وتبادل الخبرات ــ </a:t>
            </a:r>
            <a:r>
              <a:rPr b="0" lang="ar-EG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ة المعارف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iwlearn.net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أية أسئلة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Lisa</cp:lastModifiedBy>
  <dcterms:modified xsi:type="dcterms:W3CDTF">2012-04-22T23:46:23Z</dcterms:modified>
  <cp:revision>35</cp:revision>
  <dc:subject/>
  <dc:title>Focal Area and Cross Cutting Strategies – International Waters</dc:title>
</cp:coreProperties>
</file>